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3.wmf" ContentType="image/x-wmf"/>
  <Override PartName="/ppt/media/image30.jpeg" ContentType="image/jpeg"/>
  <Override PartName="/ppt/media/image3.jpeg" ContentType="image/jpeg"/>
  <Override PartName="/ppt/media/image31.jpeg" ContentType="image/jpeg"/>
  <Override PartName="/ppt/media/image34.wmf" ContentType="image/x-wmf"/>
  <Override PartName="/ppt/media/image5.jpeg" ContentType="image/jpeg"/>
  <Override PartName="/ppt/media/image20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36.jpeg" ContentType="image/jpeg"/>
  <Override PartName="/ppt/media/image2.jpeg" ContentType="image/jpeg"/>
  <Override PartName="/ppt/media/image14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3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858-A008-4791-99FC-4E60A098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BC5-BC6C-40D5-9899-3C3CEA10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438-5816-4F8A-80D1-AE53EDEA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24B-FFDA-4E29-8250-9283A733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ACF3-1C6D-4D57-BF41-40426553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408-B042-4EF7-9C49-7AADF94F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D046-F233-4BE1-99CF-22F297D4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6475-5C7B-4106-B291-5A551AA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F5D5-BF99-4AEC-B34D-46E6050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16E7-B20B-4232-9B2E-6DED525D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AAD-0BB3-4C2D-B2F6-9EE252D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3FF-8B05-44A4-916C-274E1917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F2B1-8E2B-4966-88F0-5DEBB2C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01BF-5B4C-459B-8387-46AB011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7B8A-64DB-46E9-96C4-44A4CA2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20C1-B7CE-4CA1-B34F-8FD68937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1EC7-C4EF-47E4-9506-B161B4C1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78D-7C65-4D6C-84A5-49A71000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481-74BE-4377-A510-44C0AB28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F50-12E6-437B-8B74-5DA437D8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04D-108B-4609-A55D-4EB7F796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232-2860-4F7A-8582-F57C7EE4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F80-C991-4A36-B3DA-7A8CCF33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14E-02BB-4652-8115-82954591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CBE1-64BE-4BF5-9896-2BFCBE0E94C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401E-79A8-4517-B4F5-825F6FF5A9C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mailto:ziradm@tomsk.gov.ru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48000" y="189000"/>
            <a:ext cx="66960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ДЛЯ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</a:t>
            </a: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 основе Решения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умы Зырянского район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 2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12.20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№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18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 местном бюджет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ырянского района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  20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7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од и на плановый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8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20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9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одов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226836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8000" y="6381720"/>
            <a:ext cx="8928000" cy="73080"/>
          </a:xfrm>
          <a:custGeom>
            <a:avLst/>
            <a:gdLst>
              <a:gd name="textAreaLeft" fmla="*/ 0 w 8928000"/>
              <a:gd name="textAreaRight" fmla="*/ 8928360 w 8928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61" y="0"/>
                </a:lnTo>
                <a:lnTo>
                  <a:pt x="21600" y="10800"/>
                </a:lnTo>
                <a:lnTo>
                  <a:pt x="215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5516640"/>
            <a:ext cx="1655640" cy="6112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о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4869000"/>
            <a:ext cx="1584360" cy="6476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н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997360"/>
            <a:ext cx="1403280" cy="1223640"/>
          </a:xfrm>
          <a:prstGeom prst="bevel">
            <a:avLst>
              <a:gd name="adj" fmla="val 7171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ек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997360"/>
            <a:ext cx="1656000" cy="1223640"/>
          </a:xfrm>
          <a:prstGeom prst="bevel">
            <a:avLst>
              <a:gd name="adj" fmla="val 7171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смотр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ек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59280" y="2997360"/>
            <a:ext cx="1584000" cy="1223640"/>
          </a:xfrm>
          <a:prstGeom prst="bevel">
            <a:avLst>
              <a:gd name="adj" fmla="val 7171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тверждени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3280" y="2997360"/>
            <a:ext cx="1368720" cy="1223640"/>
          </a:xfrm>
          <a:prstGeom prst="bevel">
            <a:avLst>
              <a:gd name="adj" fmla="val 7171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нени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2997360"/>
            <a:ext cx="1547640" cy="1223640"/>
          </a:xfrm>
          <a:prstGeom prst="bevel">
            <a:avLst>
              <a:gd name="adj" fmla="val 7171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тавлени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а об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нени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9640" y="2997360"/>
            <a:ext cx="1584360" cy="1223640"/>
          </a:xfrm>
          <a:prstGeom prst="bevel">
            <a:avLst>
              <a:gd name="adj" fmla="val 7171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тверждени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а об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нени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-215640" y="6058080"/>
            <a:ext cx="719280" cy="71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373720"/>
            <a:ext cx="287280" cy="360360"/>
          </a:xfrm>
          <a:prstGeom prst="triangle">
            <a:avLst>
              <a:gd name="adj" fmla="val 4810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8640000" y="6058800"/>
            <a:ext cx="720720" cy="71280"/>
          </a:xfrm>
          <a:custGeom>
            <a:avLst/>
            <a:gdLst>
              <a:gd name="textAreaLeft" fmla="*/ 0 w 720720"/>
              <a:gd name="textAreaRight" fmla="*/ 721080 w 720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56720" y="5373720"/>
            <a:ext cx="287280" cy="360360"/>
          </a:xfrm>
          <a:prstGeom prst="triangle">
            <a:avLst>
              <a:gd name="adj" fmla="val 4810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76360" y="1268280"/>
            <a:ext cx="6480360" cy="574920"/>
          </a:xfrm>
          <a:custGeom>
            <a:avLst/>
            <a:gdLst>
              <a:gd name="textAreaLeft" fmla="*/ 37080 w 6480360"/>
              <a:gd name="textAreaRight" fmla="*/ 6443280 w 6480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31" h="21600">
                <a:moveTo>
                  <a:pt x="0" y="0"/>
                </a:moveTo>
                <a:lnTo>
                  <a:pt x="243331" y="0"/>
                </a:lnTo>
                <a:lnTo>
                  <a:pt x="243331" y="21600"/>
                </a:lnTo>
                <a:lnTo>
                  <a:pt x="0" y="21600"/>
                </a:lnTo>
                <a:close/>
              </a:path>
              <a:path fill="lightenLess" w="243331" h="21600">
                <a:moveTo>
                  <a:pt x="0" y="0"/>
                </a:moveTo>
                <a:lnTo>
                  <a:pt x="243331" y="0"/>
                </a:lnTo>
                <a:lnTo>
                  <a:pt x="241931" y="1400"/>
                </a:lnTo>
                <a:lnTo>
                  <a:pt x="1400" y="1400"/>
                </a:lnTo>
                <a:close/>
              </a:path>
              <a:path fill="darken" w="243331" h="21600">
                <a:moveTo>
                  <a:pt x="243331" y="0"/>
                </a:moveTo>
                <a:lnTo>
                  <a:pt x="243331" y="21600"/>
                </a:lnTo>
                <a:lnTo>
                  <a:pt x="241931" y="20200"/>
                </a:lnTo>
                <a:lnTo>
                  <a:pt x="241931" y="1400"/>
                </a:lnTo>
                <a:close/>
              </a:path>
              <a:path fill="darkenLess" w="243331" h="21600">
                <a:moveTo>
                  <a:pt x="243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31" y="20200"/>
                </a:lnTo>
                <a:close/>
              </a:path>
              <a:path fill="lighten" w="243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ПЫ БЮДЖЕТНОГО ПРОЦЕСС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1052640"/>
          </a:xfrm>
          <a:custGeom>
            <a:avLst/>
            <a:gdLst>
              <a:gd name="textAreaLeft" fmla="*/ 68040 w 9144000"/>
              <a:gd name="textAreaRight" fmla="*/ 9075960 w 9144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187577" h="21600">
                <a:moveTo>
                  <a:pt x="0" y="0"/>
                </a:moveTo>
                <a:lnTo>
                  <a:pt x="187577" y="0"/>
                </a:lnTo>
                <a:lnTo>
                  <a:pt x="187577" y="21600"/>
                </a:lnTo>
                <a:lnTo>
                  <a:pt x="0" y="21600"/>
                </a:lnTo>
                <a:close/>
              </a:path>
              <a:path fill="lightenLess" w="187577" h="21600">
                <a:moveTo>
                  <a:pt x="0" y="0"/>
                </a:moveTo>
                <a:lnTo>
                  <a:pt x="187577" y="0"/>
                </a:lnTo>
                <a:lnTo>
                  <a:pt x="186177" y="1400"/>
                </a:lnTo>
                <a:lnTo>
                  <a:pt x="1400" y="1400"/>
                </a:lnTo>
                <a:close/>
              </a:path>
              <a:path fill="darken" w="187577" h="21600">
                <a:moveTo>
                  <a:pt x="187577" y="0"/>
                </a:moveTo>
                <a:lnTo>
                  <a:pt x="187577" y="21600"/>
                </a:lnTo>
                <a:lnTo>
                  <a:pt x="186177" y="20200"/>
                </a:lnTo>
                <a:lnTo>
                  <a:pt x="186177" y="1400"/>
                </a:lnTo>
                <a:close/>
              </a:path>
              <a:path fill="darkenLess" w="187577" h="21600">
                <a:moveTo>
                  <a:pt x="18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177" y="20200"/>
                </a:lnTo>
                <a:close/>
              </a:path>
              <a:path fill="lighten" w="18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ЫЙ ПРОЦЕС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тавляет собой деятельность по составлению проекта бюджета, его рассмотрению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тверждению, исполнению, составлению отчета об исполнении и его утверждению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4284000" y="2061360"/>
            <a:ext cx="504720" cy="71280"/>
          </a:xfrm>
          <a:custGeom>
            <a:avLst/>
            <a:gdLst>
              <a:gd name="textAreaLeft" fmla="*/ 0 w 504720"/>
              <a:gd name="textAreaRight" fmla="*/ 505080 w 504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2276640"/>
            <a:ext cx="7704000" cy="7272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61" y="0"/>
                </a:lnTo>
                <a:lnTo>
                  <a:pt x="21600" y="10800"/>
                </a:lnTo>
                <a:lnTo>
                  <a:pt x="215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359640" y="2601360"/>
            <a:ext cx="720720" cy="71280"/>
          </a:xfrm>
          <a:custGeom>
            <a:avLst/>
            <a:gdLst>
              <a:gd name="textAreaLeft" fmla="*/ 0 w 720720"/>
              <a:gd name="textAreaRight" fmla="*/ 721080 w 720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1908000" y="2637000"/>
            <a:ext cx="648000" cy="72720"/>
          </a:xfrm>
          <a:custGeom>
            <a:avLst/>
            <a:gdLst>
              <a:gd name="textAreaLeft" fmla="*/ 0 w 648000"/>
              <a:gd name="textAreaRight" fmla="*/ 648000 w 64800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491640" y="2637720"/>
            <a:ext cx="648000" cy="71280"/>
          </a:xfrm>
          <a:custGeom>
            <a:avLst/>
            <a:gdLst>
              <a:gd name="textAreaLeft" fmla="*/ 0 w 648000"/>
              <a:gd name="textAreaRight" fmla="*/ 648000 w 6480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932000" y="2636640"/>
            <a:ext cx="648000" cy="73080"/>
          </a:xfrm>
          <a:custGeom>
            <a:avLst/>
            <a:gdLst>
              <a:gd name="textAreaLeft" fmla="*/ 0 w 648000"/>
              <a:gd name="textAreaRight" fmla="*/ 648000 w 648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6444360" y="2637720"/>
            <a:ext cx="648000" cy="71280"/>
          </a:xfrm>
          <a:custGeom>
            <a:avLst/>
            <a:gdLst>
              <a:gd name="textAreaLeft" fmla="*/ 0 w 648000"/>
              <a:gd name="textAreaRight" fmla="*/ 648000 w 6480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7992360" y="2601360"/>
            <a:ext cx="720720" cy="71280"/>
          </a:xfrm>
          <a:custGeom>
            <a:avLst/>
            <a:gdLst>
              <a:gd name="textAreaLeft" fmla="*/ 0 w 720720"/>
              <a:gd name="textAreaRight" fmla="*/ 721080 w 720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4464000" y="4471560"/>
            <a:ext cx="431640" cy="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4653000"/>
            <a:ext cx="1441440" cy="712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61" y="0"/>
                </a:lnTo>
                <a:lnTo>
                  <a:pt x="21600" y="10800"/>
                </a:lnTo>
                <a:lnTo>
                  <a:pt x="215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831640" y="4472280"/>
            <a:ext cx="431640" cy="71280"/>
          </a:xfrm>
          <a:custGeom>
            <a:avLst/>
            <a:gdLst>
              <a:gd name="textAreaLeft" fmla="*/ 0 w 431640"/>
              <a:gd name="textAreaRight" fmla="*/ 432000 w 431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221000"/>
            <a:ext cx="216000" cy="216000"/>
          </a:xfrm>
          <a:prstGeom prst="triangle">
            <a:avLst>
              <a:gd name="adj" fmla="val 433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0360" y="4221000"/>
            <a:ext cx="216000" cy="216000"/>
          </a:xfrm>
          <a:prstGeom prst="triangle">
            <a:avLst>
              <a:gd name="adj" fmla="val 433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ГРАЖДАНИН И ЕГО УЧАСТИЕ В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ЮДЖЕТНОМ ПРОЦЕСС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1052640"/>
            <a:ext cx="6985080" cy="645840"/>
          </a:xfrm>
          <a:prstGeom prst="downArrowCallout">
            <a:avLst>
              <a:gd name="adj1" fmla="val 270412"/>
              <a:gd name="adj2" fmla="val 27038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ражданин является налогоплательщико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916360" y="1773360"/>
            <a:ext cx="3168360" cy="2374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916360" y="4221000"/>
            <a:ext cx="3168360" cy="360360"/>
          </a:xfrm>
          <a:prstGeom prst="downArrow">
            <a:avLst>
              <a:gd name="adj1" fmla="val 52824"/>
              <a:gd name="adj2" fmla="val 411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4724280"/>
            <a:ext cx="7344000" cy="720720"/>
          </a:xfrm>
          <a:prstGeom prst="bevel">
            <a:avLst>
              <a:gd name="adj" fmla="val 581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ражданин как получатель социальных гарантий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муниципальных услу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образование, здравоохранение и т.д.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632560"/>
            <a:ext cx="9144000" cy="1225440"/>
          </a:xfrm>
          <a:prstGeom prst="flowChartAlternateProcess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убличные слушания – форм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асти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уществлени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естного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моуправления. Публичны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ушания организуютс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проводятся с целью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явлени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нения населения по проекту бюджета на очередно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нансовы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ановы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ио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по исполнению бюджет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1557360"/>
            <a:ext cx="2735280" cy="2663640"/>
          </a:xfrm>
          <a:prstGeom prst="rightArrowCallout">
            <a:avLst>
              <a:gd name="adj1" fmla="val 24317"/>
              <a:gd name="adj2" fmla="val 25000"/>
              <a:gd name="adj3" fmla="val 13411"/>
              <a:gd name="adj4" fmla="val 75449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асти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ублич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лушания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екту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156360" y="1557360"/>
            <a:ext cx="2881440" cy="2663640"/>
          </a:xfrm>
          <a:prstGeom prst="rightArrowCallout">
            <a:avLst>
              <a:gd name="adj1" fmla="val 24317"/>
              <a:gd name="adj2" fmla="val 25000"/>
              <a:gd name="adj3" fmla="val 14128"/>
              <a:gd name="adj4" fmla="val 75449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асти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убличны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лушания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564000" y="3284640"/>
            <a:ext cx="194472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ЮЖ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1042920"/>
          </a:xfrm>
          <a:custGeom>
            <a:avLst/>
            <a:gdLst>
              <a:gd name="textAreaLeft" fmla="*/ 67320 w 9144000"/>
              <a:gd name="textAreaRight" fmla="*/ 9076680 w 9144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89324" h="21600">
                <a:moveTo>
                  <a:pt x="0" y="0"/>
                </a:moveTo>
                <a:lnTo>
                  <a:pt x="189324" y="0"/>
                </a:lnTo>
                <a:lnTo>
                  <a:pt x="189324" y="21600"/>
                </a:lnTo>
                <a:lnTo>
                  <a:pt x="0" y="21600"/>
                </a:lnTo>
                <a:close/>
              </a:path>
              <a:path fill="lightenLess" w="189324" h="21600">
                <a:moveTo>
                  <a:pt x="0" y="0"/>
                </a:moveTo>
                <a:lnTo>
                  <a:pt x="189324" y="0"/>
                </a:lnTo>
                <a:lnTo>
                  <a:pt x="187924" y="1400"/>
                </a:lnTo>
                <a:lnTo>
                  <a:pt x="1400" y="1400"/>
                </a:lnTo>
                <a:close/>
              </a:path>
              <a:path fill="darken" w="189324" h="21600">
                <a:moveTo>
                  <a:pt x="189324" y="0"/>
                </a:moveTo>
                <a:lnTo>
                  <a:pt x="189324" y="21600"/>
                </a:lnTo>
                <a:lnTo>
                  <a:pt x="187924" y="20200"/>
                </a:lnTo>
                <a:lnTo>
                  <a:pt x="187924" y="1400"/>
                </a:lnTo>
                <a:close/>
              </a:path>
              <a:path fill="darkenLess" w="189324" h="21600">
                <a:moveTo>
                  <a:pt x="18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924" y="20200"/>
                </a:lnTo>
                <a:close/>
              </a:path>
              <a:path fill="lighten" w="18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82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УНИЦИПАЛЬНОЕ ОБРАЗОВАНИ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ЗЫРЯНСКИЙ РАЙОН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9079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907920"/>
              <a:gd name="textAreaBottom" fmla="*/ 858960 h 907920"/>
            </a:gdLst>
            <a:ahLst/>
            <a:rect l="textAreaLeft" t="textAreaTop" r="textAreaRight" b="textAreaBottom"/>
            <a:pathLst>
              <a:path w="21600" h="21600">
                <a:moveTo>
                  <a:pt x="8100" y="20429"/>
                </a:moveTo>
                <a:lnTo>
                  <a:pt x="8100" y="21307"/>
                </a:lnTo>
                <a:cubicBezTo>
                  <a:pt x="8100" y="21454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1386"/>
                </a:lnTo>
                <a:lnTo>
                  <a:pt x="0" y="1171"/>
                </a:lnTo>
                <a:lnTo>
                  <a:pt x="5400" y="1171"/>
                </a:lnTo>
                <a:lnTo>
                  <a:pt x="5400" y="293"/>
                </a:lnTo>
                <a:cubicBezTo>
                  <a:pt x="5400" y="146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146"/>
                  <a:pt x="16200" y="293"/>
                </a:cubicBezTo>
                <a:lnTo>
                  <a:pt x="16200" y="1171"/>
                </a:lnTo>
                <a:lnTo>
                  <a:pt x="21600" y="1171"/>
                </a:lnTo>
                <a:lnTo>
                  <a:pt x="18850" y="11386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454"/>
                  <a:pt x="13500" y="21307"/>
                </a:cubicBezTo>
                <a:lnTo>
                  <a:pt x="13500" y="20429"/>
                </a:lnTo>
                <a:close/>
              </a:path>
              <a:path fill="darkenLess" w="21600" h="21600">
                <a:moveTo>
                  <a:pt x="8100" y="20429"/>
                </a:moveTo>
                <a:lnTo>
                  <a:pt x="8100" y="21307"/>
                </a:lnTo>
                <a:cubicBezTo>
                  <a:pt x="8100" y="21161"/>
                  <a:pt x="7680" y="21015"/>
                  <a:pt x="7260" y="21015"/>
                </a:cubicBezTo>
                <a:lnTo>
                  <a:pt x="6240" y="21015"/>
                </a:lnTo>
                <a:cubicBezTo>
                  <a:pt x="5820" y="21015"/>
                  <a:pt x="5400" y="20868"/>
                  <a:pt x="5400" y="20722"/>
                </a:cubicBezTo>
                <a:cubicBezTo>
                  <a:pt x="5400" y="20575"/>
                  <a:pt x="5820" y="20429"/>
                  <a:pt x="6240" y="20429"/>
                </a:cubicBezTo>
                <a:close/>
              </a:path>
              <a:path fill="darkenLess" w="21600" h="21600">
                <a:moveTo>
                  <a:pt x="13500" y="20429"/>
                </a:moveTo>
                <a:lnTo>
                  <a:pt x="13500" y="21307"/>
                </a:lnTo>
                <a:cubicBezTo>
                  <a:pt x="13500" y="21161"/>
                  <a:pt x="13920" y="21015"/>
                  <a:pt x="14340" y="21015"/>
                </a:cubicBezTo>
                <a:lnTo>
                  <a:pt x="15360" y="21015"/>
                </a:lnTo>
                <a:cubicBezTo>
                  <a:pt x="15780" y="21015"/>
                  <a:pt x="16200" y="20868"/>
                  <a:pt x="16200" y="20722"/>
                </a:cubicBezTo>
                <a:cubicBezTo>
                  <a:pt x="16200" y="20575"/>
                  <a:pt x="15780" y="20429"/>
                  <a:pt x="15360" y="20429"/>
                </a:cubicBezTo>
                <a:close/>
              </a:path>
              <a:path fill="darkenLess" w="21600" h="21600">
                <a:moveTo>
                  <a:pt x="5400" y="20722"/>
                </a:moveTo>
                <a:lnTo>
                  <a:pt x="5400" y="1171"/>
                </a:lnTo>
              </a:path>
              <a:path fill="darkenLess" w="21600" h="21600">
                <a:moveTo>
                  <a:pt x="16200" y="20722"/>
                </a:moveTo>
                <a:lnTo>
                  <a:pt x="16200" y="1171"/>
                </a:lnTo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муниципального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разования «Зырянский район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90792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снован в 192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году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34136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Расположен в юго-восточной части Томской област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773360"/>
            <a:ext cx="9144000" cy="720720"/>
          </a:xfrm>
          <a:custGeom>
            <a:avLst/>
            <a:gdLst>
              <a:gd name="textAreaLeft" fmla="*/ 46440 w 9144000"/>
              <a:gd name="textAreaRight" fmla="*/ 9097560 w 914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73920" h="21600">
                <a:moveTo>
                  <a:pt x="0" y="0"/>
                </a:moveTo>
                <a:lnTo>
                  <a:pt x="273920" y="0"/>
                </a:lnTo>
                <a:lnTo>
                  <a:pt x="273920" y="21600"/>
                </a:lnTo>
                <a:lnTo>
                  <a:pt x="0" y="21600"/>
                </a:lnTo>
                <a:close/>
              </a:path>
              <a:path fill="lightenLess" w="273920" h="21600">
                <a:moveTo>
                  <a:pt x="0" y="0"/>
                </a:moveTo>
                <a:lnTo>
                  <a:pt x="273920" y="0"/>
                </a:lnTo>
                <a:lnTo>
                  <a:pt x="272520" y="1400"/>
                </a:lnTo>
                <a:lnTo>
                  <a:pt x="1400" y="1400"/>
                </a:lnTo>
                <a:close/>
              </a:path>
              <a:path fill="darken" w="273920" h="21600">
                <a:moveTo>
                  <a:pt x="273920" y="0"/>
                </a:moveTo>
                <a:lnTo>
                  <a:pt x="273920" y="21600"/>
                </a:lnTo>
                <a:lnTo>
                  <a:pt x="272520" y="20200"/>
                </a:lnTo>
                <a:lnTo>
                  <a:pt x="272520" y="1400"/>
                </a:lnTo>
                <a:close/>
              </a:path>
              <a:path fill="darkenLess" w="273920" h="21600">
                <a:moveTo>
                  <a:pt x="273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20" y="20200"/>
                </a:lnTo>
                <a:close/>
              </a:path>
              <a:path fill="lighten" w="273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раничит на севере с Асиновским, Первомайским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егульдетским районами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492280"/>
            <a:ext cx="9144000" cy="720720"/>
          </a:xfrm>
          <a:custGeom>
            <a:avLst/>
            <a:gdLst>
              <a:gd name="textAreaLeft" fmla="*/ 46440 w 9144000"/>
              <a:gd name="textAreaRight" fmla="*/ 9097560 w 914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73920" h="21600">
                <a:moveTo>
                  <a:pt x="0" y="0"/>
                </a:moveTo>
                <a:lnTo>
                  <a:pt x="273920" y="0"/>
                </a:lnTo>
                <a:lnTo>
                  <a:pt x="273920" y="21600"/>
                </a:lnTo>
                <a:lnTo>
                  <a:pt x="0" y="21600"/>
                </a:lnTo>
                <a:close/>
              </a:path>
              <a:path fill="lightenLess" w="273920" h="21600">
                <a:moveTo>
                  <a:pt x="0" y="0"/>
                </a:moveTo>
                <a:lnTo>
                  <a:pt x="273920" y="0"/>
                </a:lnTo>
                <a:lnTo>
                  <a:pt x="272520" y="1400"/>
                </a:lnTo>
                <a:lnTo>
                  <a:pt x="1400" y="1400"/>
                </a:lnTo>
                <a:close/>
              </a:path>
              <a:path fill="darken" w="273920" h="21600">
                <a:moveTo>
                  <a:pt x="273920" y="0"/>
                </a:moveTo>
                <a:lnTo>
                  <a:pt x="273920" y="21600"/>
                </a:lnTo>
                <a:lnTo>
                  <a:pt x="272520" y="20200"/>
                </a:lnTo>
                <a:lnTo>
                  <a:pt x="272520" y="1400"/>
                </a:lnTo>
                <a:close/>
              </a:path>
              <a:path fill="darkenLess" w="273920" h="21600">
                <a:moveTo>
                  <a:pt x="273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20" y="20200"/>
                </a:lnTo>
                <a:close/>
              </a:path>
              <a:path fill="lighten" w="273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на западе – с Томским районом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на юге – с Кемеровской область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1300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Основная водная артерия – река Чулы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645000"/>
            <a:ext cx="9144000" cy="43164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7218" h="21600">
                <a:moveTo>
                  <a:pt x="0" y="0"/>
                </a:moveTo>
                <a:lnTo>
                  <a:pt x="457218" y="0"/>
                </a:lnTo>
                <a:lnTo>
                  <a:pt x="457218" y="21600"/>
                </a:lnTo>
                <a:lnTo>
                  <a:pt x="0" y="21600"/>
                </a:lnTo>
                <a:close/>
              </a:path>
              <a:path fill="lightenLess" w="457218" h="21600">
                <a:moveTo>
                  <a:pt x="0" y="0"/>
                </a:moveTo>
                <a:lnTo>
                  <a:pt x="457218" y="0"/>
                </a:lnTo>
                <a:lnTo>
                  <a:pt x="455818" y="1400"/>
                </a:lnTo>
                <a:lnTo>
                  <a:pt x="1400" y="1400"/>
                </a:lnTo>
                <a:close/>
              </a:path>
              <a:path fill="darken" w="457218" h="21600">
                <a:moveTo>
                  <a:pt x="457218" y="0"/>
                </a:moveTo>
                <a:lnTo>
                  <a:pt x="457218" y="21600"/>
                </a:lnTo>
                <a:lnTo>
                  <a:pt x="455818" y="20200"/>
                </a:lnTo>
                <a:lnTo>
                  <a:pt x="455818" y="1400"/>
                </a:lnTo>
                <a:close/>
              </a:path>
              <a:path fill="darkenLess" w="457218" h="21600">
                <a:moveTo>
                  <a:pt x="4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818" y="20200"/>
                </a:lnTo>
                <a:close/>
              </a:path>
              <a:path fill="lighten" w="4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Расстояние от с. Зырянское до г. Томска – 120 км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07664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Является транспортным узлом юго — восточной группы районо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508640"/>
            <a:ext cx="9144000" cy="433080"/>
          </a:xfrm>
          <a:custGeom>
            <a:avLst/>
            <a:gdLst>
              <a:gd name="textAreaLeft" fmla="*/ 28080 w 9144000"/>
              <a:gd name="textAreaRight" fmla="*/ 9115920 w 9144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55699" h="21600">
                <a:moveTo>
                  <a:pt x="0" y="0"/>
                </a:moveTo>
                <a:lnTo>
                  <a:pt x="455699" y="0"/>
                </a:lnTo>
                <a:lnTo>
                  <a:pt x="455699" y="21600"/>
                </a:lnTo>
                <a:lnTo>
                  <a:pt x="0" y="21600"/>
                </a:lnTo>
                <a:close/>
              </a:path>
              <a:path fill="lightenLess" w="455699" h="21600">
                <a:moveTo>
                  <a:pt x="0" y="0"/>
                </a:moveTo>
                <a:lnTo>
                  <a:pt x="455699" y="0"/>
                </a:lnTo>
                <a:lnTo>
                  <a:pt x="454299" y="1400"/>
                </a:lnTo>
                <a:lnTo>
                  <a:pt x="1400" y="1400"/>
                </a:lnTo>
                <a:close/>
              </a:path>
              <a:path fill="darken" w="455699" h="21600">
                <a:moveTo>
                  <a:pt x="455699" y="0"/>
                </a:moveTo>
                <a:lnTo>
                  <a:pt x="455699" y="21600"/>
                </a:lnTo>
                <a:lnTo>
                  <a:pt x="454299" y="20200"/>
                </a:lnTo>
                <a:lnTo>
                  <a:pt x="454299" y="1400"/>
                </a:lnTo>
                <a:close/>
              </a:path>
              <a:path fill="darkenLess" w="455699" h="21600">
                <a:moveTo>
                  <a:pt x="455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299" y="20200"/>
                </a:lnTo>
                <a:close/>
              </a:path>
              <a:path fill="lighten" w="455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Умеренный климатический поя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94172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Континентальный клима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373720"/>
            <a:ext cx="9144000" cy="43164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7218" h="21600">
                <a:moveTo>
                  <a:pt x="0" y="0"/>
                </a:moveTo>
                <a:lnTo>
                  <a:pt x="457218" y="0"/>
                </a:lnTo>
                <a:lnTo>
                  <a:pt x="457218" y="21600"/>
                </a:lnTo>
                <a:lnTo>
                  <a:pt x="0" y="21600"/>
                </a:lnTo>
                <a:close/>
              </a:path>
              <a:path fill="lightenLess" w="457218" h="21600">
                <a:moveTo>
                  <a:pt x="0" y="0"/>
                </a:moveTo>
                <a:lnTo>
                  <a:pt x="457218" y="0"/>
                </a:lnTo>
                <a:lnTo>
                  <a:pt x="455818" y="1400"/>
                </a:lnTo>
                <a:lnTo>
                  <a:pt x="1400" y="1400"/>
                </a:lnTo>
                <a:close/>
              </a:path>
              <a:path fill="darken" w="457218" h="21600">
                <a:moveTo>
                  <a:pt x="457218" y="0"/>
                </a:moveTo>
                <a:lnTo>
                  <a:pt x="457218" y="21600"/>
                </a:lnTo>
                <a:lnTo>
                  <a:pt x="455818" y="20200"/>
                </a:lnTo>
                <a:lnTo>
                  <a:pt x="455818" y="1400"/>
                </a:lnTo>
                <a:close/>
              </a:path>
              <a:path fill="darkenLess" w="457218" h="21600">
                <a:moveTo>
                  <a:pt x="4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818" y="20200"/>
                </a:lnTo>
                <a:close/>
              </a:path>
              <a:path fill="lighten" w="4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ерритория — 4,0 тыс.кв.км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5805360"/>
            <a:ext cx="9144000" cy="503280"/>
          </a:xfrm>
          <a:custGeom>
            <a:avLst/>
            <a:gdLst>
              <a:gd name="textAreaLeft" fmla="*/ 32400 w 9144000"/>
              <a:gd name="textAreaRight" fmla="*/ 9111600 w 914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92181" h="21600">
                <a:moveTo>
                  <a:pt x="0" y="0"/>
                </a:moveTo>
                <a:lnTo>
                  <a:pt x="392181" y="0"/>
                </a:lnTo>
                <a:lnTo>
                  <a:pt x="392181" y="21600"/>
                </a:lnTo>
                <a:lnTo>
                  <a:pt x="0" y="21600"/>
                </a:lnTo>
                <a:close/>
              </a:path>
              <a:path fill="lightenLess" w="392181" h="21600">
                <a:moveTo>
                  <a:pt x="0" y="0"/>
                </a:moveTo>
                <a:lnTo>
                  <a:pt x="392181" y="0"/>
                </a:lnTo>
                <a:lnTo>
                  <a:pt x="390781" y="1400"/>
                </a:lnTo>
                <a:lnTo>
                  <a:pt x="1400" y="1400"/>
                </a:lnTo>
                <a:close/>
              </a:path>
              <a:path fill="darken" w="392181" h="21600">
                <a:moveTo>
                  <a:pt x="392181" y="0"/>
                </a:moveTo>
                <a:lnTo>
                  <a:pt x="392181" y="21600"/>
                </a:lnTo>
                <a:lnTo>
                  <a:pt x="390781" y="20200"/>
                </a:lnTo>
                <a:lnTo>
                  <a:pt x="390781" y="1400"/>
                </a:lnTo>
                <a:close/>
              </a:path>
              <a:path fill="darkenLess" w="392181" h="21600">
                <a:moveTo>
                  <a:pt x="39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81" y="20200"/>
                </a:lnTo>
                <a:close/>
              </a:path>
              <a:path fill="lighten" w="39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1,26 % от территории Томской област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308640"/>
            <a:ext cx="9144000" cy="576360"/>
          </a:xfrm>
          <a:custGeom>
            <a:avLst/>
            <a:gdLst>
              <a:gd name="textAreaLeft" fmla="*/ 37080 w 9144000"/>
              <a:gd name="textAreaRight" fmla="*/ 9106920 w 914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42485" h="21600">
                <a:moveTo>
                  <a:pt x="0" y="0"/>
                </a:moveTo>
                <a:lnTo>
                  <a:pt x="342485" y="0"/>
                </a:lnTo>
                <a:lnTo>
                  <a:pt x="342485" y="21600"/>
                </a:lnTo>
                <a:lnTo>
                  <a:pt x="0" y="21600"/>
                </a:lnTo>
                <a:close/>
              </a:path>
              <a:path fill="lightenLess" w="342485" h="21600">
                <a:moveTo>
                  <a:pt x="0" y="0"/>
                </a:moveTo>
                <a:lnTo>
                  <a:pt x="342485" y="0"/>
                </a:lnTo>
                <a:lnTo>
                  <a:pt x="341085" y="1400"/>
                </a:lnTo>
                <a:lnTo>
                  <a:pt x="1400" y="1400"/>
                </a:lnTo>
                <a:close/>
              </a:path>
              <a:path fill="darken" w="342485" h="21600">
                <a:moveTo>
                  <a:pt x="342485" y="0"/>
                </a:moveTo>
                <a:lnTo>
                  <a:pt x="342485" y="21600"/>
                </a:lnTo>
                <a:lnTo>
                  <a:pt x="341085" y="20200"/>
                </a:lnTo>
                <a:lnTo>
                  <a:pt x="341085" y="1400"/>
                </a:lnTo>
                <a:close/>
              </a:path>
              <a:path fill="darkenLess" w="342485" h="21600">
                <a:moveTo>
                  <a:pt x="342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085" y="20200"/>
                </a:lnTo>
                <a:close/>
              </a:path>
              <a:path fill="lighten" w="342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Количество населенных пунктов — 2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9079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907920"/>
              <a:gd name="textAreaBottom" fmla="*/ 858960 h 907920"/>
            </a:gdLst>
            <a:ahLst/>
            <a:rect l="textAreaLeft" t="textAreaTop" r="textAreaRight" b="textAreaBottom"/>
            <a:pathLst>
              <a:path w="21600" h="21600">
                <a:moveTo>
                  <a:pt x="8100" y="20429"/>
                </a:moveTo>
                <a:lnTo>
                  <a:pt x="8100" y="21307"/>
                </a:lnTo>
                <a:cubicBezTo>
                  <a:pt x="8100" y="21454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1386"/>
                </a:lnTo>
                <a:lnTo>
                  <a:pt x="0" y="1171"/>
                </a:lnTo>
                <a:lnTo>
                  <a:pt x="5400" y="1171"/>
                </a:lnTo>
                <a:lnTo>
                  <a:pt x="5400" y="293"/>
                </a:lnTo>
                <a:cubicBezTo>
                  <a:pt x="5400" y="146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146"/>
                  <a:pt x="16200" y="293"/>
                </a:cubicBezTo>
                <a:lnTo>
                  <a:pt x="16200" y="1171"/>
                </a:lnTo>
                <a:lnTo>
                  <a:pt x="21600" y="1171"/>
                </a:lnTo>
                <a:lnTo>
                  <a:pt x="18850" y="11386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454"/>
                  <a:pt x="13500" y="21307"/>
                </a:cubicBezTo>
                <a:lnTo>
                  <a:pt x="13500" y="20429"/>
                </a:lnTo>
                <a:close/>
              </a:path>
              <a:path fill="darkenLess" w="21600" h="21600">
                <a:moveTo>
                  <a:pt x="8100" y="20429"/>
                </a:moveTo>
                <a:lnTo>
                  <a:pt x="8100" y="21307"/>
                </a:lnTo>
                <a:cubicBezTo>
                  <a:pt x="8100" y="21161"/>
                  <a:pt x="7680" y="21015"/>
                  <a:pt x="7260" y="21015"/>
                </a:cubicBezTo>
                <a:lnTo>
                  <a:pt x="6240" y="21015"/>
                </a:lnTo>
                <a:cubicBezTo>
                  <a:pt x="5820" y="21015"/>
                  <a:pt x="5400" y="20868"/>
                  <a:pt x="5400" y="20722"/>
                </a:cubicBezTo>
                <a:cubicBezTo>
                  <a:pt x="5400" y="20575"/>
                  <a:pt x="5820" y="20429"/>
                  <a:pt x="6240" y="20429"/>
                </a:cubicBezTo>
                <a:close/>
              </a:path>
              <a:path fill="darkenLess" w="21600" h="21600">
                <a:moveTo>
                  <a:pt x="13500" y="20429"/>
                </a:moveTo>
                <a:lnTo>
                  <a:pt x="13500" y="21307"/>
                </a:lnTo>
                <a:cubicBezTo>
                  <a:pt x="13500" y="21161"/>
                  <a:pt x="13920" y="21015"/>
                  <a:pt x="14340" y="21015"/>
                </a:cubicBezTo>
                <a:lnTo>
                  <a:pt x="15360" y="21015"/>
                </a:lnTo>
                <a:cubicBezTo>
                  <a:pt x="15780" y="21015"/>
                  <a:pt x="16200" y="20868"/>
                  <a:pt x="16200" y="20722"/>
                </a:cubicBezTo>
                <a:cubicBezTo>
                  <a:pt x="16200" y="20575"/>
                  <a:pt x="15780" y="20429"/>
                  <a:pt x="15360" y="20429"/>
                </a:cubicBezTo>
                <a:close/>
              </a:path>
              <a:path fill="darkenLess" w="21600" h="21600">
                <a:moveTo>
                  <a:pt x="5400" y="20722"/>
                </a:moveTo>
                <a:lnTo>
                  <a:pt x="5400" y="1171"/>
                </a:lnTo>
              </a:path>
              <a:path fill="darkenLess" w="21600" h="21600">
                <a:moveTo>
                  <a:pt x="16200" y="20722"/>
                </a:moveTo>
                <a:lnTo>
                  <a:pt x="16200" y="1171"/>
                </a:lnTo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муниципального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разования «Зырянский район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07920"/>
            <a:ext cx="9144000" cy="792360"/>
          </a:xfrm>
          <a:custGeom>
            <a:avLst/>
            <a:gdLst>
              <a:gd name="textAreaLeft" fmla="*/ 51120 w 9144000"/>
              <a:gd name="textAreaRight" fmla="*/ 9092880 w 9144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49165" h="21600">
                <a:moveTo>
                  <a:pt x="0" y="0"/>
                </a:moveTo>
                <a:lnTo>
                  <a:pt x="249165" y="0"/>
                </a:lnTo>
                <a:lnTo>
                  <a:pt x="249165" y="21600"/>
                </a:lnTo>
                <a:lnTo>
                  <a:pt x="0" y="21600"/>
                </a:lnTo>
                <a:close/>
              </a:path>
              <a:path fill="lightenLess" w="249165" h="21600">
                <a:moveTo>
                  <a:pt x="0" y="0"/>
                </a:moveTo>
                <a:lnTo>
                  <a:pt x="249165" y="0"/>
                </a:lnTo>
                <a:lnTo>
                  <a:pt x="247765" y="1400"/>
                </a:lnTo>
                <a:lnTo>
                  <a:pt x="1400" y="1400"/>
                </a:lnTo>
                <a:close/>
              </a:path>
              <a:path fill="darken" w="249165" h="21600">
                <a:moveTo>
                  <a:pt x="249165" y="0"/>
                </a:moveTo>
                <a:lnTo>
                  <a:pt x="249165" y="21600"/>
                </a:lnTo>
                <a:lnTo>
                  <a:pt x="247765" y="20200"/>
                </a:lnTo>
                <a:lnTo>
                  <a:pt x="247765" y="1400"/>
                </a:lnTo>
                <a:close/>
              </a:path>
              <a:path fill="darkenLess" w="249165" h="21600">
                <a:moveTo>
                  <a:pt x="249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765" y="20200"/>
                </a:lnTo>
                <a:close/>
              </a:path>
              <a:path fill="lighten" w="249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Численность населения (на 01.01.2016 года) — 1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085 челове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70028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ерритория Зырянского района разделен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на 5 муниципальных образований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56536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ысоковское сельское поселение — 925 челове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42900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Дубровское сельское поселение — 689 челове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29264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Зырянское сельское поселение — 8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099 челове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15772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Михайлоское сельское поселение — 1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179 челове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599436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Чердатское сельское поселение — 1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193 челове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о данным статистики на 01.01.2016 г.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1125360"/>
          </a:xfrm>
          <a:prstGeom prst="bevel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реднегодовая численность постоянного населени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1125360"/>
          <a:ext cx="9144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1197000"/>
          </a:xfrm>
          <a:custGeom>
            <a:avLst/>
            <a:gdLst>
              <a:gd name="textAreaLeft" fmla="*/ 1326960 w 9144000"/>
              <a:gd name="textAreaRight" fmla="*/ 7817040 w 9144000"/>
              <a:gd name="textAreaTop" fmla="*/ 6408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60" y="0"/>
                </a:lnTo>
                <a:arcTo wR="675" hR="290" stAng="16200000" swAng="5400000"/>
                <a:lnTo>
                  <a:pt x="5835" y="1158"/>
                </a:lnTo>
                <a:lnTo>
                  <a:pt x="15765" y="1158"/>
                </a:lnTo>
                <a:lnTo>
                  <a:pt x="15765" y="290"/>
                </a:lnTo>
                <a:arcTo wR="675" hR="290" stAng="10800000" swAng="5400000"/>
                <a:lnTo>
                  <a:pt x="21600" y="0"/>
                </a:lnTo>
                <a:lnTo>
                  <a:pt x="18900" y="10221"/>
                </a:lnTo>
                <a:lnTo>
                  <a:pt x="21600" y="20442"/>
                </a:lnTo>
                <a:lnTo>
                  <a:pt x="18465" y="20442"/>
                </a:lnTo>
                <a:lnTo>
                  <a:pt x="18465" y="21311"/>
                </a:lnTo>
                <a:arcTo wR="675" hR="290" stAng="0" swAng="5400000"/>
                <a:lnTo>
                  <a:pt x="3810" y="21600"/>
                </a:lnTo>
                <a:arcTo wR="675" hR="290" stAng="5400000" swAng="5400000"/>
                <a:lnTo>
                  <a:pt x="3135" y="20442"/>
                </a:lnTo>
                <a:lnTo>
                  <a:pt x="0" y="20442"/>
                </a:lnTo>
                <a:lnTo>
                  <a:pt x="2700" y="10221"/>
                </a:lnTo>
                <a:close/>
              </a:path>
              <a:path fill="none" w="21600" h="21600">
                <a:moveTo>
                  <a:pt x="5835" y="290"/>
                </a:moveTo>
                <a:arcTo wR="675" hR="290" stAng="0" swAng="5400000"/>
                <a:lnTo>
                  <a:pt x="3810" y="579"/>
                </a:lnTo>
                <a:arcTo wR="675" hR="290" stAng="16200000" swAng="-5400000"/>
                <a:arcTo wR="675" hR="290" stAng="10800000" swAng="-5400000"/>
                <a:lnTo>
                  <a:pt x="5835" y="1158"/>
                </a:lnTo>
              </a:path>
              <a:path fill="none" w="21600" h="21600">
                <a:moveTo>
                  <a:pt x="15765" y="290"/>
                </a:moveTo>
                <a:arcTo wR="675" hR="290" stAng="10800000" swAng="-5400000"/>
                <a:lnTo>
                  <a:pt x="17790" y="579"/>
                </a:lnTo>
                <a:arcTo wR="675" hR="290" stAng="16200000" swAng="5400000"/>
                <a:arcTo wR="675" hR="290" stAng="0" swAng="5400000"/>
                <a:lnTo>
                  <a:pt x="15765" y="1158"/>
                </a:lnTo>
              </a:path>
              <a:path fill="none" w="21600" h="21600">
                <a:moveTo>
                  <a:pt x="3135" y="869"/>
                </a:moveTo>
                <a:lnTo>
                  <a:pt x="3135" y="20442"/>
                </a:lnTo>
              </a:path>
              <a:path fill="none" w="21600" h="21600">
                <a:moveTo>
                  <a:pt x="18465" y="869"/>
                </a:moveTo>
                <a:lnTo>
                  <a:pt x="18465" y="20442"/>
                </a:ln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новные направления бюджетной 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логовой политики Зырянского район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197000"/>
            <a:ext cx="9144000" cy="50328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величение доли налоговых и неналоговых доходов местного бюджета;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700280"/>
            <a:ext cx="9144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99"/>
                </a:solidFill>
                <a:latin typeface="Times New Roman"/>
                <a:ea typeface="宋体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 Обеспечение сбалансированности и устойчивости бюджетной системы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ырянского района;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292640"/>
            <a:ext cx="9144000" cy="136836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ривлечения средств вышестоящих бюджетов на решени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просов местного значения в целях сокращения нагрузки на бюджет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района и выполнение условий софинансир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средствам вышестоящих бюджетов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661000"/>
            <a:ext cx="9144000" cy="576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олнение всех социальных обязательств муниципального обра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Зырянский район»;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237360"/>
            <a:ext cx="9144000" cy="62064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розрачности расходования бюджетных средств 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крытости бюджета для граждан;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84640"/>
            <a:ext cx="9144000" cy="1008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 главных распорядителей бюджетных средств требуется оперативное 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уководство бюджетными ассигнованиями, которое связано с и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аневрированием, перераспределением в течение год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492280"/>
            <a:ext cx="9144000" cy="79236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ых расходов, эффективно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шение текущих задач в условиях ограниченности бюджетных ресурсов;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68640"/>
            <a:ext cx="9144000" cy="358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минимизация расходов на обслуживание муниципального долг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429000"/>
            <a:ext cx="9144000" cy="36036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обеспечение исполнения долговых обязательств в полном объеме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589720"/>
            <a:ext cx="9144000" cy="64764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соблюдение установленных требований к ведению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юджетного учета, составлению и представлению бюджетной отчетност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37360"/>
            <a:ext cx="9144000" cy="620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99"/>
                </a:solidFill>
                <a:latin typeface="Times New Roman"/>
                <a:ea typeface="宋体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экономность, результативность и эффективность исполь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редств из бюдже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5157720"/>
            <a:ext cx="9144000" cy="43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контроль за состоянием кредиторской и дебиторской задолженност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789360"/>
            <a:ext cx="9144000" cy="647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е снижение долговой нагрузки на бюджет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район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437000"/>
            <a:ext cx="9144000" cy="71928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соблюдение бюджетного законодательства Российской Федерации и ины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тивных правовых актов, регулирующих бюджетные правоотношения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133720"/>
            <a:ext cx="9144000" cy="93492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держка объема долговых обязательств на экономически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опасном уровне, с учетом всех возможных рисков,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птимизация структуры муниципального долг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773360"/>
            <a:ext cx="9144000" cy="360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эффективное функционирование бюджетной системы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125360"/>
            <a:ext cx="9144000" cy="64800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лучшение качества жизни населения, в том числе за счет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еспечения граждан доступными и качественными муниципальными услугам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1197000"/>
          </a:xfrm>
          <a:custGeom>
            <a:avLst/>
            <a:gdLst>
              <a:gd name="textAreaLeft" fmla="*/ 1317600 w 9144000"/>
              <a:gd name="textAreaRight" fmla="*/ 7826400 w 9144000"/>
              <a:gd name="textAreaTop" fmla="*/ 6408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38" y="0"/>
                </a:lnTo>
                <a:arcTo wR="675" hR="290" stAng="16200000" swAng="5400000"/>
                <a:lnTo>
                  <a:pt x="5813" y="1158"/>
                </a:lnTo>
                <a:lnTo>
                  <a:pt x="15787" y="1158"/>
                </a:lnTo>
                <a:lnTo>
                  <a:pt x="15787" y="290"/>
                </a:lnTo>
                <a:arcTo wR="675" hR="290" stAng="10800000" swAng="5400000"/>
                <a:lnTo>
                  <a:pt x="21600" y="0"/>
                </a:lnTo>
                <a:lnTo>
                  <a:pt x="18900" y="10221"/>
                </a:lnTo>
                <a:lnTo>
                  <a:pt x="21600" y="20442"/>
                </a:lnTo>
                <a:lnTo>
                  <a:pt x="18487" y="20442"/>
                </a:lnTo>
                <a:lnTo>
                  <a:pt x="18487" y="21311"/>
                </a:lnTo>
                <a:arcTo wR="675" hR="290" stAng="0" swAng="5400000"/>
                <a:lnTo>
                  <a:pt x="3788" y="21600"/>
                </a:lnTo>
                <a:arcTo wR="675" hR="290" stAng="5400000" swAng="5400000"/>
                <a:lnTo>
                  <a:pt x="3113" y="20442"/>
                </a:lnTo>
                <a:lnTo>
                  <a:pt x="0" y="20442"/>
                </a:lnTo>
                <a:lnTo>
                  <a:pt x="2700" y="10221"/>
                </a:lnTo>
                <a:close/>
              </a:path>
              <a:path fill="none" w="21600" h="21600">
                <a:moveTo>
                  <a:pt x="5813" y="290"/>
                </a:moveTo>
                <a:arcTo wR="675" hR="290" stAng="0" swAng="5400000"/>
                <a:lnTo>
                  <a:pt x="3788" y="579"/>
                </a:lnTo>
                <a:arcTo wR="675" hR="290" stAng="16200000" swAng="-5400000"/>
                <a:arcTo wR="675" hR="290" stAng="10800000" swAng="-5400000"/>
                <a:lnTo>
                  <a:pt x="5813" y="1158"/>
                </a:lnTo>
              </a:path>
              <a:path fill="none" w="21600" h="21600">
                <a:moveTo>
                  <a:pt x="15787" y="290"/>
                </a:moveTo>
                <a:arcTo wR="675" hR="290" stAng="10800000" swAng="-5400000"/>
                <a:lnTo>
                  <a:pt x="17812" y="579"/>
                </a:lnTo>
                <a:arcTo wR="675" hR="290" stAng="16200000" swAng="5400000"/>
                <a:arcTo wR="675" hR="290" stAng="0" swAng="5400000"/>
                <a:lnTo>
                  <a:pt x="15787" y="1158"/>
                </a:lnTo>
              </a:path>
              <a:path fill="none" w="21600" h="21600">
                <a:moveTo>
                  <a:pt x="3113" y="869"/>
                </a:moveTo>
                <a:lnTo>
                  <a:pt x="3113" y="20442"/>
                </a:lnTo>
              </a:path>
              <a:path fill="none" w="21600" h="21600">
                <a:moveTo>
                  <a:pt x="18487" y="869"/>
                </a:moveTo>
                <a:lnTo>
                  <a:pt x="18487" y="20442"/>
                </a:ln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новные направления бюджетной 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логовой политики Зырянского район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 БЮДЖЕ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141720"/>
            <a:ext cx="2987640" cy="311616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е поступления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 налогов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боров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тор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усмотрен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оговым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ексом РФ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27640" y="1052640"/>
            <a:ext cx="2916360" cy="114300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1700280"/>
            <a:ext cx="2989080" cy="1143000"/>
          </a:xfrm>
          <a:prstGeom prst="horizont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НАЛОГОВЫ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125360"/>
            <a:ext cx="2916360" cy="1143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ЛОГОВЫ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3141720"/>
            <a:ext cx="2987640" cy="31161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упления 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бюджетных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фертов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х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звозмездных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уплен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апример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нсорск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0360" y="3741840"/>
            <a:ext cx="3672000" cy="3116160"/>
          </a:xfrm>
          <a:prstGeom prst="vertic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упления от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латы сборов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ных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ом РФ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рафов за наруш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а РФ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использования 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6320400">
            <a:off x="1115640" y="2565000"/>
            <a:ext cx="934920" cy="7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4068720" y="3213000"/>
            <a:ext cx="934920" cy="71280"/>
          </a:xfrm>
          <a:custGeom>
            <a:avLst/>
            <a:gdLst>
              <a:gd name="textAreaLeft" fmla="*/ 116640 w 934920"/>
              <a:gd name="textAreaRight" fmla="*/ 818280 w 934920"/>
              <a:gd name="textAreaTop" fmla="*/ 17640 h 71280"/>
              <a:gd name="textAreaBottom" fmla="*/ 53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4752600">
            <a:off x="7235640" y="2565360"/>
            <a:ext cx="934920" cy="71280"/>
          </a:xfrm>
          <a:custGeom>
            <a:avLst/>
            <a:gdLst>
              <a:gd name="textAreaLeft" fmla="*/ 116640 w 934920"/>
              <a:gd name="textAreaRight" fmla="*/ 818280 w 934920"/>
              <a:gd name="textAreaTop" fmla="*/ 17640 h 71280"/>
              <a:gd name="textAreaBottom" fmla="*/ 53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ЖБЮДЖЕТНЫЕ ТРАНСФЕРТ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это бюджетные средства, передаваемые из бюджета одного уровня бюджету другого уровн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71640" y="1052640"/>
            <a:ext cx="3529080" cy="1152360"/>
          </a:xfrm>
          <a:prstGeom prst="flowChartAlternateProcess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БЮДЖЕТН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ФЕРТО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997360"/>
            <a:ext cx="2843280" cy="360036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та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жбюджетны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рансферты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н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возмездной 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возвратной основ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 установлен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правлений и (или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словий их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пользован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32000" y="3141720"/>
            <a:ext cx="2843280" cy="3456000"/>
          </a:xfrm>
          <a:prstGeom prst="flowChartAlternate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бвенции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жбюджетны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рансферты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в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лях финансового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еспечения расходных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язательств переданных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осуществления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рганами местн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моуправления 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становленном порядк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00720" y="2997360"/>
            <a:ext cx="2843280" cy="360036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бсид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жбюджетны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рансферты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в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лях софинансирован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сходных обязательств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выполнению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лномочий органам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стного самоуправления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вопросам местн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начен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8403000">
            <a:off x="1766880" y="2417760"/>
            <a:ext cx="930240" cy="69840"/>
          </a:xfrm>
          <a:custGeom>
            <a:avLst/>
            <a:gdLst>
              <a:gd name="textAreaLeft" fmla="*/ 116280 w 930240"/>
              <a:gd name="textAreaRight" fmla="*/ 813960 w 93024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4356720" y="2566080"/>
            <a:ext cx="503280" cy="69840"/>
          </a:xfrm>
          <a:custGeom>
            <a:avLst/>
            <a:gdLst>
              <a:gd name="textAreaLeft" fmla="*/ 62640 w 503280"/>
              <a:gd name="textAreaRight" fmla="*/ 440640 w 50328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883600">
            <a:off x="6435720" y="2428560"/>
            <a:ext cx="806400" cy="69840"/>
          </a:xfrm>
          <a:custGeom>
            <a:avLst/>
            <a:gdLst>
              <a:gd name="textAreaLeft" fmla="*/ 100800 w 806400"/>
              <a:gd name="textAreaRight" fmla="*/ 705600 w 80640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40000" y="189000"/>
            <a:ext cx="662472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ВАЖАЕМЫЕ ЖИТЕЛ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ЫРЯНСКОГО РАЙ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Одной из ключевых задач бюджетной политики является обеспечение прозрачности и открытости бюджетного процесса.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На официальном сайте Администрации Зырянского района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размещена информация о плановых показателях бюджета Зырянского района и его исполнении доступна для всех заинтересованных пользователей.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Для привлечения большого количества граждан Зырянского района к участию в обсуждении вопросов формирования и исполнения бюджета разработан «Бюджет для граждан».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«Бюджет для граждан» знакомит граждан с основными характеристиками бюджета Зырянского района и результатами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его исполнения, а также указывает цели, задачи и приоритетные направления бюджетной и налоговой политики Зырянского района.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«Бюджет для граждан» разрабатывается в целях ознакомления граждан с основными положениями бюджета Зырянского района в доступной форме для широкого круга заинтересованных лиц.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уважением, Глава Зырянского райо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ивоваров Николай Николаевич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226836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0"/>
            <a:ext cx="9144000" cy="104292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ДЫ ДОХОДОВ БЮДЖЕТ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43640" y="1700280"/>
            <a:ext cx="73080" cy="1368360"/>
          </a:xfrm>
          <a:prstGeom prst="upArrow">
            <a:avLst>
              <a:gd name="adj1" fmla="val 42481"/>
              <a:gd name="adj2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27640" y="1125360"/>
            <a:ext cx="2916360" cy="609840"/>
          </a:xfrm>
          <a:custGeom>
            <a:avLst/>
            <a:gdLst>
              <a:gd name="textAreaLeft" fmla="*/ 397080 w 2916360"/>
              <a:gd name="textAreaRight" fmla="*/ 2519280 w 291636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5643" y="18900"/>
                </a:moveTo>
                <a:lnTo>
                  <a:pt x="5643" y="20925"/>
                </a:lnTo>
                <a:cubicBezTo>
                  <a:pt x="5643" y="21263"/>
                  <a:pt x="5223" y="21600"/>
                  <a:pt x="4803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2943" y="2700"/>
                </a:lnTo>
                <a:lnTo>
                  <a:pt x="2943" y="675"/>
                </a:lnTo>
                <a:cubicBezTo>
                  <a:pt x="2943" y="338"/>
                  <a:pt x="3363" y="0"/>
                  <a:pt x="3783" y="0"/>
                </a:cubicBezTo>
                <a:lnTo>
                  <a:pt x="17817" y="0"/>
                </a:lnTo>
                <a:cubicBezTo>
                  <a:pt x="18237" y="0"/>
                  <a:pt x="18657" y="338"/>
                  <a:pt x="18657" y="675"/>
                </a:cubicBezTo>
                <a:lnTo>
                  <a:pt x="18657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797" y="21600"/>
                </a:lnTo>
                <a:cubicBezTo>
                  <a:pt x="16377" y="21600"/>
                  <a:pt x="15957" y="21263"/>
                  <a:pt x="15957" y="20925"/>
                </a:cubicBezTo>
                <a:lnTo>
                  <a:pt x="15957" y="18900"/>
                </a:lnTo>
                <a:close/>
              </a:path>
              <a:path fill="darkenLess" w="21600" h="21600">
                <a:moveTo>
                  <a:pt x="5643" y="18900"/>
                </a:moveTo>
                <a:lnTo>
                  <a:pt x="5643" y="20925"/>
                </a:lnTo>
                <a:cubicBezTo>
                  <a:pt x="5643" y="20588"/>
                  <a:pt x="5223" y="20250"/>
                  <a:pt x="4803" y="20250"/>
                </a:cubicBezTo>
                <a:lnTo>
                  <a:pt x="3783" y="20250"/>
                </a:lnTo>
                <a:cubicBezTo>
                  <a:pt x="3363" y="20250"/>
                  <a:pt x="2943" y="19913"/>
                  <a:pt x="2943" y="19575"/>
                </a:cubicBezTo>
                <a:cubicBezTo>
                  <a:pt x="2943" y="19238"/>
                  <a:pt x="3363" y="18900"/>
                  <a:pt x="3783" y="18900"/>
                </a:cubicBezTo>
                <a:close/>
              </a:path>
              <a:path fill="darkenLess" w="21600" h="21600">
                <a:moveTo>
                  <a:pt x="15957" y="18900"/>
                </a:moveTo>
                <a:lnTo>
                  <a:pt x="15957" y="20925"/>
                </a:lnTo>
                <a:cubicBezTo>
                  <a:pt x="15957" y="20588"/>
                  <a:pt x="16377" y="20250"/>
                  <a:pt x="16797" y="20250"/>
                </a:cubicBezTo>
                <a:lnTo>
                  <a:pt x="17817" y="20250"/>
                </a:lnTo>
                <a:cubicBezTo>
                  <a:pt x="18237" y="20250"/>
                  <a:pt x="18657" y="19913"/>
                  <a:pt x="18657" y="19575"/>
                </a:cubicBezTo>
                <a:cubicBezTo>
                  <a:pt x="18657" y="19238"/>
                  <a:pt x="18237" y="18900"/>
                  <a:pt x="17817" y="18900"/>
                </a:cubicBezTo>
                <a:close/>
              </a:path>
              <a:path fill="darkenLess" w="21600" h="21600">
                <a:moveTo>
                  <a:pt x="2943" y="19575"/>
                </a:moveTo>
                <a:lnTo>
                  <a:pt x="2943" y="2700"/>
                </a:lnTo>
              </a:path>
              <a:path fill="darkenLess" w="21600" h="21600">
                <a:moveTo>
                  <a:pt x="18657" y="19575"/>
                </a:moveTo>
                <a:lnTo>
                  <a:pt x="18657" y="2700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16720" y="198900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16720" y="242100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16720" y="2997360"/>
            <a:ext cx="976320" cy="72720"/>
          </a:xfrm>
          <a:prstGeom prst="rightArrow">
            <a:avLst>
              <a:gd name="adj1" fmla="val 45750"/>
              <a:gd name="adj2" fmla="val 65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32720" y="184464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32720" y="227664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убвенци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732720" y="2708280"/>
            <a:ext cx="2305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Ины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межбюджетны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трансферт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0" y="1700280"/>
            <a:ext cx="71640" cy="4753080"/>
          </a:xfrm>
          <a:prstGeom prst="upArrow">
            <a:avLst>
              <a:gd name="adj1" fmla="val 42481"/>
              <a:gd name="adj2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1125360"/>
            <a:ext cx="2952720" cy="609840"/>
          </a:xfrm>
          <a:custGeom>
            <a:avLst/>
            <a:gdLst>
              <a:gd name="textAreaLeft" fmla="*/ 428760 w 2952720"/>
              <a:gd name="textAreaRight" fmla="*/ 2523960 w 295272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5838" y="18900"/>
                </a:moveTo>
                <a:lnTo>
                  <a:pt x="5838" y="20925"/>
                </a:lnTo>
                <a:cubicBezTo>
                  <a:pt x="5838" y="21263"/>
                  <a:pt x="5418" y="21600"/>
                  <a:pt x="4998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38" y="2700"/>
                </a:lnTo>
                <a:lnTo>
                  <a:pt x="3138" y="675"/>
                </a:lnTo>
                <a:cubicBezTo>
                  <a:pt x="3138" y="338"/>
                  <a:pt x="3558" y="0"/>
                  <a:pt x="3978" y="0"/>
                </a:cubicBezTo>
                <a:lnTo>
                  <a:pt x="17622" y="0"/>
                </a:lnTo>
                <a:cubicBezTo>
                  <a:pt x="18042" y="0"/>
                  <a:pt x="18462" y="338"/>
                  <a:pt x="18462" y="675"/>
                </a:cubicBezTo>
                <a:lnTo>
                  <a:pt x="18462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602" y="21600"/>
                </a:lnTo>
                <a:cubicBezTo>
                  <a:pt x="16182" y="21600"/>
                  <a:pt x="15762" y="21263"/>
                  <a:pt x="15762" y="20925"/>
                </a:cubicBezTo>
                <a:lnTo>
                  <a:pt x="15762" y="18900"/>
                </a:lnTo>
                <a:close/>
              </a:path>
              <a:path fill="darkenLess" w="21600" h="21600">
                <a:moveTo>
                  <a:pt x="5838" y="18900"/>
                </a:moveTo>
                <a:lnTo>
                  <a:pt x="5838" y="20925"/>
                </a:lnTo>
                <a:cubicBezTo>
                  <a:pt x="5838" y="20588"/>
                  <a:pt x="5418" y="20250"/>
                  <a:pt x="4998" y="20250"/>
                </a:cubicBezTo>
                <a:lnTo>
                  <a:pt x="3978" y="20250"/>
                </a:lnTo>
                <a:cubicBezTo>
                  <a:pt x="3558" y="20250"/>
                  <a:pt x="3138" y="19913"/>
                  <a:pt x="3138" y="19575"/>
                </a:cubicBezTo>
                <a:cubicBezTo>
                  <a:pt x="3138" y="19238"/>
                  <a:pt x="3558" y="18900"/>
                  <a:pt x="3978" y="18900"/>
                </a:cubicBezTo>
                <a:close/>
              </a:path>
              <a:path fill="darkenLess" w="21600" h="21600">
                <a:moveTo>
                  <a:pt x="15762" y="18900"/>
                </a:moveTo>
                <a:lnTo>
                  <a:pt x="15762" y="20925"/>
                </a:lnTo>
                <a:cubicBezTo>
                  <a:pt x="15762" y="20588"/>
                  <a:pt x="16182" y="20250"/>
                  <a:pt x="16602" y="20250"/>
                </a:cubicBezTo>
                <a:lnTo>
                  <a:pt x="17622" y="20250"/>
                </a:lnTo>
                <a:cubicBezTo>
                  <a:pt x="18042" y="20250"/>
                  <a:pt x="18462" y="19913"/>
                  <a:pt x="18462" y="19575"/>
                </a:cubicBezTo>
                <a:cubicBezTo>
                  <a:pt x="18462" y="19238"/>
                  <a:pt x="18042" y="18900"/>
                  <a:pt x="17622" y="18900"/>
                </a:cubicBezTo>
                <a:close/>
              </a:path>
              <a:path fill="darkenLess" w="21600" h="21600">
                <a:moveTo>
                  <a:pt x="3138" y="19575"/>
                </a:moveTo>
                <a:lnTo>
                  <a:pt x="3138" y="2700"/>
                </a:lnTo>
              </a:path>
              <a:path fill="darkenLess" w="21600" h="21600">
                <a:moveTo>
                  <a:pt x="18462" y="19575"/>
                </a:moveTo>
                <a:lnTo>
                  <a:pt x="18462" y="27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еналоговы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234936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19640" y="350028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19640" y="4508640"/>
            <a:ext cx="976320" cy="72720"/>
          </a:xfrm>
          <a:prstGeom prst="rightArrow">
            <a:avLst>
              <a:gd name="adj1" fmla="val 45750"/>
              <a:gd name="adj2" fmla="val 65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5229360"/>
            <a:ext cx="976320" cy="72720"/>
          </a:xfrm>
          <a:prstGeom prst="rightArrow">
            <a:avLst>
              <a:gd name="adj1" fmla="val 45750"/>
              <a:gd name="adj2" fmla="val 65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638172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580536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64000" y="1844640"/>
            <a:ext cx="2592360" cy="1079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Доходы от использова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имущества находящейся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в муниципально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64000" y="2997360"/>
            <a:ext cx="2592360" cy="10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Доходы от продаж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имущества, находящихс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в муниципально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64000" y="414972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лата за негативно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воздействие 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окружающую среду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000" y="5013360"/>
            <a:ext cx="2592360" cy="504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Доходы от оказа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латных услуг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5589720"/>
            <a:ext cx="2592360" cy="503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Штрафы, санкции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возмещения ущерб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6165720"/>
            <a:ext cx="2592360" cy="503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очие неналоговы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8000" y="1700280"/>
            <a:ext cx="71280" cy="4968720"/>
          </a:xfrm>
          <a:prstGeom prst="upArrow">
            <a:avLst>
              <a:gd name="adj1" fmla="val 42481"/>
              <a:gd name="adj2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125360"/>
            <a:ext cx="3132000" cy="609840"/>
          </a:xfrm>
          <a:custGeom>
            <a:avLst/>
            <a:gdLst>
              <a:gd name="textAreaLeft" fmla="*/ 455040 w 3132000"/>
              <a:gd name="textAreaRight" fmla="*/ 2676960 w 313200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5838" y="18900"/>
                </a:moveTo>
                <a:lnTo>
                  <a:pt x="5838" y="20925"/>
                </a:lnTo>
                <a:cubicBezTo>
                  <a:pt x="5838" y="21263"/>
                  <a:pt x="5418" y="21600"/>
                  <a:pt x="4998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38" y="2700"/>
                </a:lnTo>
                <a:lnTo>
                  <a:pt x="3138" y="675"/>
                </a:lnTo>
                <a:cubicBezTo>
                  <a:pt x="3138" y="338"/>
                  <a:pt x="3558" y="0"/>
                  <a:pt x="3978" y="0"/>
                </a:cubicBezTo>
                <a:lnTo>
                  <a:pt x="17622" y="0"/>
                </a:lnTo>
                <a:cubicBezTo>
                  <a:pt x="18042" y="0"/>
                  <a:pt x="18462" y="338"/>
                  <a:pt x="18462" y="675"/>
                </a:cubicBezTo>
                <a:lnTo>
                  <a:pt x="18462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602" y="21600"/>
                </a:lnTo>
                <a:cubicBezTo>
                  <a:pt x="16182" y="21600"/>
                  <a:pt x="15762" y="21263"/>
                  <a:pt x="15762" y="20925"/>
                </a:cubicBezTo>
                <a:lnTo>
                  <a:pt x="15762" y="18900"/>
                </a:lnTo>
                <a:close/>
              </a:path>
              <a:path fill="darkenLess" w="21600" h="21600">
                <a:moveTo>
                  <a:pt x="5838" y="18900"/>
                </a:moveTo>
                <a:lnTo>
                  <a:pt x="5838" y="20925"/>
                </a:lnTo>
                <a:cubicBezTo>
                  <a:pt x="5838" y="20588"/>
                  <a:pt x="5418" y="20250"/>
                  <a:pt x="4998" y="20250"/>
                </a:cubicBezTo>
                <a:lnTo>
                  <a:pt x="3978" y="20250"/>
                </a:lnTo>
                <a:cubicBezTo>
                  <a:pt x="3558" y="20250"/>
                  <a:pt x="3138" y="19913"/>
                  <a:pt x="3138" y="19575"/>
                </a:cubicBezTo>
                <a:cubicBezTo>
                  <a:pt x="3138" y="19238"/>
                  <a:pt x="3558" y="18900"/>
                  <a:pt x="3978" y="18900"/>
                </a:cubicBezTo>
                <a:close/>
              </a:path>
              <a:path fill="darkenLess" w="21600" h="21600">
                <a:moveTo>
                  <a:pt x="15762" y="18900"/>
                </a:moveTo>
                <a:lnTo>
                  <a:pt x="15762" y="20925"/>
                </a:lnTo>
                <a:cubicBezTo>
                  <a:pt x="15762" y="20588"/>
                  <a:pt x="16182" y="20250"/>
                  <a:pt x="16602" y="20250"/>
                </a:cubicBezTo>
                <a:lnTo>
                  <a:pt x="17622" y="20250"/>
                </a:lnTo>
                <a:cubicBezTo>
                  <a:pt x="18042" y="20250"/>
                  <a:pt x="18462" y="19913"/>
                  <a:pt x="18462" y="19575"/>
                </a:cubicBezTo>
                <a:cubicBezTo>
                  <a:pt x="18462" y="19238"/>
                  <a:pt x="18042" y="18900"/>
                  <a:pt x="17622" y="18900"/>
                </a:cubicBezTo>
                <a:close/>
              </a:path>
              <a:path fill="darkenLess" w="21600" h="21600">
                <a:moveTo>
                  <a:pt x="3138" y="19575"/>
                </a:moveTo>
                <a:lnTo>
                  <a:pt x="3138" y="2700"/>
                </a:lnTo>
              </a:path>
              <a:path fill="darkenLess" w="21600" h="21600">
                <a:moveTo>
                  <a:pt x="18462" y="19575"/>
                </a:moveTo>
                <a:lnTo>
                  <a:pt x="18462" y="27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алоговы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206064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242100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285264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844640"/>
            <a:ext cx="2664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Налог на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физических лиц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2349360"/>
            <a:ext cx="26640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Акциз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637000"/>
            <a:ext cx="2664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Единый налог 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вмененный доход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342900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429264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659772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6524640"/>
            <a:ext cx="26640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очие налогов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9280" y="630864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6237360"/>
            <a:ext cx="26640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Государственная пошлин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602136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5950080"/>
            <a:ext cx="266400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Земельный налог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566100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5445000"/>
            <a:ext cx="2664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Налог на имуществ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физических лиц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5013360"/>
            <a:ext cx="976320" cy="73080"/>
          </a:xfrm>
          <a:prstGeom prst="rightArrow">
            <a:avLst>
              <a:gd name="adj1" fmla="val 45750"/>
              <a:gd name="adj2" fmla="val 64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4724280"/>
            <a:ext cx="266400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Едины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ельскохозяйственны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налог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393372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Налог, взимаемый в связи с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менением патентно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истемы налогооблож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141720"/>
            <a:ext cx="2664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Налог, взимаемый в связи с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менением упрощенно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истемы налогооблож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412" name=""/>
          <p:cNvSpPr/>
          <p:nvPr/>
        </p:nvSpPr>
        <p:spPr>
          <a:xfrm>
            <a:off x="0" y="0"/>
            <a:ext cx="9144000" cy="907920"/>
          </a:xfrm>
          <a:prstGeom prst="bevel">
            <a:avLst>
              <a:gd name="adj" fmla="val 125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СТОЧНИКИ ФИНАНСИРОВАНИ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ЕФИЦИТА БЮДЖЕТ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5877000"/>
            <a:ext cx="4321080" cy="753840"/>
          </a:xfrm>
          <a:custGeom>
            <a:avLst/>
            <a:gdLst>
              <a:gd name="textAreaLeft" fmla="*/ 48600 w 4321080"/>
              <a:gd name="textAreaRight" fmla="*/ 4272480 w 432108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123764" h="21600">
                <a:moveTo>
                  <a:pt x="0" y="0"/>
                </a:moveTo>
                <a:lnTo>
                  <a:pt x="123764" y="0"/>
                </a:lnTo>
                <a:lnTo>
                  <a:pt x="123764" y="21600"/>
                </a:lnTo>
                <a:lnTo>
                  <a:pt x="0" y="21600"/>
                </a:lnTo>
                <a:close/>
              </a:path>
              <a:path fill="lightenLess" w="123764" h="21600">
                <a:moveTo>
                  <a:pt x="0" y="0"/>
                </a:moveTo>
                <a:lnTo>
                  <a:pt x="123764" y="0"/>
                </a:lnTo>
                <a:lnTo>
                  <a:pt x="122364" y="1400"/>
                </a:lnTo>
                <a:lnTo>
                  <a:pt x="1400" y="1400"/>
                </a:lnTo>
                <a:close/>
              </a:path>
              <a:path fill="darken" w="123764" h="21600">
                <a:moveTo>
                  <a:pt x="123764" y="0"/>
                </a:moveTo>
                <a:lnTo>
                  <a:pt x="123764" y="21600"/>
                </a:lnTo>
                <a:lnTo>
                  <a:pt x="122364" y="20200"/>
                </a:lnTo>
                <a:lnTo>
                  <a:pt x="122364" y="1400"/>
                </a:lnTo>
                <a:close/>
              </a:path>
              <a:path fill="darkenLess" w="123764" h="21600">
                <a:moveTo>
                  <a:pt x="123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364" y="20200"/>
                </a:lnTo>
                <a:close/>
              </a:path>
              <a:path fill="lighten" w="123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униципальный долг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овокупность долговых обязательств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8000" y="3716280"/>
            <a:ext cx="1727280" cy="12970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8762" h="21600">
                <a:moveTo>
                  <a:pt x="0" y="0"/>
                </a:moveTo>
                <a:lnTo>
                  <a:pt x="28762" y="0"/>
                </a:lnTo>
                <a:lnTo>
                  <a:pt x="28762" y="21600"/>
                </a:lnTo>
                <a:lnTo>
                  <a:pt x="0" y="21600"/>
                </a:lnTo>
                <a:close/>
              </a:path>
              <a:path fill="lightenLess" w="28762" h="21600">
                <a:moveTo>
                  <a:pt x="0" y="0"/>
                </a:moveTo>
                <a:lnTo>
                  <a:pt x="28762" y="0"/>
                </a:lnTo>
                <a:lnTo>
                  <a:pt x="27362" y="1400"/>
                </a:lnTo>
                <a:lnTo>
                  <a:pt x="1400" y="1400"/>
                </a:lnTo>
                <a:close/>
              </a:path>
              <a:path fill="darken" w="28762" h="21600">
                <a:moveTo>
                  <a:pt x="28762" y="0"/>
                </a:moveTo>
                <a:lnTo>
                  <a:pt x="28762" y="21600"/>
                </a:lnTo>
                <a:lnTo>
                  <a:pt x="27362" y="20200"/>
                </a:lnTo>
                <a:lnTo>
                  <a:pt x="27362" y="1400"/>
                </a:lnTo>
                <a:close/>
              </a:path>
              <a:path fill="darkenLess" w="28762" h="21600">
                <a:moveTo>
                  <a:pt x="2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2" y="20200"/>
                </a:lnTo>
                <a:close/>
              </a:path>
              <a:path fill="lighten" w="2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редиты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полученные от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кредитных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организаций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8000" y="3716280"/>
            <a:ext cx="2232360" cy="1297080"/>
          </a:xfrm>
          <a:custGeom>
            <a:avLst/>
            <a:gdLst>
              <a:gd name="textAreaLeft" fmla="*/ 83880 w 2232360"/>
              <a:gd name="textAreaRight" fmla="*/ 2148480 w 223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7171" h="21600">
                <a:moveTo>
                  <a:pt x="0" y="0"/>
                </a:moveTo>
                <a:lnTo>
                  <a:pt x="37171" y="0"/>
                </a:lnTo>
                <a:lnTo>
                  <a:pt x="37171" y="21600"/>
                </a:lnTo>
                <a:lnTo>
                  <a:pt x="0" y="21600"/>
                </a:lnTo>
                <a:close/>
              </a:path>
              <a:path fill="lightenLess" w="37171" h="21600">
                <a:moveTo>
                  <a:pt x="0" y="0"/>
                </a:moveTo>
                <a:lnTo>
                  <a:pt x="37171" y="0"/>
                </a:lnTo>
                <a:lnTo>
                  <a:pt x="35771" y="1400"/>
                </a:lnTo>
                <a:lnTo>
                  <a:pt x="1400" y="1400"/>
                </a:lnTo>
                <a:close/>
              </a:path>
              <a:path fill="darken" w="37171" h="21600">
                <a:moveTo>
                  <a:pt x="37171" y="0"/>
                </a:moveTo>
                <a:lnTo>
                  <a:pt x="37171" y="21600"/>
                </a:lnTo>
                <a:lnTo>
                  <a:pt x="35771" y="20200"/>
                </a:lnTo>
                <a:lnTo>
                  <a:pt x="35771" y="1400"/>
                </a:lnTo>
                <a:close/>
              </a:path>
              <a:path fill="darkenLess" w="37171" h="21600">
                <a:moveTo>
                  <a:pt x="37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71" y="20200"/>
                </a:lnTo>
                <a:close/>
              </a:path>
              <a:path fill="lighten" w="37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ные кредиты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полученные от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бюджетов других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уровней бюджетно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системы РФ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716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униципальные займы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осуществляется путем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выпуска ценных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бумаг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48360" y="3716280"/>
            <a:ext cx="2087640" cy="1297080"/>
          </a:xfrm>
          <a:custGeom>
            <a:avLst/>
            <a:gdLst>
              <a:gd name="textAreaLeft" fmla="*/ 83880 w 2087640"/>
              <a:gd name="textAreaRight" fmla="*/ 2003760 w 20876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4761" h="21600">
                <a:moveTo>
                  <a:pt x="0" y="0"/>
                </a:moveTo>
                <a:lnTo>
                  <a:pt x="34761" y="0"/>
                </a:lnTo>
                <a:lnTo>
                  <a:pt x="34761" y="21600"/>
                </a:lnTo>
                <a:lnTo>
                  <a:pt x="0" y="21600"/>
                </a:lnTo>
                <a:close/>
              </a:path>
              <a:path fill="lightenLess" w="34761" h="21600">
                <a:moveTo>
                  <a:pt x="0" y="0"/>
                </a:moveTo>
                <a:lnTo>
                  <a:pt x="34761" y="0"/>
                </a:lnTo>
                <a:lnTo>
                  <a:pt x="33361" y="1400"/>
                </a:lnTo>
                <a:lnTo>
                  <a:pt x="1400" y="1400"/>
                </a:lnTo>
                <a:close/>
              </a:path>
              <a:path fill="darken" w="34761" h="21600">
                <a:moveTo>
                  <a:pt x="34761" y="0"/>
                </a:moveTo>
                <a:lnTo>
                  <a:pt x="34761" y="21600"/>
                </a:lnTo>
                <a:lnTo>
                  <a:pt x="33361" y="20200"/>
                </a:lnTo>
                <a:lnTo>
                  <a:pt x="33361" y="1400"/>
                </a:lnTo>
                <a:close/>
              </a:path>
              <a:path fill="darkenLess" w="34761" h="21600">
                <a:moveTo>
                  <a:pt x="3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61" y="20200"/>
                </a:lnTo>
                <a:close/>
              </a:path>
              <a:path fill="lighten" w="3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Изменение остатков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на счетах по учету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средств местног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бюджета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2421000"/>
            <a:ext cx="8569080" cy="503280"/>
          </a:xfrm>
          <a:custGeom>
            <a:avLst/>
            <a:gdLst>
              <a:gd name="textAreaLeft" fmla="*/ 32400 w 8569080"/>
              <a:gd name="textAreaRight" fmla="*/ 8536680 w 856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67524" h="21600">
                <a:moveTo>
                  <a:pt x="0" y="0"/>
                </a:moveTo>
                <a:lnTo>
                  <a:pt x="367524" y="0"/>
                </a:lnTo>
                <a:lnTo>
                  <a:pt x="367524" y="21600"/>
                </a:lnTo>
                <a:lnTo>
                  <a:pt x="0" y="21600"/>
                </a:lnTo>
                <a:close/>
              </a:path>
              <a:path fill="lightenLess" w="367524" h="21600">
                <a:moveTo>
                  <a:pt x="0" y="0"/>
                </a:moveTo>
                <a:lnTo>
                  <a:pt x="367524" y="0"/>
                </a:lnTo>
                <a:lnTo>
                  <a:pt x="366124" y="1400"/>
                </a:lnTo>
                <a:lnTo>
                  <a:pt x="1400" y="1400"/>
                </a:lnTo>
                <a:close/>
              </a:path>
              <a:path fill="darken" w="367524" h="21600">
                <a:moveTo>
                  <a:pt x="367524" y="0"/>
                </a:moveTo>
                <a:lnTo>
                  <a:pt x="367524" y="21600"/>
                </a:lnTo>
                <a:lnTo>
                  <a:pt x="366124" y="20200"/>
                </a:lnTo>
                <a:lnTo>
                  <a:pt x="366124" y="1400"/>
                </a:lnTo>
                <a:close/>
              </a:path>
              <a:path fill="darkenLess" w="367524" h="21600">
                <a:moveTo>
                  <a:pt x="36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124" y="20200"/>
                </a:lnTo>
                <a:close/>
              </a:path>
              <a:path fill="lighten" w="36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Источники финансирования дефицита бюджета района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3381480" y="2171160"/>
            <a:ext cx="504720" cy="6477120"/>
          </a:xfrm>
          <a:custGeom>
            <a:avLst/>
            <a:gdLst>
              <a:gd name="textAreaLeft" fmla="*/ 0 w 504720"/>
              <a:gd name="textAreaRight" fmla="*/ 182160 w 50472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119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981000"/>
            <a:ext cx="7416720" cy="129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 процессе принятия и исполнения бюджета большое значени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имеет сбалансированность доходов и расходов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сли доходы превышают расходы, то возникает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цит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сли расходы превышают доходы, то возникает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ефицит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7154400">
            <a:off x="956160" y="3299400"/>
            <a:ext cx="677880" cy="73080"/>
          </a:xfrm>
          <a:custGeom>
            <a:avLst/>
            <a:gdLst>
              <a:gd name="textAreaLeft" fmla="*/ 84600 w 677880"/>
              <a:gd name="textAreaRight" fmla="*/ 593280 w 6778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7287600">
            <a:off x="2756160" y="3299760"/>
            <a:ext cx="677880" cy="72720"/>
          </a:xfrm>
          <a:custGeom>
            <a:avLst/>
            <a:gdLst>
              <a:gd name="textAreaLeft" fmla="*/ 84600 w 677880"/>
              <a:gd name="textAreaRight" fmla="*/ 593280 w 6778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3538800">
            <a:off x="5348880" y="3299760"/>
            <a:ext cx="677880" cy="72720"/>
          </a:xfrm>
          <a:custGeom>
            <a:avLst/>
            <a:gdLst>
              <a:gd name="textAreaLeft" fmla="*/ 84600 w 677880"/>
              <a:gd name="textAreaRight" fmla="*/ 593280 w 6778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 rot="3008400">
            <a:off x="7162560" y="3291840"/>
            <a:ext cx="936720" cy="7272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6093000"/>
            <a:ext cx="7093080" cy="76500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труктура консолидированного бюджета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</a:t>
            </a: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0440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бюджет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1844640"/>
            <a:ext cx="2592360" cy="1224000"/>
          </a:xfrm>
          <a:prstGeom prst="rightArrow">
            <a:avLst>
              <a:gd name="adj1" fmla="val 50000"/>
              <a:gd name="adj2" fmla="val 52949"/>
            </a:avLst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3284640"/>
            <a:ext cx="2592360" cy="1224000"/>
          </a:xfrm>
          <a:prstGeom prst="rightArrow">
            <a:avLst>
              <a:gd name="adj1" fmla="val 50000"/>
              <a:gd name="adj2" fmla="val 52949"/>
            </a:avLst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4724280"/>
            <a:ext cx="2592360" cy="1224000"/>
          </a:xfrm>
          <a:prstGeom prst="rightArrow">
            <a:avLst>
              <a:gd name="adj1" fmla="val 50000"/>
              <a:gd name="adj2" fmla="val 52949"/>
            </a:avLst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132000" y="907920"/>
            <a:ext cx="1656000" cy="79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од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6720" y="907920"/>
            <a:ext cx="1656000" cy="79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од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907920"/>
            <a:ext cx="1655640" cy="79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од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184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5 78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32000" y="328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1 48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79736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3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76720" y="184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7 88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1844640"/>
            <a:ext cx="165564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0 21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76720" y="328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3 48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20000" y="3284640"/>
            <a:ext cx="165564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5 81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76720" y="479736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4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4797360"/>
            <a:ext cx="165564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4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1484280"/>
            <a:ext cx="3419640" cy="865080"/>
          </a:xfrm>
          <a:custGeom>
            <a:avLst/>
            <a:gdLst>
              <a:gd name="textAreaLeft" fmla="*/ 55800 w 3419640"/>
              <a:gd name="textAreaRight" fmla="*/ 3363840 w 341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85358" h="21600">
                <a:moveTo>
                  <a:pt x="0" y="0"/>
                </a:moveTo>
                <a:lnTo>
                  <a:pt x="85358" y="0"/>
                </a:lnTo>
                <a:lnTo>
                  <a:pt x="85358" y="21600"/>
                </a:lnTo>
                <a:lnTo>
                  <a:pt x="0" y="21600"/>
                </a:lnTo>
                <a:close/>
              </a:path>
              <a:path fill="lightenLess" w="85358" h="21600">
                <a:moveTo>
                  <a:pt x="0" y="0"/>
                </a:moveTo>
                <a:lnTo>
                  <a:pt x="85358" y="0"/>
                </a:lnTo>
                <a:lnTo>
                  <a:pt x="83958" y="1400"/>
                </a:lnTo>
                <a:lnTo>
                  <a:pt x="1400" y="1400"/>
                </a:lnTo>
                <a:close/>
              </a:path>
              <a:path fill="darken" w="85358" h="21600">
                <a:moveTo>
                  <a:pt x="85358" y="0"/>
                </a:moveTo>
                <a:lnTo>
                  <a:pt x="85358" y="21600"/>
                </a:lnTo>
                <a:lnTo>
                  <a:pt x="83958" y="20200"/>
                </a:lnTo>
                <a:lnTo>
                  <a:pt x="83958" y="1400"/>
                </a:lnTo>
                <a:close/>
              </a:path>
              <a:path fill="darkenLess" w="85358" h="21600">
                <a:moveTo>
                  <a:pt x="85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958" y="20200"/>
                </a:lnTo>
                <a:close/>
              </a:path>
              <a:path fill="lighten" w="85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именование доход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234936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бственные доход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278136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1300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64500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407664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таци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508640"/>
            <a:ext cx="3419640" cy="43308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70432" h="21600">
                <a:moveTo>
                  <a:pt x="0" y="0"/>
                </a:moveTo>
                <a:lnTo>
                  <a:pt x="170432" y="0"/>
                </a:lnTo>
                <a:lnTo>
                  <a:pt x="170432" y="21600"/>
                </a:lnTo>
                <a:lnTo>
                  <a:pt x="0" y="21600"/>
                </a:lnTo>
                <a:close/>
              </a:path>
              <a:path fill="lightenLess" w="170432" h="21600">
                <a:moveTo>
                  <a:pt x="0" y="0"/>
                </a:moveTo>
                <a:lnTo>
                  <a:pt x="170432" y="0"/>
                </a:lnTo>
                <a:lnTo>
                  <a:pt x="169032" y="1400"/>
                </a:lnTo>
                <a:lnTo>
                  <a:pt x="1400" y="1400"/>
                </a:lnTo>
                <a:close/>
              </a:path>
              <a:path fill="darken" w="170432" h="21600">
                <a:moveTo>
                  <a:pt x="170432" y="0"/>
                </a:moveTo>
                <a:lnTo>
                  <a:pt x="170432" y="21600"/>
                </a:lnTo>
                <a:lnTo>
                  <a:pt x="169032" y="20200"/>
                </a:lnTo>
                <a:lnTo>
                  <a:pt x="169032" y="1400"/>
                </a:lnTo>
                <a:close/>
              </a:path>
              <a:path fill="darkenLess" w="170432" h="21600">
                <a:moveTo>
                  <a:pt x="17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032" y="20200"/>
                </a:lnTo>
                <a:close/>
              </a:path>
              <a:path fill="lighten" w="17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941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бвенци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373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5805360"/>
            <a:ext cx="3419640" cy="1052640"/>
          </a:xfrm>
          <a:custGeom>
            <a:avLst/>
            <a:gdLst>
              <a:gd name="textAreaLeft" fmla="*/ 68040 w 3419640"/>
              <a:gd name="textAreaRight" fmla="*/ 3351600 w 341964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70154" h="21600">
                <a:moveTo>
                  <a:pt x="0" y="0"/>
                </a:moveTo>
                <a:lnTo>
                  <a:pt x="70154" y="0"/>
                </a:lnTo>
                <a:lnTo>
                  <a:pt x="70154" y="21600"/>
                </a:lnTo>
                <a:lnTo>
                  <a:pt x="0" y="21600"/>
                </a:lnTo>
                <a:close/>
              </a:path>
              <a:path fill="lightenLess" w="70154" h="21600">
                <a:moveTo>
                  <a:pt x="0" y="0"/>
                </a:moveTo>
                <a:lnTo>
                  <a:pt x="70154" y="0"/>
                </a:lnTo>
                <a:lnTo>
                  <a:pt x="68754" y="1400"/>
                </a:lnTo>
                <a:lnTo>
                  <a:pt x="1400" y="1400"/>
                </a:lnTo>
                <a:close/>
              </a:path>
              <a:path fill="darken" w="70154" h="21600">
                <a:moveTo>
                  <a:pt x="70154" y="0"/>
                </a:moveTo>
                <a:lnTo>
                  <a:pt x="70154" y="21600"/>
                </a:lnTo>
                <a:lnTo>
                  <a:pt x="68754" y="20200"/>
                </a:lnTo>
                <a:lnTo>
                  <a:pt x="68754" y="1400"/>
                </a:lnTo>
                <a:close/>
              </a:path>
              <a:path fill="darkenLess" w="70154" h="21600">
                <a:moveTo>
                  <a:pt x="70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4" y="20200"/>
                </a:lnTo>
                <a:close/>
              </a:path>
              <a:path fill="lighten" w="70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19640" y="1484280"/>
            <a:ext cx="1439640" cy="865080"/>
          </a:xfrm>
          <a:custGeom>
            <a:avLst/>
            <a:gdLst>
              <a:gd name="textAreaLeft" fmla="*/ 55800 w 1439640"/>
              <a:gd name="textAreaRight" fmla="*/ 1383840 w 143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940" h="21600">
                <a:moveTo>
                  <a:pt x="0" y="0"/>
                </a:moveTo>
                <a:lnTo>
                  <a:pt x="35940" y="0"/>
                </a:lnTo>
                <a:lnTo>
                  <a:pt x="35940" y="21600"/>
                </a:lnTo>
                <a:lnTo>
                  <a:pt x="0" y="21600"/>
                </a:lnTo>
                <a:close/>
              </a:path>
              <a:path fill="lightenLess" w="35940" h="21600">
                <a:moveTo>
                  <a:pt x="0" y="0"/>
                </a:moveTo>
                <a:lnTo>
                  <a:pt x="35940" y="0"/>
                </a:lnTo>
                <a:lnTo>
                  <a:pt x="34540" y="1400"/>
                </a:lnTo>
                <a:lnTo>
                  <a:pt x="1400" y="1400"/>
                </a:lnTo>
                <a:close/>
              </a:path>
              <a:path fill="darken" w="35940" h="21600">
                <a:moveTo>
                  <a:pt x="35940" y="0"/>
                </a:moveTo>
                <a:lnTo>
                  <a:pt x="35940" y="21600"/>
                </a:lnTo>
                <a:lnTo>
                  <a:pt x="34540" y="20200"/>
                </a:lnTo>
                <a:lnTo>
                  <a:pt x="34540" y="1400"/>
                </a:lnTo>
                <a:close/>
              </a:path>
              <a:path fill="darkenLess" w="35940" h="21600">
                <a:moveTo>
                  <a:pt x="35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0" y="20200"/>
                </a:lnTo>
                <a:close/>
              </a:path>
              <a:path fill="lighten" w="35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00720" y="1484280"/>
            <a:ext cx="1438200" cy="865080"/>
          </a:xfrm>
          <a:custGeom>
            <a:avLst/>
            <a:gdLst>
              <a:gd name="textAreaLeft" fmla="*/ 55800 w 1438200"/>
              <a:gd name="textAreaRight" fmla="*/ 1382400 w 14382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40720" y="1484280"/>
            <a:ext cx="1403280" cy="865080"/>
          </a:xfrm>
          <a:custGeom>
            <a:avLst/>
            <a:gdLst>
              <a:gd name="textAreaLeft" fmla="*/ 55800 w 1403280"/>
              <a:gd name="textAreaRight" fmla="*/ 1347480 w 1403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033" h="21600">
                <a:moveTo>
                  <a:pt x="0" y="0"/>
                </a:moveTo>
                <a:lnTo>
                  <a:pt x="35033" y="0"/>
                </a:lnTo>
                <a:lnTo>
                  <a:pt x="35033" y="21600"/>
                </a:lnTo>
                <a:lnTo>
                  <a:pt x="0" y="21600"/>
                </a:lnTo>
                <a:close/>
              </a:path>
              <a:path fill="lightenLess" w="35033" h="21600">
                <a:moveTo>
                  <a:pt x="0" y="0"/>
                </a:moveTo>
                <a:lnTo>
                  <a:pt x="35033" y="0"/>
                </a:lnTo>
                <a:lnTo>
                  <a:pt x="33633" y="1400"/>
                </a:lnTo>
                <a:lnTo>
                  <a:pt x="1400" y="1400"/>
                </a:lnTo>
                <a:close/>
              </a:path>
              <a:path fill="darken" w="35033" h="21600">
                <a:moveTo>
                  <a:pt x="35033" y="0"/>
                </a:moveTo>
                <a:lnTo>
                  <a:pt x="35033" y="21600"/>
                </a:lnTo>
                <a:lnTo>
                  <a:pt x="33633" y="20200"/>
                </a:lnTo>
                <a:lnTo>
                  <a:pt x="33633" y="1400"/>
                </a:lnTo>
                <a:close/>
              </a:path>
              <a:path fill="darkenLess" w="35033" h="21600">
                <a:moveTo>
                  <a:pt x="35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33" y="20200"/>
                </a:lnTo>
                <a:close/>
              </a:path>
              <a:path fill="lighten" w="35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59280" y="1484280"/>
            <a:ext cx="1440000" cy="865080"/>
          </a:xfrm>
          <a:custGeom>
            <a:avLst/>
            <a:gdLst>
              <a:gd name="textAreaLeft" fmla="*/ 55800 w 1440000"/>
              <a:gd name="textAreaRight" fmla="*/ 1384200 w 1440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949" h="21600">
                <a:moveTo>
                  <a:pt x="0" y="0"/>
                </a:moveTo>
                <a:lnTo>
                  <a:pt x="35949" y="0"/>
                </a:lnTo>
                <a:lnTo>
                  <a:pt x="35949" y="21600"/>
                </a:lnTo>
                <a:lnTo>
                  <a:pt x="0" y="21600"/>
                </a:lnTo>
                <a:close/>
              </a:path>
              <a:path fill="lightenLess" w="35949" h="21600">
                <a:moveTo>
                  <a:pt x="0" y="0"/>
                </a:moveTo>
                <a:lnTo>
                  <a:pt x="35949" y="0"/>
                </a:lnTo>
                <a:lnTo>
                  <a:pt x="34549" y="1400"/>
                </a:lnTo>
                <a:lnTo>
                  <a:pt x="1400" y="1400"/>
                </a:lnTo>
                <a:close/>
              </a:path>
              <a:path fill="darken" w="35949" h="21600">
                <a:moveTo>
                  <a:pt x="35949" y="0"/>
                </a:moveTo>
                <a:lnTo>
                  <a:pt x="35949" y="21600"/>
                </a:lnTo>
                <a:lnTo>
                  <a:pt x="34549" y="20200"/>
                </a:lnTo>
                <a:lnTo>
                  <a:pt x="34549" y="1400"/>
                </a:lnTo>
                <a:close/>
              </a:path>
              <a:path fill="darkenLess" w="35949" h="21600">
                <a:moveTo>
                  <a:pt x="35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9" y="20200"/>
                </a:lnTo>
                <a:close/>
              </a:path>
              <a:path fill="lighten" w="35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дельный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с, (%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19640" y="234936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5 36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9640" y="278136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9 49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19640" y="364500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50 42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19640" y="407664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39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4508640"/>
            <a:ext cx="1439640" cy="43308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61" h="21600">
                <a:moveTo>
                  <a:pt x="0" y="0"/>
                </a:moveTo>
                <a:lnTo>
                  <a:pt x="71761" y="0"/>
                </a:lnTo>
                <a:lnTo>
                  <a:pt x="71761" y="21600"/>
                </a:lnTo>
                <a:lnTo>
                  <a:pt x="0" y="21600"/>
                </a:lnTo>
                <a:close/>
              </a:path>
              <a:path fill="lightenLess" w="71761" h="21600">
                <a:moveTo>
                  <a:pt x="0" y="0"/>
                </a:moveTo>
                <a:lnTo>
                  <a:pt x="71761" y="0"/>
                </a:lnTo>
                <a:lnTo>
                  <a:pt x="70361" y="1400"/>
                </a:lnTo>
                <a:lnTo>
                  <a:pt x="1400" y="1400"/>
                </a:lnTo>
                <a:close/>
              </a:path>
              <a:path fill="darken" w="71761" h="21600">
                <a:moveTo>
                  <a:pt x="71761" y="0"/>
                </a:moveTo>
                <a:lnTo>
                  <a:pt x="71761" y="21600"/>
                </a:lnTo>
                <a:lnTo>
                  <a:pt x="70361" y="20200"/>
                </a:lnTo>
                <a:lnTo>
                  <a:pt x="70361" y="1400"/>
                </a:lnTo>
                <a:close/>
              </a:path>
              <a:path fill="darkenLess" w="71761" h="21600">
                <a:moveTo>
                  <a:pt x="7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61" y="20200"/>
                </a:lnTo>
                <a:close/>
              </a:path>
              <a:path fill="lighten" w="7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 93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19640" y="4941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5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19640" y="321300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87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19640" y="5373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86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19640" y="5805360"/>
            <a:ext cx="1439640" cy="1052640"/>
          </a:xfrm>
          <a:custGeom>
            <a:avLst/>
            <a:gdLst>
              <a:gd name="textAreaLeft" fmla="*/ 68040 w 1439640"/>
              <a:gd name="textAreaRight" fmla="*/ 1371600 w 143964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9538" h="21600">
                <a:moveTo>
                  <a:pt x="0" y="0"/>
                </a:moveTo>
                <a:lnTo>
                  <a:pt x="29538" y="0"/>
                </a:lnTo>
                <a:lnTo>
                  <a:pt x="29538" y="21600"/>
                </a:lnTo>
                <a:lnTo>
                  <a:pt x="0" y="21600"/>
                </a:lnTo>
                <a:close/>
              </a:path>
              <a:path fill="lightenLess" w="29538" h="21600">
                <a:moveTo>
                  <a:pt x="0" y="0"/>
                </a:moveTo>
                <a:lnTo>
                  <a:pt x="29538" y="0"/>
                </a:lnTo>
                <a:lnTo>
                  <a:pt x="28139" y="1400"/>
                </a:lnTo>
                <a:lnTo>
                  <a:pt x="1400" y="1400"/>
                </a:lnTo>
                <a:close/>
              </a:path>
              <a:path fill="darken" w="29538" h="21600">
                <a:moveTo>
                  <a:pt x="29538" y="0"/>
                </a:moveTo>
                <a:lnTo>
                  <a:pt x="29538" y="21600"/>
                </a:lnTo>
                <a:lnTo>
                  <a:pt x="28139" y="20200"/>
                </a:lnTo>
                <a:lnTo>
                  <a:pt x="28139" y="1400"/>
                </a:lnTo>
                <a:close/>
              </a:path>
              <a:path fill="darkenLess" w="29538" h="21600">
                <a:moveTo>
                  <a:pt x="2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39" y="20200"/>
                </a:lnTo>
                <a:close/>
              </a:path>
              <a:path fill="lighten" w="2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25 78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2349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2781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59280" y="3213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59280" y="3645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2,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407664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,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59280" y="450864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49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,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5373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59280" y="5805360"/>
            <a:ext cx="1440000" cy="1052640"/>
          </a:xfrm>
          <a:custGeom>
            <a:avLst/>
            <a:gdLst>
              <a:gd name="textAreaLeft" fmla="*/ 68040 w 1440000"/>
              <a:gd name="textAreaRight" fmla="*/ 1371960 w 1440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9546" h="21600">
                <a:moveTo>
                  <a:pt x="0" y="0"/>
                </a:moveTo>
                <a:lnTo>
                  <a:pt x="29546" y="0"/>
                </a:lnTo>
                <a:lnTo>
                  <a:pt x="29546" y="21600"/>
                </a:lnTo>
                <a:lnTo>
                  <a:pt x="0" y="21600"/>
                </a:lnTo>
                <a:close/>
              </a:path>
              <a:path fill="lightenLess" w="29546" h="21600">
                <a:moveTo>
                  <a:pt x="0" y="0"/>
                </a:moveTo>
                <a:lnTo>
                  <a:pt x="29546" y="0"/>
                </a:lnTo>
                <a:lnTo>
                  <a:pt x="28146" y="1400"/>
                </a:lnTo>
                <a:lnTo>
                  <a:pt x="1400" y="1400"/>
                </a:lnTo>
                <a:close/>
              </a:path>
              <a:path fill="darken" w="29546" h="21600">
                <a:moveTo>
                  <a:pt x="29546" y="0"/>
                </a:moveTo>
                <a:lnTo>
                  <a:pt x="29546" y="21600"/>
                </a:lnTo>
                <a:lnTo>
                  <a:pt x="28146" y="20200"/>
                </a:lnTo>
                <a:lnTo>
                  <a:pt x="28146" y="1400"/>
                </a:lnTo>
                <a:close/>
              </a:path>
              <a:path fill="darkenLess" w="29546" h="21600">
                <a:moveTo>
                  <a:pt x="2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46" y="20200"/>
                </a:lnTo>
                <a:close/>
              </a:path>
              <a:path fill="lighten" w="2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,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2349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4 21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00720" y="2781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 16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00720" y="3213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04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00720" y="3645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3 66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00720" y="407664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08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00720" y="450864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95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00720" y="49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9 76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00720" y="5373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86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00720" y="5805360"/>
            <a:ext cx="1440000" cy="1052640"/>
          </a:xfrm>
          <a:custGeom>
            <a:avLst/>
            <a:gdLst>
              <a:gd name="textAreaLeft" fmla="*/ 68040 w 1440000"/>
              <a:gd name="textAreaRight" fmla="*/ 1371960 w 1440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9546" h="21600">
                <a:moveTo>
                  <a:pt x="0" y="0"/>
                </a:moveTo>
                <a:lnTo>
                  <a:pt x="29546" y="0"/>
                </a:lnTo>
                <a:lnTo>
                  <a:pt x="29546" y="21600"/>
                </a:lnTo>
                <a:lnTo>
                  <a:pt x="0" y="21600"/>
                </a:lnTo>
                <a:close/>
              </a:path>
              <a:path fill="lightenLess" w="29546" h="21600">
                <a:moveTo>
                  <a:pt x="0" y="0"/>
                </a:moveTo>
                <a:lnTo>
                  <a:pt x="29546" y="0"/>
                </a:lnTo>
                <a:lnTo>
                  <a:pt x="28146" y="1400"/>
                </a:lnTo>
                <a:lnTo>
                  <a:pt x="1400" y="1400"/>
                </a:lnTo>
                <a:close/>
              </a:path>
              <a:path fill="darken" w="29546" h="21600">
                <a:moveTo>
                  <a:pt x="29546" y="0"/>
                </a:moveTo>
                <a:lnTo>
                  <a:pt x="29546" y="21600"/>
                </a:lnTo>
                <a:lnTo>
                  <a:pt x="28146" y="20200"/>
                </a:lnTo>
                <a:lnTo>
                  <a:pt x="28146" y="1400"/>
                </a:lnTo>
                <a:close/>
              </a:path>
              <a:path fill="darkenLess" w="29546" h="21600">
                <a:moveTo>
                  <a:pt x="2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46" y="20200"/>
                </a:lnTo>
                <a:close/>
              </a:path>
              <a:path fill="lighten" w="2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7 88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234936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9 79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40720" y="278136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3 66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740720" y="321300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12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740720" y="364500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0 42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740720" y="407664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1 92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40720" y="4508640"/>
            <a:ext cx="1403280" cy="43308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69949" h="21600">
                <a:moveTo>
                  <a:pt x="0" y="0"/>
                </a:moveTo>
                <a:lnTo>
                  <a:pt x="69949" y="0"/>
                </a:lnTo>
                <a:lnTo>
                  <a:pt x="69949" y="21600"/>
                </a:lnTo>
                <a:lnTo>
                  <a:pt x="0" y="21600"/>
                </a:lnTo>
                <a:close/>
              </a:path>
              <a:path fill="lightenLess" w="69949" h="21600">
                <a:moveTo>
                  <a:pt x="0" y="0"/>
                </a:moveTo>
                <a:lnTo>
                  <a:pt x="69949" y="0"/>
                </a:lnTo>
                <a:lnTo>
                  <a:pt x="68549" y="1400"/>
                </a:lnTo>
                <a:lnTo>
                  <a:pt x="1400" y="1400"/>
                </a:lnTo>
                <a:close/>
              </a:path>
              <a:path fill="darken" w="69949" h="21600">
                <a:moveTo>
                  <a:pt x="69949" y="0"/>
                </a:moveTo>
                <a:lnTo>
                  <a:pt x="69949" y="21600"/>
                </a:lnTo>
                <a:lnTo>
                  <a:pt x="68549" y="20200"/>
                </a:lnTo>
                <a:lnTo>
                  <a:pt x="68549" y="1400"/>
                </a:lnTo>
                <a:close/>
              </a:path>
              <a:path fill="darkenLess" w="69949" h="21600">
                <a:moveTo>
                  <a:pt x="69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49" y="20200"/>
                </a:lnTo>
                <a:close/>
              </a:path>
              <a:path fill="lighten" w="69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95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740720" y="4941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9 67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740720" y="5805360"/>
            <a:ext cx="1403280" cy="1052640"/>
          </a:xfrm>
          <a:custGeom>
            <a:avLst/>
            <a:gdLst>
              <a:gd name="textAreaLeft" fmla="*/ 68040 w 1403280"/>
              <a:gd name="textAreaRight" fmla="*/ 1335240 w 1403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793" h="21600">
                <a:moveTo>
                  <a:pt x="0" y="0"/>
                </a:moveTo>
                <a:lnTo>
                  <a:pt x="28793" y="0"/>
                </a:lnTo>
                <a:lnTo>
                  <a:pt x="28793" y="21600"/>
                </a:lnTo>
                <a:lnTo>
                  <a:pt x="0" y="21600"/>
                </a:lnTo>
                <a:close/>
              </a:path>
              <a:path fill="lightenLess" w="28793" h="21600">
                <a:moveTo>
                  <a:pt x="0" y="0"/>
                </a:moveTo>
                <a:lnTo>
                  <a:pt x="28793" y="0"/>
                </a:lnTo>
                <a:lnTo>
                  <a:pt x="27393" y="1400"/>
                </a:lnTo>
                <a:lnTo>
                  <a:pt x="1400" y="1400"/>
                </a:lnTo>
                <a:close/>
              </a:path>
              <a:path fill="darken" w="28793" h="21600">
                <a:moveTo>
                  <a:pt x="28793" y="0"/>
                </a:moveTo>
                <a:lnTo>
                  <a:pt x="28793" y="21600"/>
                </a:lnTo>
                <a:lnTo>
                  <a:pt x="27393" y="20200"/>
                </a:lnTo>
                <a:lnTo>
                  <a:pt x="27393" y="1400"/>
                </a:lnTo>
                <a:close/>
              </a:path>
              <a:path fill="darkenLess" w="28793" h="21600">
                <a:moveTo>
                  <a:pt x="28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3" y="20200"/>
                </a:lnTo>
                <a:close/>
              </a:path>
              <a:path fill="lighten" w="28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10 21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740720" y="5373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86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1484280"/>
          </a:xfrm>
          <a:custGeom>
            <a:avLst/>
            <a:gdLst>
              <a:gd name="textAreaLeft" fmla="*/ 96120 w 9144000"/>
              <a:gd name="textAreaRight" fmla="*/ 9047880 w 9144000"/>
              <a:gd name="textAreaTop" fmla="*/ 96120 h 1484280"/>
              <a:gd name="textAreaBottom" fmla="*/ 1388160 h 1484280"/>
            </a:gdLst>
            <a:ahLst/>
            <a:rect l="textAreaLeft" t="textAreaTop" r="textAreaRight" b="textAreaBottom"/>
            <a:pathLst>
              <a:path w="133041" h="21600">
                <a:moveTo>
                  <a:pt x="0" y="0"/>
                </a:moveTo>
                <a:lnTo>
                  <a:pt x="133041" y="0"/>
                </a:lnTo>
                <a:lnTo>
                  <a:pt x="133041" y="21600"/>
                </a:lnTo>
                <a:lnTo>
                  <a:pt x="0" y="21600"/>
                </a:lnTo>
                <a:close/>
              </a:path>
              <a:path fill="lightenLess" w="133041" h="21600">
                <a:moveTo>
                  <a:pt x="0" y="0"/>
                </a:moveTo>
                <a:lnTo>
                  <a:pt x="133041" y="0"/>
                </a:lnTo>
                <a:lnTo>
                  <a:pt x="131641" y="1400"/>
                </a:lnTo>
                <a:lnTo>
                  <a:pt x="1400" y="1400"/>
                </a:lnTo>
                <a:close/>
              </a:path>
              <a:path fill="darken" w="133041" h="21600">
                <a:moveTo>
                  <a:pt x="133041" y="0"/>
                </a:moveTo>
                <a:lnTo>
                  <a:pt x="133041" y="21600"/>
                </a:lnTo>
                <a:lnTo>
                  <a:pt x="131641" y="20200"/>
                </a:lnTo>
                <a:lnTo>
                  <a:pt x="131641" y="1400"/>
                </a:lnTo>
                <a:close/>
              </a:path>
              <a:path fill="darkenLess" w="133041" h="21600">
                <a:moveTo>
                  <a:pt x="133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41" y="20200"/>
                </a:lnTo>
                <a:close/>
              </a:path>
              <a:path fill="lighten" w="133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руктура доходов консолидированного бюджет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униципального образования «Зырянский район»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9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0440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бюджет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237360"/>
            <a:ext cx="5076720" cy="620640"/>
          </a:xfrm>
          <a:prstGeom prst="bevel">
            <a:avLst>
              <a:gd name="adj" fmla="val 125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а бюджета райо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16360" y="3645000"/>
            <a:ext cx="3240000" cy="2305080"/>
          </a:xfrm>
          <a:custGeom>
            <a:avLst/>
            <a:gdLst>
              <a:gd name="textAreaLeft" fmla="*/ 149400 w 3240000"/>
              <a:gd name="textAreaRight" fmla="*/ 3090600 w 3240000"/>
              <a:gd name="textAreaTop" fmla="*/ 149400 h 2305080"/>
              <a:gd name="textAreaBottom" fmla="*/ 2155680 h 2305080"/>
            </a:gdLst>
            <a:ahLst/>
            <a:rect l="textAreaLeft" t="textAreaTop" r="textAreaRight" b="textAreaBottom"/>
            <a:pathLst>
              <a:path w="30359" h="21600">
                <a:moveTo>
                  <a:pt x="0" y="0"/>
                </a:moveTo>
                <a:lnTo>
                  <a:pt x="30359" y="0"/>
                </a:lnTo>
                <a:lnTo>
                  <a:pt x="30359" y="21600"/>
                </a:lnTo>
                <a:lnTo>
                  <a:pt x="0" y="21600"/>
                </a:lnTo>
                <a:close/>
              </a:path>
              <a:path fill="lightenLess" w="30359" h="21600">
                <a:moveTo>
                  <a:pt x="0" y="0"/>
                </a:moveTo>
                <a:lnTo>
                  <a:pt x="30359" y="0"/>
                </a:lnTo>
                <a:lnTo>
                  <a:pt x="28959" y="1400"/>
                </a:lnTo>
                <a:lnTo>
                  <a:pt x="1400" y="1400"/>
                </a:lnTo>
                <a:close/>
              </a:path>
              <a:path fill="darken" w="30359" h="21600">
                <a:moveTo>
                  <a:pt x="30359" y="0"/>
                </a:moveTo>
                <a:lnTo>
                  <a:pt x="30359" y="21600"/>
                </a:lnTo>
                <a:lnTo>
                  <a:pt x="28959" y="20200"/>
                </a:lnTo>
                <a:lnTo>
                  <a:pt x="28959" y="1400"/>
                </a:lnTo>
                <a:close/>
              </a:path>
              <a:path fill="darkenLess" w="30359" h="21600">
                <a:moveTo>
                  <a:pt x="30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59" y="20200"/>
                </a:lnTo>
                <a:close/>
              </a:path>
              <a:path fill="lighten" w="30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30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40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4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3780000" y="2133720"/>
            <a:ext cx="1584000" cy="122544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3241440" cy="2305080"/>
          </a:xfrm>
          <a:custGeom>
            <a:avLst/>
            <a:gdLst>
              <a:gd name="textAreaLeft" fmla="*/ 149400 w 3241440"/>
              <a:gd name="textAreaRight" fmla="*/ 3092040 w 3241440"/>
              <a:gd name="textAreaTop" fmla="*/ 149400 h 2305080"/>
              <a:gd name="textAreaBottom" fmla="*/ 2155680 h 2305080"/>
            </a:gdLst>
            <a:ahLst/>
            <a:rect l="textAreaLeft" t="textAreaTop" r="textAreaRight" b="textAreaBottom"/>
            <a:pathLst>
              <a:path w="30373" h="21600">
                <a:moveTo>
                  <a:pt x="0" y="0"/>
                </a:moveTo>
                <a:lnTo>
                  <a:pt x="30373" y="0"/>
                </a:lnTo>
                <a:lnTo>
                  <a:pt x="30373" y="21600"/>
                </a:lnTo>
                <a:lnTo>
                  <a:pt x="0" y="21600"/>
                </a:lnTo>
                <a:close/>
              </a:path>
              <a:path fill="lightenLess" w="30373" h="21600">
                <a:moveTo>
                  <a:pt x="0" y="0"/>
                </a:moveTo>
                <a:lnTo>
                  <a:pt x="30373" y="0"/>
                </a:lnTo>
                <a:lnTo>
                  <a:pt x="28973" y="1400"/>
                </a:lnTo>
                <a:lnTo>
                  <a:pt x="1400" y="1400"/>
                </a:lnTo>
                <a:close/>
              </a:path>
              <a:path fill="darken" w="30373" h="21600">
                <a:moveTo>
                  <a:pt x="30373" y="0"/>
                </a:moveTo>
                <a:lnTo>
                  <a:pt x="30373" y="21600"/>
                </a:lnTo>
                <a:lnTo>
                  <a:pt x="28973" y="20200"/>
                </a:lnTo>
                <a:lnTo>
                  <a:pt x="28973" y="1400"/>
                </a:lnTo>
                <a:close/>
              </a:path>
              <a:path fill="darkenLess" w="30373" h="21600">
                <a:moveTo>
                  <a:pt x="3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3" y="20200"/>
                </a:lnTo>
                <a:close/>
              </a:path>
              <a:path fill="lighten" w="3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3 497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4 55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5 396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651640" y="1268280"/>
            <a:ext cx="3241440" cy="2305080"/>
          </a:xfrm>
          <a:custGeom>
            <a:avLst/>
            <a:gdLst>
              <a:gd name="textAreaLeft" fmla="*/ 149400 w 3241440"/>
              <a:gd name="textAreaRight" fmla="*/ 3092040 w 3241440"/>
              <a:gd name="textAreaTop" fmla="*/ 149400 h 2305080"/>
              <a:gd name="textAreaBottom" fmla="*/ 2155680 h 2305080"/>
            </a:gdLst>
            <a:ahLst/>
            <a:rect l="textAreaLeft" t="textAreaTop" r="textAreaRight" b="textAreaBottom"/>
            <a:pathLst>
              <a:path w="30373" h="21600">
                <a:moveTo>
                  <a:pt x="0" y="0"/>
                </a:moveTo>
                <a:lnTo>
                  <a:pt x="30373" y="0"/>
                </a:lnTo>
                <a:lnTo>
                  <a:pt x="30373" y="21600"/>
                </a:lnTo>
                <a:lnTo>
                  <a:pt x="0" y="21600"/>
                </a:lnTo>
                <a:close/>
              </a:path>
              <a:path fill="lightenLess" w="30373" h="21600">
                <a:moveTo>
                  <a:pt x="0" y="0"/>
                </a:moveTo>
                <a:lnTo>
                  <a:pt x="30373" y="0"/>
                </a:lnTo>
                <a:lnTo>
                  <a:pt x="28973" y="1400"/>
                </a:lnTo>
                <a:lnTo>
                  <a:pt x="1400" y="1400"/>
                </a:lnTo>
                <a:close/>
              </a:path>
              <a:path fill="darken" w="30373" h="21600">
                <a:moveTo>
                  <a:pt x="30373" y="0"/>
                </a:moveTo>
                <a:lnTo>
                  <a:pt x="30373" y="21600"/>
                </a:lnTo>
                <a:lnTo>
                  <a:pt x="28973" y="20200"/>
                </a:lnTo>
                <a:lnTo>
                  <a:pt x="28973" y="1400"/>
                </a:lnTo>
                <a:close/>
              </a:path>
              <a:path fill="darkenLess" w="30373" h="21600">
                <a:moveTo>
                  <a:pt x="3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3" y="20200"/>
                </a:lnTo>
                <a:close/>
              </a:path>
              <a:path fill="lighten" w="3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9 197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0 15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0 99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052640"/>
            <a:ext cx="3419640" cy="1008000"/>
          </a:xfrm>
          <a:custGeom>
            <a:avLst/>
            <a:gdLst>
              <a:gd name="textAreaLeft" fmla="*/ 65160 w 3419640"/>
              <a:gd name="textAreaRight" fmla="*/ 3354480 w 341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73260" h="21600">
                <a:moveTo>
                  <a:pt x="0" y="0"/>
                </a:moveTo>
                <a:lnTo>
                  <a:pt x="73260" y="0"/>
                </a:lnTo>
                <a:lnTo>
                  <a:pt x="73260" y="21600"/>
                </a:lnTo>
                <a:lnTo>
                  <a:pt x="0" y="21600"/>
                </a:lnTo>
                <a:close/>
              </a:path>
              <a:path fill="lightenLess" w="73260" h="21600">
                <a:moveTo>
                  <a:pt x="0" y="0"/>
                </a:moveTo>
                <a:lnTo>
                  <a:pt x="73260" y="0"/>
                </a:lnTo>
                <a:lnTo>
                  <a:pt x="71860" y="1400"/>
                </a:lnTo>
                <a:lnTo>
                  <a:pt x="1400" y="1400"/>
                </a:lnTo>
                <a:close/>
              </a:path>
              <a:path fill="darken" w="73260" h="21600">
                <a:moveTo>
                  <a:pt x="73260" y="0"/>
                </a:moveTo>
                <a:lnTo>
                  <a:pt x="73260" y="21600"/>
                </a:lnTo>
                <a:lnTo>
                  <a:pt x="71860" y="20200"/>
                </a:lnTo>
                <a:lnTo>
                  <a:pt x="71860" y="1400"/>
                </a:lnTo>
                <a:close/>
              </a:path>
              <a:path fill="darkenLess" w="73260" h="21600">
                <a:moveTo>
                  <a:pt x="7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860" y="20200"/>
                </a:lnTo>
                <a:close/>
              </a:path>
              <a:path fill="lighten" w="7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именование доходов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19640" y="105264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59280" y="105264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дельны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с, (%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00720" y="1052640"/>
            <a:ext cx="1438200" cy="1008000"/>
          </a:xfrm>
          <a:custGeom>
            <a:avLst/>
            <a:gdLst>
              <a:gd name="textAreaLeft" fmla="*/ 65160 w 1438200"/>
              <a:gd name="textAreaRight" fmla="*/ 1373040 w 14382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15" h="21600">
                <a:moveTo>
                  <a:pt x="0" y="0"/>
                </a:moveTo>
                <a:lnTo>
                  <a:pt x="30815" y="0"/>
                </a:lnTo>
                <a:lnTo>
                  <a:pt x="30815" y="21600"/>
                </a:lnTo>
                <a:lnTo>
                  <a:pt x="0" y="21600"/>
                </a:lnTo>
                <a:close/>
              </a:path>
              <a:path fill="lightenLess" w="30815" h="21600">
                <a:moveTo>
                  <a:pt x="0" y="0"/>
                </a:moveTo>
                <a:lnTo>
                  <a:pt x="30815" y="0"/>
                </a:lnTo>
                <a:lnTo>
                  <a:pt x="29415" y="1400"/>
                </a:lnTo>
                <a:lnTo>
                  <a:pt x="1400" y="1400"/>
                </a:lnTo>
                <a:close/>
              </a:path>
              <a:path fill="darken" w="30815" h="21600">
                <a:moveTo>
                  <a:pt x="30815" y="0"/>
                </a:moveTo>
                <a:lnTo>
                  <a:pt x="30815" y="21600"/>
                </a:lnTo>
                <a:lnTo>
                  <a:pt x="29415" y="20200"/>
                </a:lnTo>
                <a:lnTo>
                  <a:pt x="29415" y="1400"/>
                </a:lnTo>
                <a:close/>
              </a:path>
              <a:path fill="darkenLess" w="30815" h="21600">
                <a:moveTo>
                  <a:pt x="30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15" y="20200"/>
                </a:lnTo>
                <a:close/>
              </a:path>
              <a:path fill="lighten" w="30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40720" y="1052640"/>
            <a:ext cx="1403280" cy="1008000"/>
          </a:xfrm>
          <a:custGeom>
            <a:avLst/>
            <a:gdLst>
              <a:gd name="textAreaLeft" fmla="*/ 65160 w 1403280"/>
              <a:gd name="textAreaRight" fmla="*/ 1338120 w 1403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067" h="21600">
                <a:moveTo>
                  <a:pt x="0" y="0"/>
                </a:moveTo>
                <a:lnTo>
                  <a:pt x="30067" y="0"/>
                </a:lnTo>
                <a:lnTo>
                  <a:pt x="30067" y="21600"/>
                </a:lnTo>
                <a:lnTo>
                  <a:pt x="0" y="21600"/>
                </a:lnTo>
                <a:close/>
              </a:path>
              <a:path fill="lightenLess" w="30067" h="21600">
                <a:moveTo>
                  <a:pt x="0" y="0"/>
                </a:moveTo>
                <a:lnTo>
                  <a:pt x="30067" y="0"/>
                </a:lnTo>
                <a:lnTo>
                  <a:pt x="28667" y="1400"/>
                </a:lnTo>
                <a:lnTo>
                  <a:pt x="1400" y="1400"/>
                </a:lnTo>
                <a:close/>
              </a:path>
              <a:path fill="darken" w="30067" h="21600">
                <a:moveTo>
                  <a:pt x="30067" y="0"/>
                </a:moveTo>
                <a:lnTo>
                  <a:pt x="30067" y="21600"/>
                </a:lnTo>
                <a:lnTo>
                  <a:pt x="28667" y="20200"/>
                </a:lnTo>
                <a:lnTo>
                  <a:pt x="28667" y="1400"/>
                </a:lnTo>
                <a:close/>
              </a:path>
              <a:path fill="darkenLess" w="30067" h="21600">
                <a:moveTo>
                  <a:pt x="30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67" y="20200"/>
                </a:lnTo>
                <a:close/>
              </a:path>
              <a:path fill="lighten" w="30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060640"/>
            <a:ext cx="3419640" cy="649080"/>
          </a:xfrm>
          <a:custGeom>
            <a:avLst/>
            <a:gdLst>
              <a:gd name="textAreaLeft" fmla="*/ 41760 w 3419640"/>
              <a:gd name="textAreaRight" fmla="*/ 3377880 w 3419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13747" h="21600">
                <a:moveTo>
                  <a:pt x="0" y="0"/>
                </a:moveTo>
                <a:lnTo>
                  <a:pt x="113747" y="0"/>
                </a:lnTo>
                <a:lnTo>
                  <a:pt x="113747" y="21600"/>
                </a:lnTo>
                <a:lnTo>
                  <a:pt x="0" y="21600"/>
                </a:lnTo>
                <a:close/>
              </a:path>
              <a:path fill="lightenLess" w="113747" h="21600">
                <a:moveTo>
                  <a:pt x="0" y="0"/>
                </a:moveTo>
                <a:lnTo>
                  <a:pt x="113747" y="0"/>
                </a:lnTo>
                <a:lnTo>
                  <a:pt x="112347" y="1400"/>
                </a:lnTo>
                <a:lnTo>
                  <a:pt x="1400" y="1400"/>
                </a:lnTo>
                <a:close/>
              </a:path>
              <a:path fill="darken" w="113747" h="21600">
                <a:moveTo>
                  <a:pt x="113747" y="0"/>
                </a:moveTo>
                <a:lnTo>
                  <a:pt x="113747" y="21600"/>
                </a:lnTo>
                <a:lnTo>
                  <a:pt x="112347" y="20200"/>
                </a:lnTo>
                <a:lnTo>
                  <a:pt x="112347" y="1400"/>
                </a:lnTo>
                <a:close/>
              </a:path>
              <a:path fill="darkenLess" w="113747" h="21600">
                <a:moveTo>
                  <a:pt x="113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347" y="20200"/>
                </a:lnTo>
                <a:close/>
              </a:path>
              <a:path fill="lighten" w="113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бственн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270828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141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573360"/>
            <a:ext cx="3419640" cy="792360"/>
          </a:xfrm>
          <a:custGeom>
            <a:avLst/>
            <a:gdLst>
              <a:gd name="textAreaLeft" fmla="*/ 51120 w 3419640"/>
              <a:gd name="textAreaRight" fmla="*/ 3368520 w 3419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93188" h="21600">
                <a:moveTo>
                  <a:pt x="0" y="0"/>
                </a:moveTo>
                <a:lnTo>
                  <a:pt x="93188" y="0"/>
                </a:lnTo>
                <a:lnTo>
                  <a:pt x="93188" y="21600"/>
                </a:lnTo>
                <a:lnTo>
                  <a:pt x="0" y="21600"/>
                </a:lnTo>
                <a:close/>
              </a:path>
              <a:path fill="lightenLess" w="93188" h="21600">
                <a:moveTo>
                  <a:pt x="0" y="0"/>
                </a:moveTo>
                <a:lnTo>
                  <a:pt x="93188" y="0"/>
                </a:lnTo>
                <a:lnTo>
                  <a:pt x="91788" y="1400"/>
                </a:lnTo>
                <a:lnTo>
                  <a:pt x="1400" y="1400"/>
                </a:lnTo>
                <a:close/>
              </a:path>
              <a:path fill="darken" w="93188" h="21600">
                <a:moveTo>
                  <a:pt x="93188" y="0"/>
                </a:moveTo>
                <a:lnTo>
                  <a:pt x="93188" y="21600"/>
                </a:lnTo>
                <a:lnTo>
                  <a:pt x="91788" y="20200"/>
                </a:lnTo>
                <a:lnTo>
                  <a:pt x="91788" y="1400"/>
                </a:lnTo>
                <a:close/>
              </a:path>
              <a:path fill="darkenLess" w="93188" h="21600">
                <a:moveTo>
                  <a:pt x="9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788" y="20200"/>
                </a:lnTo>
                <a:close/>
              </a:path>
              <a:path fill="lighten" w="9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4365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таци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479736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5229360"/>
            <a:ext cx="3419640" cy="43308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70432" h="21600">
                <a:moveTo>
                  <a:pt x="0" y="0"/>
                </a:moveTo>
                <a:lnTo>
                  <a:pt x="170432" y="0"/>
                </a:lnTo>
                <a:lnTo>
                  <a:pt x="170432" y="21600"/>
                </a:lnTo>
                <a:lnTo>
                  <a:pt x="0" y="21600"/>
                </a:lnTo>
                <a:close/>
              </a:path>
              <a:path fill="lightenLess" w="170432" h="21600">
                <a:moveTo>
                  <a:pt x="0" y="0"/>
                </a:moveTo>
                <a:lnTo>
                  <a:pt x="170432" y="0"/>
                </a:lnTo>
                <a:lnTo>
                  <a:pt x="169032" y="1400"/>
                </a:lnTo>
                <a:lnTo>
                  <a:pt x="1400" y="1400"/>
                </a:lnTo>
                <a:close/>
              </a:path>
              <a:path fill="darken" w="170432" h="21600">
                <a:moveTo>
                  <a:pt x="170432" y="0"/>
                </a:moveTo>
                <a:lnTo>
                  <a:pt x="170432" y="21600"/>
                </a:lnTo>
                <a:lnTo>
                  <a:pt x="169032" y="20200"/>
                </a:lnTo>
                <a:lnTo>
                  <a:pt x="169032" y="1400"/>
                </a:lnTo>
                <a:close/>
              </a:path>
              <a:path fill="darkenLess" w="170432" h="21600">
                <a:moveTo>
                  <a:pt x="17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032" y="20200"/>
                </a:lnTo>
                <a:close/>
              </a:path>
              <a:path fill="lighten" w="17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бвенци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661000"/>
            <a:ext cx="3419640" cy="503280"/>
          </a:xfrm>
          <a:custGeom>
            <a:avLst/>
            <a:gdLst>
              <a:gd name="textAreaLeft" fmla="*/ 32400 w 3419640"/>
              <a:gd name="textAreaRight" fmla="*/ 3387240 w 341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46676" h="21600">
                <a:moveTo>
                  <a:pt x="0" y="0"/>
                </a:moveTo>
                <a:lnTo>
                  <a:pt x="146676" y="0"/>
                </a:lnTo>
                <a:lnTo>
                  <a:pt x="146676" y="21600"/>
                </a:lnTo>
                <a:lnTo>
                  <a:pt x="0" y="21600"/>
                </a:lnTo>
                <a:close/>
              </a:path>
              <a:path fill="lightenLess" w="146676" h="21600">
                <a:moveTo>
                  <a:pt x="0" y="0"/>
                </a:moveTo>
                <a:lnTo>
                  <a:pt x="146676" y="0"/>
                </a:lnTo>
                <a:lnTo>
                  <a:pt x="145276" y="1400"/>
                </a:lnTo>
                <a:lnTo>
                  <a:pt x="1400" y="1400"/>
                </a:lnTo>
                <a:close/>
              </a:path>
              <a:path fill="darken" w="146676" h="21600">
                <a:moveTo>
                  <a:pt x="146676" y="0"/>
                </a:moveTo>
                <a:lnTo>
                  <a:pt x="146676" y="21600"/>
                </a:lnTo>
                <a:lnTo>
                  <a:pt x="145276" y="20200"/>
                </a:lnTo>
                <a:lnTo>
                  <a:pt x="145276" y="1400"/>
                </a:lnTo>
                <a:close/>
              </a:path>
              <a:path fill="darkenLess" w="146676" h="21600">
                <a:moveTo>
                  <a:pt x="14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276" y="20200"/>
                </a:lnTo>
                <a:close/>
              </a:path>
              <a:path fill="lighten" w="14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6165720"/>
            <a:ext cx="3419640" cy="692280"/>
          </a:xfrm>
          <a:custGeom>
            <a:avLst/>
            <a:gdLst>
              <a:gd name="textAreaLeft" fmla="*/ 44640 w 3419640"/>
              <a:gd name="textAreaRight" fmla="*/ 3375000 w 341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106653" h="21600">
                <a:moveTo>
                  <a:pt x="0" y="0"/>
                </a:moveTo>
                <a:lnTo>
                  <a:pt x="106653" y="0"/>
                </a:lnTo>
                <a:lnTo>
                  <a:pt x="106653" y="21600"/>
                </a:lnTo>
                <a:lnTo>
                  <a:pt x="0" y="21600"/>
                </a:lnTo>
                <a:close/>
              </a:path>
              <a:path fill="lightenLess" w="106653" h="21600">
                <a:moveTo>
                  <a:pt x="0" y="0"/>
                </a:moveTo>
                <a:lnTo>
                  <a:pt x="106653" y="0"/>
                </a:lnTo>
                <a:lnTo>
                  <a:pt x="105253" y="1400"/>
                </a:lnTo>
                <a:lnTo>
                  <a:pt x="1400" y="1400"/>
                </a:lnTo>
                <a:close/>
              </a:path>
              <a:path fill="darken" w="106653" h="21600">
                <a:moveTo>
                  <a:pt x="106653" y="0"/>
                </a:moveTo>
                <a:lnTo>
                  <a:pt x="106653" y="21600"/>
                </a:lnTo>
                <a:lnTo>
                  <a:pt x="105253" y="20200"/>
                </a:lnTo>
                <a:lnTo>
                  <a:pt x="105253" y="1400"/>
                </a:lnTo>
                <a:close/>
              </a:path>
              <a:path fill="darkenLess" w="106653" h="21600">
                <a:moveTo>
                  <a:pt x="106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253" y="20200"/>
                </a:lnTo>
                <a:close/>
              </a:path>
              <a:path fill="lighten" w="106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2060640"/>
            <a:ext cx="1439640" cy="647640"/>
          </a:xfrm>
          <a:custGeom>
            <a:avLst/>
            <a:gdLst>
              <a:gd name="textAreaLeft" fmla="*/ 41760 w 1439640"/>
              <a:gd name="textAreaRight" fmla="*/ 1397880 w 1439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00" h="21600">
                <a:moveTo>
                  <a:pt x="0" y="0"/>
                </a:moveTo>
                <a:lnTo>
                  <a:pt x="48000" y="0"/>
                </a:lnTo>
                <a:lnTo>
                  <a:pt x="48000" y="21600"/>
                </a:lnTo>
                <a:lnTo>
                  <a:pt x="0" y="21600"/>
                </a:lnTo>
                <a:close/>
              </a:path>
              <a:path fill="lightenLess" w="48000" h="21600">
                <a:moveTo>
                  <a:pt x="0" y="0"/>
                </a:moveTo>
                <a:lnTo>
                  <a:pt x="48000" y="0"/>
                </a:lnTo>
                <a:lnTo>
                  <a:pt x="46600" y="1400"/>
                </a:lnTo>
                <a:lnTo>
                  <a:pt x="1400" y="1400"/>
                </a:lnTo>
                <a:close/>
              </a:path>
              <a:path fill="darken" w="48000" h="21600">
                <a:moveTo>
                  <a:pt x="48000" y="0"/>
                </a:moveTo>
                <a:lnTo>
                  <a:pt x="48000" y="21600"/>
                </a:lnTo>
                <a:lnTo>
                  <a:pt x="46600" y="20200"/>
                </a:lnTo>
                <a:lnTo>
                  <a:pt x="46600" y="1400"/>
                </a:lnTo>
                <a:close/>
              </a:path>
              <a:path fill="darkenLess" w="48000" h="21600">
                <a:moveTo>
                  <a:pt x="4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00" y="20200"/>
                </a:lnTo>
                <a:close/>
              </a:path>
              <a:path fill="lighten" w="4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4 24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59280" y="2060640"/>
            <a:ext cx="1440000" cy="647640"/>
          </a:xfrm>
          <a:custGeom>
            <a:avLst/>
            <a:gdLst>
              <a:gd name="textAreaLeft" fmla="*/ 41760 w 1440000"/>
              <a:gd name="textAreaRight" fmla="*/ 1398240 w 144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12" h="21600">
                <a:moveTo>
                  <a:pt x="0" y="0"/>
                </a:moveTo>
                <a:lnTo>
                  <a:pt x="48012" y="0"/>
                </a:lnTo>
                <a:lnTo>
                  <a:pt x="48012" y="21600"/>
                </a:lnTo>
                <a:lnTo>
                  <a:pt x="0" y="21600"/>
                </a:lnTo>
                <a:close/>
              </a:path>
              <a:path fill="lightenLess" w="48012" h="21600">
                <a:moveTo>
                  <a:pt x="0" y="0"/>
                </a:moveTo>
                <a:lnTo>
                  <a:pt x="48012" y="0"/>
                </a:lnTo>
                <a:lnTo>
                  <a:pt x="46612" y="1400"/>
                </a:lnTo>
                <a:lnTo>
                  <a:pt x="1400" y="1400"/>
                </a:lnTo>
                <a:close/>
              </a:path>
              <a:path fill="darken" w="48012" h="21600">
                <a:moveTo>
                  <a:pt x="48012" y="0"/>
                </a:moveTo>
                <a:lnTo>
                  <a:pt x="48012" y="21600"/>
                </a:lnTo>
                <a:lnTo>
                  <a:pt x="46612" y="20200"/>
                </a:lnTo>
                <a:lnTo>
                  <a:pt x="46612" y="1400"/>
                </a:lnTo>
                <a:close/>
              </a:path>
              <a:path fill="darkenLess" w="48012" h="21600">
                <a:moveTo>
                  <a:pt x="48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2" y="20200"/>
                </a:lnTo>
                <a:close/>
              </a:path>
              <a:path fill="lighten" w="48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,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00720" y="2060640"/>
            <a:ext cx="1440000" cy="647640"/>
          </a:xfrm>
          <a:custGeom>
            <a:avLst/>
            <a:gdLst>
              <a:gd name="textAreaLeft" fmla="*/ 41760 w 1440000"/>
              <a:gd name="textAreaRight" fmla="*/ 1398240 w 144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12" h="21600">
                <a:moveTo>
                  <a:pt x="0" y="0"/>
                </a:moveTo>
                <a:lnTo>
                  <a:pt x="48012" y="0"/>
                </a:lnTo>
                <a:lnTo>
                  <a:pt x="48012" y="21600"/>
                </a:lnTo>
                <a:lnTo>
                  <a:pt x="0" y="21600"/>
                </a:lnTo>
                <a:close/>
              </a:path>
              <a:path fill="lightenLess" w="48012" h="21600">
                <a:moveTo>
                  <a:pt x="0" y="0"/>
                </a:moveTo>
                <a:lnTo>
                  <a:pt x="48012" y="0"/>
                </a:lnTo>
                <a:lnTo>
                  <a:pt x="46612" y="1400"/>
                </a:lnTo>
                <a:lnTo>
                  <a:pt x="1400" y="1400"/>
                </a:lnTo>
                <a:close/>
              </a:path>
              <a:path fill="darken" w="48012" h="21600">
                <a:moveTo>
                  <a:pt x="48012" y="0"/>
                </a:moveTo>
                <a:lnTo>
                  <a:pt x="48012" y="21600"/>
                </a:lnTo>
                <a:lnTo>
                  <a:pt x="46612" y="20200"/>
                </a:lnTo>
                <a:lnTo>
                  <a:pt x="46612" y="1400"/>
                </a:lnTo>
                <a:close/>
              </a:path>
              <a:path fill="darkenLess" w="48012" h="21600">
                <a:moveTo>
                  <a:pt x="48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2" y="20200"/>
                </a:lnTo>
                <a:close/>
              </a:path>
              <a:path fill="lighten" w="48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 05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40720" y="2060640"/>
            <a:ext cx="1403280" cy="647640"/>
          </a:xfrm>
          <a:custGeom>
            <a:avLst/>
            <a:gdLst>
              <a:gd name="textAreaLeft" fmla="*/ 41760 w 1403280"/>
              <a:gd name="textAreaRight" fmla="*/ 1361520 w 140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6788" h="21600">
                <a:moveTo>
                  <a:pt x="0" y="0"/>
                </a:moveTo>
                <a:lnTo>
                  <a:pt x="46788" y="0"/>
                </a:lnTo>
                <a:lnTo>
                  <a:pt x="46788" y="21600"/>
                </a:lnTo>
                <a:lnTo>
                  <a:pt x="0" y="21600"/>
                </a:lnTo>
                <a:close/>
              </a:path>
              <a:path fill="lightenLess" w="46788" h="21600">
                <a:moveTo>
                  <a:pt x="0" y="0"/>
                </a:moveTo>
                <a:lnTo>
                  <a:pt x="46788" y="0"/>
                </a:lnTo>
                <a:lnTo>
                  <a:pt x="45388" y="1400"/>
                </a:lnTo>
                <a:lnTo>
                  <a:pt x="1400" y="1400"/>
                </a:lnTo>
                <a:close/>
              </a:path>
              <a:path fill="darken" w="46788" h="21600">
                <a:moveTo>
                  <a:pt x="46788" y="0"/>
                </a:moveTo>
                <a:lnTo>
                  <a:pt x="46788" y="21600"/>
                </a:lnTo>
                <a:lnTo>
                  <a:pt x="45388" y="20200"/>
                </a:lnTo>
                <a:lnTo>
                  <a:pt x="45388" y="1400"/>
                </a:lnTo>
                <a:close/>
              </a:path>
              <a:path fill="darkenLess" w="46788" h="21600">
                <a:moveTo>
                  <a:pt x="46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8" y="20200"/>
                </a:lnTo>
                <a:close/>
              </a:path>
              <a:path fill="lighten" w="46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6 14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19640" y="270828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 93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270828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,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300720" y="270828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8 60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740720" y="270828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 66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19640" y="3141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30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19640" y="3573360"/>
            <a:ext cx="1439640" cy="79236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37" h="21600">
                <a:moveTo>
                  <a:pt x="0" y="0"/>
                </a:moveTo>
                <a:lnTo>
                  <a:pt x="39237" y="0"/>
                </a:lnTo>
                <a:lnTo>
                  <a:pt x="39237" y="21600"/>
                </a:lnTo>
                <a:lnTo>
                  <a:pt x="0" y="21600"/>
                </a:lnTo>
                <a:close/>
              </a:path>
              <a:path fill="lightenLess" w="39237" h="21600">
                <a:moveTo>
                  <a:pt x="0" y="0"/>
                </a:moveTo>
                <a:lnTo>
                  <a:pt x="39237" y="0"/>
                </a:lnTo>
                <a:lnTo>
                  <a:pt x="37837" y="1400"/>
                </a:lnTo>
                <a:lnTo>
                  <a:pt x="1400" y="1400"/>
                </a:lnTo>
                <a:close/>
              </a:path>
              <a:path fill="darken" w="39237" h="21600">
                <a:moveTo>
                  <a:pt x="39237" y="0"/>
                </a:moveTo>
                <a:lnTo>
                  <a:pt x="39237" y="21600"/>
                </a:lnTo>
                <a:lnTo>
                  <a:pt x="37837" y="20200"/>
                </a:lnTo>
                <a:lnTo>
                  <a:pt x="37837" y="1400"/>
                </a:lnTo>
                <a:close/>
              </a:path>
              <a:path fill="darkenLess" w="39237" h="21600">
                <a:moveTo>
                  <a:pt x="39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37" y="20200"/>
                </a:lnTo>
                <a:close/>
              </a:path>
              <a:path fill="lighten" w="39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9 25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19640" y="4365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7 39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19640" y="479736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6 93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19640" y="5229360"/>
            <a:ext cx="1439640" cy="43308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61" h="21600">
                <a:moveTo>
                  <a:pt x="0" y="0"/>
                </a:moveTo>
                <a:lnTo>
                  <a:pt x="71761" y="0"/>
                </a:lnTo>
                <a:lnTo>
                  <a:pt x="71761" y="21600"/>
                </a:lnTo>
                <a:lnTo>
                  <a:pt x="0" y="21600"/>
                </a:lnTo>
                <a:close/>
              </a:path>
              <a:path fill="lightenLess" w="71761" h="21600">
                <a:moveTo>
                  <a:pt x="0" y="0"/>
                </a:moveTo>
                <a:lnTo>
                  <a:pt x="71761" y="0"/>
                </a:lnTo>
                <a:lnTo>
                  <a:pt x="70361" y="1400"/>
                </a:lnTo>
                <a:lnTo>
                  <a:pt x="1400" y="1400"/>
                </a:lnTo>
                <a:close/>
              </a:path>
              <a:path fill="darken" w="71761" h="21600">
                <a:moveTo>
                  <a:pt x="71761" y="0"/>
                </a:moveTo>
                <a:lnTo>
                  <a:pt x="71761" y="21600"/>
                </a:lnTo>
                <a:lnTo>
                  <a:pt x="70361" y="20200"/>
                </a:lnTo>
                <a:lnTo>
                  <a:pt x="70361" y="1400"/>
                </a:lnTo>
                <a:close/>
              </a:path>
              <a:path fill="darkenLess" w="71761" h="21600">
                <a:moveTo>
                  <a:pt x="7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61" y="20200"/>
                </a:lnTo>
                <a:close/>
              </a:path>
              <a:path fill="lighten" w="7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0 23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19640" y="566100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70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19640" y="6165720"/>
            <a:ext cx="1439640" cy="692280"/>
          </a:xfrm>
          <a:custGeom>
            <a:avLst/>
            <a:gdLst>
              <a:gd name="textAreaLeft" fmla="*/ 44640 w 1439640"/>
              <a:gd name="textAreaRight" fmla="*/ 1395000 w 143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06" h="21600">
                <a:moveTo>
                  <a:pt x="0" y="0"/>
                </a:moveTo>
                <a:lnTo>
                  <a:pt x="44906" y="0"/>
                </a:lnTo>
                <a:lnTo>
                  <a:pt x="44906" y="21600"/>
                </a:lnTo>
                <a:lnTo>
                  <a:pt x="0" y="21600"/>
                </a:lnTo>
                <a:close/>
              </a:path>
              <a:path fill="lightenLess" w="44906" h="21600">
                <a:moveTo>
                  <a:pt x="0" y="0"/>
                </a:moveTo>
                <a:lnTo>
                  <a:pt x="44906" y="0"/>
                </a:lnTo>
                <a:lnTo>
                  <a:pt x="43507" y="1400"/>
                </a:lnTo>
                <a:lnTo>
                  <a:pt x="1400" y="1400"/>
                </a:lnTo>
                <a:close/>
              </a:path>
              <a:path fill="darken" w="44906" h="21600">
                <a:moveTo>
                  <a:pt x="44906" y="0"/>
                </a:moveTo>
                <a:lnTo>
                  <a:pt x="44906" y="21600"/>
                </a:lnTo>
                <a:lnTo>
                  <a:pt x="43507" y="20200"/>
                </a:lnTo>
                <a:lnTo>
                  <a:pt x="43507" y="1400"/>
                </a:lnTo>
                <a:close/>
              </a:path>
              <a:path fill="darkenLess" w="44906" h="21600">
                <a:moveTo>
                  <a:pt x="44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07" y="20200"/>
                </a:lnTo>
                <a:close/>
              </a:path>
              <a:path fill="lighten" w="44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13 497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31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59280" y="3573360"/>
            <a:ext cx="1440000" cy="792360"/>
          </a:xfrm>
          <a:custGeom>
            <a:avLst/>
            <a:gdLst>
              <a:gd name="textAreaLeft" fmla="*/ 51120 w 1440000"/>
              <a:gd name="textAreaRight" fmla="*/ 1388880 w 1440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47" h="21600">
                <a:moveTo>
                  <a:pt x="0" y="0"/>
                </a:moveTo>
                <a:lnTo>
                  <a:pt x="39247" y="0"/>
                </a:lnTo>
                <a:lnTo>
                  <a:pt x="39247" y="21600"/>
                </a:lnTo>
                <a:lnTo>
                  <a:pt x="0" y="21600"/>
                </a:lnTo>
                <a:close/>
              </a:path>
              <a:path fill="lightenLess" w="39247" h="21600">
                <a:moveTo>
                  <a:pt x="0" y="0"/>
                </a:moveTo>
                <a:lnTo>
                  <a:pt x="39247" y="0"/>
                </a:lnTo>
                <a:lnTo>
                  <a:pt x="37847" y="1400"/>
                </a:lnTo>
                <a:lnTo>
                  <a:pt x="1400" y="1400"/>
                </a:lnTo>
                <a:close/>
              </a:path>
              <a:path fill="darken" w="39247" h="21600">
                <a:moveTo>
                  <a:pt x="39247" y="0"/>
                </a:moveTo>
                <a:lnTo>
                  <a:pt x="39247" y="21600"/>
                </a:lnTo>
                <a:lnTo>
                  <a:pt x="37847" y="20200"/>
                </a:lnTo>
                <a:lnTo>
                  <a:pt x="37847" y="1400"/>
                </a:lnTo>
                <a:close/>
              </a:path>
              <a:path fill="darkenLess" w="39247" h="21600">
                <a:moveTo>
                  <a:pt x="39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47" y="20200"/>
                </a:lnTo>
                <a:close/>
              </a:path>
              <a:path fill="lighten" w="39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6,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59280" y="4365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,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4797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,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9280" y="522936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,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566100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6165720"/>
            <a:ext cx="1440000" cy="692280"/>
          </a:xfrm>
          <a:custGeom>
            <a:avLst/>
            <a:gdLst>
              <a:gd name="textAreaLeft" fmla="*/ 44640 w 1440000"/>
              <a:gd name="textAreaRight" fmla="*/ 1395360 w 144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18" h="21600">
                <a:moveTo>
                  <a:pt x="0" y="0"/>
                </a:moveTo>
                <a:lnTo>
                  <a:pt x="44918" y="0"/>
                </a:lnTo>
                <a:lnTo>
                  <a:pt x="44918" y="21600"/>
                </a:lnTo>
                <a:lnTo>
                  <a:pt x="0" y="21600"/>
                </a:lnTo>
                <a:close/>
              </a:path>
              <a:path fill="lightenLess" w="44918" h="21600">
                <a:moveTo>
                  <a:pt x="0" y="0"/>
                </a:moveTo>
                <a:lnTo>
                  <a:pt x="44918" y="0"/>
                </a:lnTo>
                <a:lnTo>
                  <a:pt x="43518" y="1400"/>
                </a:lnTo>
                <a:lnTo>
                  <a:pt x="1400" y="1400"/>
                </a:lnTo>
                <a:close/>
              </a:path>
              <a:path fill="darken" w="44918" h="21600">
                <a:moveTo>
                  <a:pt x="44918" y="0"/>
                </a:moveTo>
                <a:lnTo>
                  <a:pt x="44918" y="21600"/>
                </a:lnTo>
                <a:lnTo>
                  <a:pt x="43518" y="20200"/>
                </a:lnTo>
                <a:lnTo>
                  <a:pt x="43518" y="1400"/>
                </a:lnTo>
                <a:close/>
              </a:path>
              <a:path fill="darkenLess" w="44918" h="21600">
                <a:moveTo>
                  <a:pt x="44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8" y="20200"/>
                </a:lnTo>
                <a:close/>
              </a:path>
              <a:path fill="lighten" w="44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0,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00720" y="31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44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00720" y="3573360"/>
            <a:ext cx="1440000" cy="792360"/>
          </a:xfrm>
          <a:custGeom>
            <a:avLst/>
            <a:gdLst>
              <a:gd name="textAreaLeft" fmla="*/ 51120 w 1440000"/>
              <a:gd name="textAreaRight" fmla="*/ 1388880 w 1440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47" h="21600">
                <a:moveTo>
                  <a:pt x="0" y="0"/>
                </a:moveTo>
                <a:lnTo>
                  <a:pt x="39247" y="0"/>
                </a:lnTo>
                <a:lnTo>
                  <a:pt x="39247" y="21600"/>
                </a:lnTo>
                <a:lnTo>
                  <a:pt x="0" y="21600"/>
                </a:lnTo>
                <a:close/>
              </a:path>
              <a:path fill="lightenLess" w="39247" h="21600">
                <a:moveTo>
                  <a:pt x="0" y="0"/>
                </a:moveTo>
                <a:lnTo>
                  <a:pt x="39247" y="0"/>
                </a:lnTo>
                <a:lnTo>
                  <a:pt x="37847" y="1400"/>
                </a:lnTo>
                <a:lnTo>
                  <a:pt x="1400" y="1400"/>
                </a:lnTo>
                <a:close/>
              </a:path>
              <a:path fill="darken" w="39247" h="21600">
                <a:moveTo>
                  <a:pt x="39247" y="0"/>
                </a:moveTo>
                <a:lnTo>
                  <a:pt x="39247" y="21600"/>
                </a:lnTo>
                <a:lnTo>
                  <a:pt x="37847" y="20200"/>
                </a:lnTo>
                <a:lnTo>
                  <a:pt x="37847" y="1400"/>
                </a:lnTo>
                <a:close/>
              </a:path>
              <a:path fill="darkenLess" w="39247" h="21600">
                <a:moveTo>
                  <a:pt x="39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47" y="20200"/>
                </a:lnTo>
                <a:close/>
              </a:path>
              <a:path fill="lighten" w="39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32 50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300720" y="4365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5 08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00720" y="4797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 95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300720" y="522936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9 76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00720" y="566100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70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00720" y="6165720"/>
            <a:ext cx="1440000" cy="692280"/>
          </a:xfrm>
          <a:custGeom>
            <a:avLst/>
            <a:gdLst>
              <a:gd name="textAreaLeft" fmla="*/ 44640 w 1440000"/>
              <a:gd name="textAreaRight" fmla="*/ 1395360 w 144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18" h="21600">
                <a:moveTo>
                  <a:pt x="0" y="0"/>
                </a:moveTo>
                <a:lnTo>
                  <a:pt x="44918" y="0"/>
                </a:lnTo>
                <a:lnTo>
                  <a:pt x="44918" y="21600"/>
                </a:lnTo>
                <a:lnTo>
                  <a:pt x="0" y="21600"/>
                </a:lnTo>
                <a:close/>
              </a:path>
              <a:path fill="lightenLess" w="44918" h="21600">
                <a:moveTo>
                  <a:pt x="0" y="0"/>
                </a:moveTo>
                <a:lnTo>
                  <a:pt x="44918" y="0"/>
                </a:lnTo>
                <a:lnTo>
                  <a:pt x="43518" y="1400"/>
                </a:lnTo>
                <a:lnTo>
                  <a:pt x="1400" y="1400"/>
                </a:lnTo>
                <a:close/>
              </a:path>
              <a:path fill="darken" w="44918" h="21600">
                <a:moveTo>
                  <a:pt x="44918" y="0"/>
                </a:moveTo>
                <a:lnTo>
                  <a:pt x="44918" y="21600"/>
                </a:lnTo>
                <a:lnTo>
                  <a:pt x="43518" y="20200"/>
                </a:lnTo>
                <a:lnTo>
                  <a:pt x="43518" y="1400"/>
                </a:lnTo>
                <a:close/>
              </a:path>
              <a:path fill="darkenLess" w="44918" h="21600">
                <a:moveTo>
                  <a:pt x="44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8" y="20200"/>
                </a:lnTo>
                <a:close/>
              </a:path>
              <a:path fill="lighten" w="44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94 55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40720" y="3141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47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740720" y="3573360"/>
            <a:ext cx="1403280" cy="792360"/>
          </a:xfrm>
          <a:custGeom>
            <a:avLst/>
            <a:gdLst>
              <a:gd name="textAreaLeft" fmla="*/ 51120 w 1403280"/>
              <a:gd name="textAreaRight" fmla="*/ 1352160 w 1403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8246" h="21600">
                <a:moveTo>
                  <a:pt x="0" y="0"/>
                </a:moveTo>
                <a:lnTo>
                  <a:pt x="38246" y="0"/>
                </a:lnTo>
                <a:lnTo>
                  <a:pt x="38246" y="21600"/>
                </a:lnTo>
                <a:lnTo>
                  <a:pt x="0" y="21600"/>
                </a:lnTo>
                <a:close/>
              </a:path>
              <a:path fill="lightenLess" w="38246" h="21600">
                <a:moveTo>
                  <a:pt x="0" y="0"/>
                </a:moveTo>
                <a:lnTo>
                  <a:pt x="38246" y="0"/>
                </a:lnTo>
                <a:lnTo>
                  <a:pt x="36846" y="1400"/>
                </a:lnTo>
                <a:lnTo>
                  <a:pt x="1400" y="1400"/>
                </a:lnTo>
                <a:close/>
              </a:path>
              <a:path fill="darken" w="38246" h="21600">
                <a:moveTo>
                  <a:pt x="38246" y="0"/>
                </a:moveTo>
                <a:lnTo>
                  <a:pt x="38246" y="21600"/>
                </a:lnTo>
                <a:lnTo>
                  <a:pt x="36846" y="20200"/>
                </a:lnTo>
                <a:lnTo>
                  <a:pt x="36846" y="1400"/>
                </a:lnTo>
                <a:close/>
              </a:path>
              <a:path fill="darkenLess" w="38246" h="21600">
                <a:moveTo>
                  <a:pt x="38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46" y="20200"/>
                </a:lnTo>
                <a:close/>
              </a:path>
              <a:path fill="lighten" w="38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69 25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740720" y="4365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 92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740720" y="479736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 95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40720" y="5229360"/>
            <a:ext cx="1403280" cy="43308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69949" h="21600">
                <a:moveTo>
                  <a:pt x="0" y="0"/>
                </a:moveTo>
                <a:lnTo>
                  <a:pt x="69949" y="0"/>
                </a:lnTo>
                <a:lnTo>
                  <a:pt x="69949" y="21600"/>
                </a:lnTo>
                <a:lnTo>
                  <a:pt x="0" y="21600"/>
                </a:lnTo>
                <a:close/>
              </a:path>
              <a:path fill="lightenLess" w="69949" h="21600">
                <a:moveTo>
                  <a:pt x="0" y="0"/>
                </a:moveTo>
                <a:lnTo>
                  <a:pt x="69949" y="0"/>
                </a:lnTo>
                <a:lnTo>
                  <a:pt x="68549" y="1400"/>
                </a:lnTo>
                <a:lnTo>
                  <a:pt x="1400" y="1400"/>
                </a:lnTo>
                <a:close/>
              </a:path>
              <a:path fill="darken" w="69949" h="21600">
                <a:moveTo>
                  <a:pt x="69949" y="0"/>
                </a:moveTo>
                <a:lnTo>
                  <a:pt x="69949" y="21600"/>
                </a:lnTo>
                <a:lnTo>
                  <a:pt x="68549" y="20200"/>
                </a:lnTo>
                <a:lnTo>
                  <a:pt x="68549" y="1400"/>
                </a:lnTo>
                <a:close/>
              </a:path>
              <a:path fill="darkenLess" w="69949" h="21600">
                <a:moveTo>
                  <a:pt x="69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49" y="20200"/>
                </a:lnTo>
                <a:close/>
              </a:path>
              <a:path fill="lighten" w="69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9 67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740720" y="5661000"/>
            <a:ext cx="1403280" cy="503280"/>
          </a:xfrm>
          <a:custGeom>
            <a:avLst/>
            <a:gdLst>
              <a:gd name="textAreaLeft" fmla="*/ 32400 w 1403280"/>
              <a:gd name="textAreaRight" fmla="*/ 1370880 w 14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0199" h="21600">
                <a:moveTo>
                  <a:pt x="0" y="0"/>
                </a:moveTo>
                <a:lnTo>
                  <a:pt x="60199" y="0"/>
                </a:lnTo>
                <a:lnTo>
                  <a:pt x="60199" y="21600"/>
                </a:lnTo>
                <a:lnTo>
                  <a:pt x="0" y="21600"/>
                </a:lnTo>
                <a:close/>
              </a:path>
              <a:path fill="lightenLess" w="60199" h="21600">
                <a:moveTo>
                  <a:pt x="0" y="0"/>
                </a:moveTo>
                <a:lnTo>
                  <a:pt x="60199" y="0"/>
                </a:lnTo>
                <a:lnTo>
                  <a:pt x="58799" y="1400"/>
                </a:lnTo>
                <a:lnTo>
                  <a:pt x="1400" y="1400"/>
                </a:lnTo>
                <a:close/>
              </a:path>
              <a:path fill="darken" w="60199" h="21600">
                <a:moveTo>
                  <a:pt x="60199" y="0"/>
                </a:moveTo>
                <a:lnTo>
                  <a:pt x="60199" y="21600"/>
                </a:lnTo>
                <a:lnTo>
                  <a:pt x="58799" y="20200"/>
                </a:lnTo>
                <a:lnTo>
                  <a:pt x="58799" y="1400"/>
                </a:lnTo>
                <a:close/>
              </a:path>
              <a:path fill="darkenLess" w="60199" h="21600">
                <a:moveTo>
                  <a:pt x="6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99" y="20200"/>
                </a:lnTo>
                <a:close/>
              </a:path>
              <a:path fill="lighten" w="6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70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740720" y="6165720"/>
            <a:ext cx="1403280" cy="692280"/>
          </a:xfrm>
          <a:custGeom>
            <a:avLst/>
            <a:gdLst>
              <a:gd name="textAreaLeft" fmla="*/ 44640 w 1403280"/>
              <a:gd name="textAreaRight" fmla="*/ 1358640 w 1403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3773" h="21600">
                <a:moveTo>
                  <a:pt x="0" y="0"/>
                </a:moveTo>
                <a:lnTo>
                  <a:pt x="43773" y="0"/>
                </a:lnTo>
                <a:lnTo>
                  <a:pt x="43773" y="21600"/>
                </a:lnTo>
                <a:lnTo>
                  <a:pt x="0" y="21600"/>
                </a:lnTo>
                <a:close/>
              </a:path>
              <a:path fill="lightenLess" w="43773" h="21600">
                <a:moveTo>
                  <a:pt x="0" y="0"/>
                </a:moveTo>
                <a:lnTo>
                  <a:pt x="43773" y="0"/>
                </a:lnTo>
                <a:lnTo>
                  <a:pt x="42373" y="1400"/>
                </a:lnTo>
                <a:lnTo>
                  <a:pt x="1400" y="1400"/>
                </a:lnTo>
                <a:close/>
              </a:path>
              <a:path fill="darken" w="43773" h="21600">
                <a:moveTo>
                  <a:pt x="43773" y="0"/>
                </a:moveTo>
                <a:lnTo>
                  <a:pt x="43773" y="21600"/>
                </a:lnTo>
                <a:lnTo>
                  <a:pt x="42373" y="20200"/>
                </a:lnTo>
                <a:lnTo>
                  <a:pt x="42373" y="1400"/>
                </a:lnTo>
                <a:close/>
              </a:path>
              <a:path fill="darkenLess" w="43773" h="21600">
                <a:moveTo>
                  <a:pt x="4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73" y="20200"/>
                </a:lnTo>
                <a:close/>
              </a:path>
              <a:path fill="lighten" w="4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95 39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9144000" cy="1042920"/>
          </a:xfrm>
          <a:custGeom>
            <a:avLst/>
            <a:gdLst>
              <a:gd name="textAreaLeft" fmla="*/ 67320 w 9144000"/>
              <a:gd name="textAreaRight" fmla="*/ 9076680 w 9144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89324" h="21600">
                <a:moveTo>
                  <a:pt x="0" y="0"/>
                </a:moveTo>
                <a:lnTo>
                  <a:pt x="189324" y="0"/>
                </a:lnTo>
                <a:lnTo>
                  <a:pt x="189324" y="21600"/>
                </a:lnTo>
                <a:lnTo>
                  <a:pt x="0" y="21600"/>
                </a:lnTo>
                <a:close/>
              </a:path>
              <a:path fill="lightenLess" w="189324" h="21600">
                <a:moveTo>
                  <a:pt x="0" y="0"/>
                </a:moveTo>
                <a:lnTo>
                  <a:pt x="189324" y="0"/>
                </a:lnTo>
                <a:lnTo>
                  <a:pt x="187924" y="1400"/>
                </a:lnTo>
                <a:lnTo>
                  <a:pt x="1400" y="1400"/>
                </a:lnTo>
                <a:close/>
              </a:path>
              <a:path fill="darken" w="189324" h="21600">
                <a:moveTo>
                  <a:pt x="189324" y="0"/>
                </a:moveTo>
                <a:lnTo>
                  <a:pt x="189324" y="21600"/>
                </a:lnTo>
                <a:lnTo>
                  <a:pt x="187924" y="20200"/>
                </a:lnTo>
                <a:lnTo>
                  <a:pt x="187924" y="1400"/>
                </a:lnTo>
                <a:close/>
              </a:path>
              <a:path fill="darkenLess" w="189324" h="21600">
                <a:moveTo>
                  <a:pt x="18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924" y="20200"/>
                </a:lnTo>
                <a:close/>
              </a:path>
              <a:path fill="lighten" w="18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руктура доходов бюджета район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981000"/>
            <a:ext cx="9144000" cy="58770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уктура налоговых доходов бюджета район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6165720"/>
            <a:ext cx="3132000" cy="69228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его 50 933 т.р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0" y="112536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9144000" cy="907920"/>
          </a:xfrm>
          <a:prstGeom prst="bevel">
            <a:avLst>
              <a:gd name="adj" fmla="val 12500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труктура неналоговых доходов бюджета район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 2017 г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72360" y="6165720"/>
            <a:ext cx="2771640" cy="692280"/>
          </a:xfrm>
          <a:prstGeom prst="bevel">
            <a:avLst>
              <a:gd name="adj" fmla="val 12500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го 3 308 т.р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1197000"/>
          <a:ext cx="91440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а безвозмездных поступлений из бюджетов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ругих уровней в бюджет района на 2017 г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708360" cy="31687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237360"/>
            <a:ext cx="2987640" cy="620640"/>
          </a:xfrm>
          <a:custGeom>
            <a:avLst/>
            <a:gdLst>
              <a:gd name="textAreaLeft" fmla="*/ 39960 w 2987640"/>
              <a:gd name="textAreaRight" fmla="*/ 2947680 w 298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103930" h="21600">
                <a:moveTo>
                  <a:pt x="0" y="0"/>
                </a:moveTo>
                <a:lnTo>
                  <a:pt x="103930" y="0"/>
                </a:lnTo>
                <a:lnTo>
                  <a:pt x="103930" y="21600"/>
                </a:lnTo>
                <a:lnTo>
                  <a:pt x="0" y="21600"/>
                </a:lnTo>
                <a:close/>
              </a:path>
              <a:path fill="lightenLess" w="103930" h="21600">
                <a:moveTo>
                  <a:pt x="0" y="0"/>
                </a:moveTo>
                <a:lnTo>
                  <a:pt x="103930" y="0"/>
                </a:lnTo>
                <a:lnTo>
                  <a:pt x="102530" y="1400"/>
                </a:lnTo>
                <a:lnTo>
                  <a:pt x="1400" y="1400"/>
                </a:lnTo>
                <a:close/>
              </a:path>
              <a:path fill="darken" w="103930" h="21600">
                <a:moveTo>
                  <a:pt x="103930" y="0"/>
                </a:moveTo>
                <a:lnTo>
                  <a:pt x="103930" y="21600"/>
                </a:lnTo>
                <a:lnTo>
                  <a:pt x="102530" y="20200"/>
                </a:lnTo>
                <a:lnTo>
                  <a:pt x="102530" y="1400"/>
                </a:lnTo>
                <a:close/>
              </a:path>
              <a:path fill="darkenLess" w="103930" h="21600">
                <a:moveTo>
                  <a:pt x="10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30" y="20200"/>
                </a:lnTo>
                <a:close/>
              </a:path>
              <a:path fill="lighten" w="10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его 359 256 т.р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1125360"/>
          <a:ext cx="9144000" cy="511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9144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141300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намика поступления налоговых, неналоговых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ходов и безвозмездных поступлени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бюджет района на 2017 - 2019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Тыс.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95280" y="1413000"/>
          <a:ext cx="87487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748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2271240" y="6093000"/>
            <a:ext cx="209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логовые 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50920" y="6308640"/>
            <a:ext cx="144720" cy="149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16360" y="6308640"/>
            <a:ext cx="144720" cy="14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23240" y="6093000"/>
            <a:ext cx="160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-278640" y="352836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68360" y="1125360"/>
            <a:ext cx="687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целях реализации принципа прозрачности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крытости бюджета и информирования жителей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 расходовании средств бюджета  разработан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Бюджет для граждан» на основе Решения Думы Зырянского района от 27.12.2016 № 118 «О местном бюджете Зырянского района на  2017 год и на плановый период 2018 и 2019 годов»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ставленная информация позволит гражданам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ырянского района составить представл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 источниках формирования доходов бюджета муниципального образования «Зырянский район», направлениях расходования бюджетных средств на 2017 год и на плановый период 2018 и 2019 годо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0"/>
            <a:ext cx="6804000" cy="762120"/>
          </a:xfrm>
          <a:custGeom>
            <a:avLst/>
            <a:gdLst>
              <a:gd name="textAreaLeft" fmla="*/ 1701000 w 6804000"/>
              <a:gd name="textAreaRight" fmla="*/ 5103000 w 680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ВОДНАЯ ЧАСТ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226836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144000" cy="104292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намика поступления налоговых и неналоговых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оходов в бюджет района на 2017 - 2019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налоговые доход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539640" y="1125360"/>
          <a:ext cx="860436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60436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 rot="16200000">
            <a:off x="-207000" y="3457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381720"/>
            <a:ext cx="142920" cy="14436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27640" y="6381720"/>
            <a:ext cx="142920" cy="14436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054160" y="626760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07240" y="6267600"/>
            <a:ext cx="21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843280" y="1628640"/>
            <a:ext cx="187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03640" y="1628640"/>
            <a:ext cx="23036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35280" y="5157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867280" y="5157360"/>
            <a:ext cx="1657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86760 w 9144000"/>
              <a:gd name="textAreaRight" fmla="*/ 9057240 w 9144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147213" h="21600">
                <a:moveTo>
                  <a:pt x="0" y="0"/>
                </a:moveTo>
                <a:lnTo>
                  <a:pt x="147213" y="0"/>
                </a:lnTo>
                <a:lnTo>
                  <a:pt x="147213" y="21600"/>
                </a:lnTo>
                <a:lnTo>
                  <a:pt x="0" y="21600"/>
                </a:lnTo>
                <a:close/>
              </a:path>
              <a:path fill="lightenLess" w="147213" h="21600">
                <a:moveTo>
                  <a:pt x="0" y="0"/>
                </a:moveTo>
                <a:lnTo>
                  <a:pt x="147213" y="0"/>
                </a:lnTo>
                <a:lnTo>
                  <a:pt x="145813" y="1400"/>
                </a:lnTo>
                <a:lnTo>
                  <a:pt x="1400" y="1400"/>
                </a:lnTo>
                <a:close/>
              </a:path>
              <a:path fill="darken" w="147213" h="21600">
                <a:moveTo>
                  <a:pt x="147213" y="0"/>
                </a:moveTo>
                <a:lnTo>
                  <a:pt x="147213" y="21600"/>
                </a:lnTo>
                <a:lnTo>
                  <a:pt x="145813" y="20200"/>
                </a:lnTo>
                <a:lnTo>
                  <a:pt x="145813" y="1400"/>
                </a:lnTo>
                <a:close/>
              </a:path>
              <a:path fill="darkenLess" w="147213" h="21600">
                <a:moveTo>
                  <a:pt x="14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13" y="20200"/>
                </a:lnTo>
                <a:close/>
              </a:path>
              <a:path fill="lighten" w="14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намика доходов консолидированного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юджета до и после распределени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инансовой помощи 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0" y="1530360"/>
          <a:ext cx="91440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0360"/>
                    <a:ext cx="91440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86760 w 9144000"/>
              <a:gd name="textAreaRight" fmla="*/ 9057240 w 9144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147213" h="21600">
                <a:moveTo>
                  <a:pt x="0" y="0"/>
                </a:moveTo>
                <a:lnTo>
                  <a:pt x="147213" y="0"/>
                </a:lnTo>
                <a:lnTo>
                  <a:pt x="147213" y="21600"/>
                </a:lnTo>
                <a:lnTo>
                  <a:pt x="0" y="21600"/>
                </a:lnTo>
                <a:close/>
              </a:path>
              <a:path fill="lightenLess" w="147213" h="21600">
                <a:moveTo>
                  <a:pt x="0" y="0"/>
                </a:moveTo>
                <a:lnTo>
                  <a:pt x="147213" y="0"/>
                </a:lnTo>
                <a:lnTo>
                  <a:pt x="145813" y="1400"/>
                </a:lnTo>
                <a:lnTo>
                  <a:pt x="1400" y="1400"/>
                </a:lnTo>
                <a:close/>
              </a:path>
              <a:path fill="darken" w="147213" h="21600">
                <a:moveTo>
                  <a:pt x="147213" y="0"/>
                </a:moveTo>
                <a:lnTo>
                  <a:pt x="147213" y="21600"/>
                </a:lnTo>
                <a:lnTo>
                  <a:pt x="145813" y="20200"/>
                </a:lnTo>
                <a:lnTo>
                  <a:pt x="145813" y="1400"/>
                </a:lnTo>
                <a:close/>
              </a:path>
              <a:path fill="darkenLess" w="147213" h="21600">
                <a:moveTo>
                  <a:pt x="14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13" y="20200"/>
                </a:lnTo>
                <a:close/>
              </a:path>
              <a:path fill="lighten" w="14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инамика доходов консолидированного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юджета до и после распределени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инансовой помощи 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17 го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24000" y="1628640"/>
          <a:ext cx="8712000" cy="48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7120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44280"/>
            <a:ext cx="9144000" cy="68580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ъем доходов и расходов в расчете на 1 жител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024000" cy="25207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24000" y="907920"/>
            <a:ext cx="3024000" cy="1152720"/>
          </a:xfrm>
          <a:custGeom>
            <a:avLst/>
            <a:gdLst>
              <a:gd name="textAreaLeft" fmla="*/ 74520 w 3024000"/>
              <a:gd name="textAreaRight" fmla="*/ 2949480 w 30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56654" h="21600">
                <a:moveTo>
                  <a:pt x="0" y="0"/>
                </a:moveTo>
                <a:lnTo>
                  <a:pt x="56654" y="0"/>
                </a:lnTo>
                <a:lnTo>
                  <a:pt x="56654" y="21600"/>
                </a:lnTo>
                <a:lnTo>
                  <a:pt x="0" y="21600"/>
                </a:lnTo>
                <a:close/>
              </a:path>
              <a:path fill="lightenLess" w="56654" h="21600">
                <a:moveTo>
                  <a:pt x="0" y="0"/>
                </a:moveTo>
                <a:lnTo>
                  <a:pt x="56654" y="0"/>
                </a:lnTo>
                <a:lnTo>
                  <a:pt x="55254" y="1400"/>
                </a:lnTo>
                <a:lnTo>
                  <a:pt x="1400" y="1400"/>
                </a:lnTo>
                <a:close/>
              </a:path>
              <a:path fill="darken" w="56654" h="21600">
                <a:moveTo>
                  <a:pt x="56654" y="0"/>
                </a:moveTo>
                <a:lnTo>
                  <a:pt x="56654" y="21600"/>
                </a:lnTo>
                <a:lnTo>
                  <a:pt x="55254" y="20200"/>
                </a:lnTo>
                <a:lnTo>
                  <a:pt x="55254" y="1400"/>
                </a:lnTo>
                <a:close/>
              </a:path>
              <a:path fill="darkenLess" w="56654" h="21600">
                <a:moveTo>
                  <a:pt x="56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4" y="20200"/>
                </a:lnTo>
                <a:close/>
              </a:path>
              <a:path fill="lighten" w="56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лан 2017 года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нсолидированный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400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25 78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9564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21 48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400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23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9564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4 877,0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2000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3 859,9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02000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09 19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4836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13 49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4 215,7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3024000" cy="2520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5796000" y="907920"/>
            <a:ext cx="3024000" cy="1152720"/>
          </a:xfrm>
          <a:custGeom>
            <a:avLst/>
            <a:gdLst>
              <a:gd name="textAreaLeft" fmla="*/ 74520 w 3024000"/>
              <a:gd name="textAreaRight" fmla="*/ 2949480 w 30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56654" h="21600">
                <a:moveTo>
                  <a:pt x="0" y="0"/>
                </a:moveTo>
                <a:lnTo>
                  <a:pt x="56654" y="0"/>
                </a:lnTo>
                <a:lnTo>
                  <a:pt x="56654" y="21600"/>
                </a:lnTo>
                <a:lnTo>
                  <a:pt x="0" y="21600"/>
                </a:lnTo>
                <a:close/>
              </a:path>
              <a:path fill="lightenLess" w="56654" h="21600">
                <a:moveTo>
                  <a:pt x="0" y="0"/>
                </a:moveTo>
                <a:lnTo>
                  <a:pt x="56654" y="0"/>
                </a:lnTo>
                <a:lnTo>
                  <a:pt x="55254" y="1400"/>
                </a:lnTo>
                <a:lnTo>
                  <a:pt x="1400" y="1400"/>
                </a:lnTo>
                <a:close/>
              </a:path>
              <a:path fill="darken" w="56654" h="21600">
                <a:moveTo>
                  <a:pt x="56654" y="0"/>
                </a:moveTo>
                <a:lnTo>
                  <a:pt x="56654" y="21600"/>
                </a:lnTo>
                <a:lnTo>
                  <a:pt x="55254" y="20200"/>
                </a:lnTo>
                <a:lnTo>
                  <a:pt x="55254" y="1400"/>
                </a:lnTo>
                <a:close/>
              </a:path>
              <a:path fill="darkenLess" w="56654" h="21600">
                <a:moveTo>
                  <a:pt x="56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4" y="20200"/>
                </a:lnTo>
                <a:close/>
              </a:path>
              <a:path fill="lighten" w="56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лан 2017 год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 район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08360" y="1052640"/>
            <a:ext cx="1727280" cy="1152360"/>
          </a:xfrm>
          <a:custGeom>
            <a:avLst/>
            <a:gdLst>
              <a:gd name="textAreaLeft" fmla="*/ 74520 w 1727280"/>
              <a:gd name="textAreaRight" fmla="*/ 1652760 w 1727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селение н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1.01.2016 год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2 08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лове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610320" y="4869000"/>
            <a:ext cx="2533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0"/>
            <a:ext cx="9144000" cy="620640"/>
          </a:xfrm>
          <a:custGeom>
            <a:avLst/>
            <a:gdLst>
              <a:gd name="textAreaLeft" fmla="*/ 39960 w 9144000"/>
              <a:gd name="textAreaRight" fmla="*/ 9104040 w 914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8065" h="21600">
                <a:moveTo>
                  <a:pt x="0" y="0"/>
                </a:moveTo>
                <a:lnTo>
                  <a:pt x="318065" y="0"/>
                </a:lnTo>
                <a:lnTo>
                  <a:pt x="318065" y="21600"/>
                </a:lnTo>
                <a:lnTo>
                  <a:pt x="0" y="21600"/>
                </a:lnTo>
                <a:close/>
              </a:path>
              <a:path fill="lightenLess" w="318065" h="21600">
                <a:moveTo>
                  <a:pt x="0" y="0"/>
                </a:moveTo>
                <a:lnTo>
                  <a:pt x="318065" y="0"/>
                </a:lnTo>
                <a:lnTo>
                  <a:pt x="316665" y="1400"/>
                </a:lnTo>
                <a:lnTo>
                  <a:pt x="1400" y="1400"/>
                </a:lnTo>
                <a:close/>
              </a:path>
              <a:path fill="darken" w="318065" h="21600">
                <a:moveTo>
                  <a:pt x="318065" y="0"/>
                </a:moveTo>
                <a:lnTo>
                  <a:pt x="318065" y="21600"/>
                </a:lnTo>
                <a:lnTo>
                  <a:pt x="316665" y="20200"/>
                </a:lnTo>
                <a:lnTo>
                  <a:pt x="316665" y="1400"/>
                </a:lnTo>
                <a:close/>
              </a:path>
              <a:path fill="darkenLess" w="318065" h="21600">
                <a:moveTo>
                  <a:pt x="318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665" y="20200"/>
                </a:lnTo>
                <a:close/>
              </a:path>
              <a:path fill="lighten" w="318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ХОДЫ БЮДЖЕТ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76360" y="692280"/>
            <a:ext cx="6120000" cy="720720"/>
          </a:xfrm>
          <a:custGeom>
            <a:avLst/>
            <a:gdLst>
              <a:gd name="textAreaLeft" fmla="*/ 46440 w 6120000"/>
              <a:gd name="textAreaRight" fmla="*/ 6073560 w 612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83336" h="21600">
                <a:moveTo>
                  <a:pt x="0" y="0"/>
                </a:moveTo>
                <a:lnTo>
                  <a:pt x="183336" y="0"/>
                </a:lnTo>
                <a:lnTo>
                  <a:pt x="183336" y="21600"/>
                </a:lnTo>
                <a:lnTo>
                  <a:pt x="0" y="21600"/>
                </a:lnTo>
                <a:close/>
              </a:path>
              <a:path fill="lightenLess" w="183336" h="21600">
                <a:moveTo>
                  <a:pt x="0" y="0"/>
                </a:moveTo>
                <a:lnTo>
                  <a:pt x="183336" y="0"/>
                </a:lnTo>
                <a:lnTo>
                  <a:pt x="181936" y="1400"/>
                </a:lnTo>
                <a:lnTo>
                  <a:pt x="1400" y="1400"/>
                </a:lnTo>
                <a:close/>
              </a:path>
              <a:path fill="darken" w="183336" h="21600">
                <a:moveTo>
                  <a:pt x="183336" y="0"/>
                </a:moveTo>
                <a:lnTo>
                  <a:pt x="183336" y="21600"/>
                </a:lnTo>
                <a:lnTo>
                  <a:pt x="181936" y="20200"/>
                </a:lnTo>
                <a:lnTo>
                  <a:pt x="181936" y="1400"/>
                </a:lnTo>
                <a:close/>
              </a:path>
              <a:path fill="darkenLess" w="183336" h="21600">
                <a:moveTo>
                  <a:pt x="183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1936" y="20200"/>
                </a:lnTo>
                <a:close/>
              </a:path>
              <a:path fill="lighten" w="183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это выплачиваемы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48000" y="1484280"/>
            <a:ext cx="2519280" cy="1368360"/>
          </a:xfrm>
          <a:custGeom>
            <a:avLst/>
            <a:gdLst>
              <a:gd name="textAreaLeft" fmla="*/ 88560 w 2519280"/>
              <a:gd name="textAreaRight" fmla="*/ 2430720 w 2519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9763" h="21600">
                <a:moveTo>
                  <a:pt x="0" y="0"/>
                </a:moveTo>
                <a:lnTo>
                  <a:pt x="39763" y="0"/>
                </a:lnTo>
                <a:lnTo>
                  <a:pt x="39763" y="21600"/>
                </a:lnTo>
                <a:lnTo>
                  <a:pt x="0" y="21600"/>
                </a:lnTo>
                <a:close/>
              </a:path>
              <a:path fill="lightenLess" w="39763" h="21600">
                <a:moveTo>
                  <a:pt x="0" y="0"/>
                </a:moveTo>
                <a:lnTo>
                  <a:pt x="39763" y="0"/>
                </a:lnTo>
                <a:lnTo>
                  <a:pt x="38363" y="1400"/>
                </a:lnTo>
                <a:lnTo>
                  <a:pt x="1400" y="1400"/>
                </a:lnTo>
                <a:close/>
              </a:path>
              <a:path fill="darken" w="39763" h="21600">
                <a:moveTo>
                  <a:pt x="39763" y="0"/>
                </a:moveTo>
                <a:lnTo>
                  <a:pt x="39763" y="21600"/>
                </a:lnTo>
                <a:lnTo>
                  <a:pt x="38363" y="20200"/>
                </a:lnTo>
                <a:lnTo>
                  <a:pt x="38363" y="1400"/>
                </a:lnTo>
                <a:close/>
              </a:path>
              <a:path fill="darkenLess" w="39763" h="21600">
                <a:moveTo>
                  <a:pt x="39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63" y="20200"/>
                </a:lnTo>
                <a:close/>
              </a:path>
              <a:path fill="lighten" w="39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ов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 признака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429000"/>
            <a:ext cx="2987640" cy="3429000"/>
          </a:xfrm>
          <a:custGeom>
            <a:avLst/>
            <a:gdLst>
              <a:gd name="textAreaLeft" fmla="*/ 193320 w 2987640"/>
              <a:gd name="textAreaRight" fmla="*/ 2794320 w 2987640"/>
              <a:gd name="textAreaTop" fmla="*/ 193320 h 3429000"/>
              <a:gd name="textAreaBottom" fmla="*/ 3235680 h 3429000"/>
            </a:gdLst>
            <a:ahLst/>
            <a:rect l="textAreaLeft" t="textAreaTop" r="textAreaRight" b="textAreaBottom"/>
            <a:pathLst>
              <a:path w="21600" h="24791">
                <a:moveTo>
                  <a:pt x="0" y="0"/>
                </a:moveTo>
                <a:lnTo>
                  <a:pt x="21600" y="0"/>
                </a:lnTo>
                <a:lnTo>
                  <a:pt x="21600" y="24791"/>
                </a:lnTo>
                <a:lnTo>
                  <a:pt x="0" y="24791"/>
                </a:lnTo>
                <a:close/>
              </a:path>
              <a:path fill="lightenLess" w="21600" h="2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1">
                <a:moveTo>
                  <a:pt x="21600" y="0"/>
                </a:moveTo>
                <a:lnTo>
                  <a:pt x="21600" y="24791"/>
                </a:lnTo>
                <a:lnTo>
                  <a:pt x="20200" y="23391"/>
                </a:lnTo>
                <a:lnTo>
                  <a:pt x="20200" y="1400"/>
                </a:lnTo>
                <a:close/>
              </a:path>
              <a:path fill="darkenLess" w="21600" h="24791">
                <a:moveTo>
                  <a:pt x="21600" y="24791"/>
                </a:moveTo>
                <a:lnTo>
                  <a:pt x="0" y="24791"/>
                </a:lnTo>
                <a:lnTo>
                  <a:pt x="1400" y="23391"/>
                </a:lnTo>
                <a:lnTo>
                  <a:pt x="20200" y="23391"/>
                </a:lnTo>
                <a:close/>
              </a:path>
              <a:path fill="lighten" w="21600" h="24791">
                <a:moveTo>
                  <a:pt x="0" y="2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1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ональн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отражает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авлени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 бюджет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выполнени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х функци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раздел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евые стать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иды расходов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56360" y="3429000"/>
            <a:ext cx="2987640" cy="3429000"/>
          </a:xfrm>
          <a:custGeom>
            <a:avLst/>
            <a:gdLst>
              <a:gd name="textAreaLeft" fmla="*/ 193320 w 2987640"/>
              <a:gd name="textAreaRight" fmla="*/ 2794320 w 2987640"/>
              <a:gd name="textAreaTop" fmla="*/ 193320 h 3429000"/>
              <a:gd name="textAreaBottom" fmla="*/ 3235680 h 3429000"/>
            </a:gdLst>
            <a:ahLst/>
            <a:rect l="textAreaLeft" t="textAreaTop" r="textAreaRight" b="textAreaBottom"/>
            <a:pathLst>
              <a:path w="21600" h="24791">
                <a:moveTo>
                  <a:pt x="0" y="0"/>
                </a:moveTo>
                <a:lnTo>
                  <a:pt x="21600" y="0"/>
                </a:lnTo>
                <a:lnTo>
                  <a:pt x="21600" y="24791"/>
                </a:lnTo>
                <a:lnTo>
                  <a:pt x="0" y="24791"/>
                </a:lnTo>
                <a:close/>
              </a:path>
              <a:path fill="lightenLess" w="21600" h="2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1">
                <a:moveTo>
                  <a:pt x="21600" y="0"/>
                </a:moveTo>
                <a:lnTo>
                  <a:pt x="21600" y="24791"/>
                </a:lnTo>
                <a:lnTo>
                  <a:pt x="20200" y="23391"/>
                </a:lnTo>
                <a:lnTo>
                  <a:pt x="20200" y="1400"/>
                </a:lnTo>
                <a:close/>
              </a:path>
              <a:path fill="darkenLess" w="21600" h="24791">
                <a:moveTo>
                  <a:pt x="21600" y="24791"/>
                </a:moveTo>
                <a:lnTo>
                  <a:pt x="0" y="24791"/>
                </a:lnTo>
                <a:lnTo>
                  <a:pt x="1400" y="23391"/>
                </a:lnTo>
                <a:lnTo>
                  <a:pt x="20200" y="23391"/>
                </a:lnTo>
                <a:close/>
              </a:path>
              <a:path fill="lighten" w="21600" h="24791">
                <a:moveTo>
                  <a:pt x="0" y="2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ческ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а по экономическому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держанию (на текущи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капитальные расходы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 заработную плату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категория расходов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группы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едметные стать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дстатьи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87640" y="3429000"/>
            <a:ext cx="3168720" cy="3429000"/>
          </a:xfrm>
          <a:custGeom>
            <a:avLst/>
            <a:gdLst>
              <a:gd name="textAreaLeft" fmla="*/ 205200 w 3168720"/>
              <a:gd name="textAreaRight" fmla="*/ 2963520 w 3168720"/>
              <a:gd name="textAreaTop" fmla="*/ 205200 h 3429000"/>
              <a:gd name="textAreaBottom" fmla="*/ 3223800 h 3429000"/>
            </a:gdLst>
            <a:ahLst/>
            <a:rect l="textAreaLeft" t="textAreaTop" r="textAreaRight" b="textAreaBottom"/>
            <a:pathLst>
              <a:path w="21600" h="23374">
                <a:moveTo>
                  <a:pt x="0" y="0"/>
                </a:moveTo>
                <a:lnTo>
                  <a:pt x="21600" y="0"/>
                </a:lnTo>
                <a:lnTo>
                  <a:pt x="21600" y="23374"/>
                </a:lnTo>
                <a:lnTo>
                  <a:pt x="0" y="23374"/>
                </a:lnTo>
                <a:close/>
              </a:path>
              <a:path fill="lightenLess" w="21600" h="233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4">
                <a:moveTo>
                  <a:pt x="21600" y="0"/>
                </a:moveTo>
                <a:lnTo>
                  <a:pt x="21600" y="23374"/>
                </a:lnTo>
                <a:lnTo>
                  <a:pt x="20200" y="21974"/>
                </a:lnTo>
                <a:lnTo>
                  <a:pt x="20200" y="1400"/>
                </a:lnTo>
                <a:close/>
              </a:path>
              <a:path fill="darkenLess" w="21600" h="23374">
                <a:moveTo>
                  <a:pt x="21600" y="23374"/>
                </a:moveTo>
                <a:lnTo>
                  <a:pt x="0" y="23374"/>
                </a:lnTo>
                <a:lnTo>
                  <a:pt x="1400" y="21974"/>
                </a:lnTo>
                <a:lnTo>
                  <a:pt x="20200" y="21974"/>
                </a:lnTo>
                <a:close/>
              </a:path>
              <a:path fill="lighten" w="21600" h="23374">
                <a:moveTo>
                  <a:pt x="0" y="233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4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едомственн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а непосредственно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язана со структуро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правления, она отражает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уппировку лиц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лучающих бюджетны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редств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главны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спорядител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редств бюджета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2812200">
            <a:off x="1859040" y="1819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8622200">
            <a:off x="6541200" y="17485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56000" y="292428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411280" y="206064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00000" y="2421000"/>
            <a:ext cx="86364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331640" y="5805360"/>
            <a:ext cx="7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474560" y="6021360"/>
            <a:ext cx="21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48436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340000" y="602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028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675640" y="602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67564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4000" cy="981000"/>
          </a:xfrm>
          <a:custGeom>
            <a:avLst/>
            <a:gdLst>
              <a:gd name="textAreaLeft" fmla="*/ 63360 w 9144000"/>
              <a:gd name="textAreaRight" fmla="*/ 9080640 w 9144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01270" h="21600">
                <a:moveTo>
                  <a:pt x="0" y="0"/>
                </a:moveTo>
                <a:lnTo>
                  <a:pt x="201270" y="0"/>
                </a:lnTo>
                <a:lnTo>
                  <a:pt x="201270" y="21600"/>
                </a:lnTo>
                <a:lnTo>
                  <a:pt x="0" y="21600"/>
                </a:lnTo>
                <a:close/>
              </a:path>
              <a:path fill="lightenLess" w="201270" h="21600">
                <a:moveTo>
                  <a:pt x="0" y="0"/>
                </a:moveTo>
                <a:lnTo>
                  <a:pt x="201270" y="0"/>
                </a:lnTo>
                <a:lnTo>
                  <a:pt x="199870" y="1400"/>
                </a:lnTo>
                <a:lnTo>
                  <a:pt x="1400" y="1400"/>
                </a:lnTo>
                <a:close/>
              </a:path>
              <a:path fill="darken" w="201270" h="21600">
                <a:moveTo>
                  <a:pt x="201270" y="0"/>
                </a:moveTo>
                <a:lnTo>
                  <a:pt x="201270" y="21600"/>
                </a:lnTo>
                <a:lnTo>
                  <a:pt x="199870" y="20200"/>
                </a:lnTo>
                <a:lnTo>
                  <a:pt x="199870" y="1400"/>
                </a:lnTo>
                <a:close/>
              </a:path>
              <a:path fill="darkenLess" w="201270" h="21600">
                <a:moveTo>
                  <a:pt x="20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9870" y="20200"/>
                </a:lnTo>
                <a:close/>
              </a:path>
              <a:path fill="lighten" w="20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ходы бюджета района по Главным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порядителям бюджетных средст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981000"/>
            <a:ext cx="5219640" cy="863640"/>
          </a:xfrm>
          <a:custGeom>
            <a:avLst/>
            <a:gdLst>
              <a:gd name="textAreaLeft" fmla="*/ 55800 w 5219640"/>
              <a:gd name="textAreaRight" fmla="*/ 5163840 w 521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30500" h="21600">
                <a:moveTo>
                  <a:pt x="0" y="0"/>
                </a:moveTo>
                <a:lnTo>
                  <a:pt x="130500" y="0"/>
                </a:lnTo>
                <a:lnTo>
                  <a:pt x="130500" y="21600"/>
                </a:lnTo>
                <a:lnTo>
                  <a:pt x="0" y="21600"/>
                </a:lnTo>
                <a:close/>
              </a:path>
              <a:path fill="lightenLess" w="130500" h="21600">
                <a:moveTo>
                  <a:pt x="0" y="0"/>
                </a:moveTo>
                <a:lnTo>
                  <a:pt x="130500" y="0"/>
                </a:lnTo>
                <a:lnTo>
                  <a:pt x="129100" y="1400"/>
                </a:lnTo>
                <a:lnTo>
                  <a:pt x="1400" y="1400"/>
                </a:lnTo>
                <a:close/>
              </a:path>
              <a:path fill="darken" w="130500" h="21600">
                <a:moveTo>
                  <a:pt x="130500" y="0"/>
                </a:moveTo>
                <a:lnTo>
                  <a:pt x="130500" y="21600"/>
                </a:lnTo>
                <a:lnTo>
                  <a:pt x="129100" y="20200"/>
                </a:lnTo>
                <a:lnTo>
                  <a:pt x="129100" y="1400"/>
                </a:lnTo>
                <a:close/>
              </a:path>
              <a:path fill="darkenLess" w="130500" h="21600">
                <a:moveTo>
                  <a:pt x="1305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100" y="20200"/>
                </a:lnTo>
                <a:close/>
              </a:path>
              <a:path fill="lighten" w="1305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аименование показате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812000" y="981000"/>
            <a:ext cx="1332000" cy="863640"/>
          </a:xfrm>
          <a:custGeom>
            <a:avLst/>
            <a:gdLst>
              <a:gd name="textAreaLeft" fmla="*/ 55800 w 1332000"/>
              <a:gd name="textAreaRight" fmla="*/ 1276200 w 1332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3309" h="21600">
                <a:moveTo>
                  <a:pt x="0" y="0"/>
                </a:moveTo>
                <a:lnTo>
                  <a:pt x="33309" y="0"/>
                </a:lnTo>
                <a:lnTo>
                  <a:pt x="33309" y="21600"/>
                </a:lnTo>
                <a:lnTo>
                  <a:pt x="0" y="21600"/>
                </a:lnTo>
                <a:close/>
              </a:path>
              <a:path fill="lightenLess" w="33309" h="21600">
                <a:moveTo>
                  <a:pt x="0" y="0"/>
                </a:moveTo>
                <a:lnTo>
                  <a:pt x="33309" y="0"/>
                </a:lnTo>
                <a:lnTo>
                  <a:pt x="31909" y="1400"/>
                </a:lnTo>
                <a:lnTo>
                  <a:pt x="1400" y="1400"/>
                </a:lnTo>
                <a:close/>
              </a:path>
              <a:path fill="darken" w="33309" h="21600">
                <a:moveTo>
                  <a:pt x="33309" y="0"/>
                </a:moveTo>
                <a:lnTo>
                  <a:pt x="33309" y="21600"/>
                </a:lnTo>
                <a:lnTo>
                  <a:pt x="31909" y="20200"/>
                </a:lnTo>
                <a:lnTo>
                  <a:pt x="31909" y="1400"/>
                </a:lnTo>
                <a:close/>
              </a:path>
              <a:path fill="darkenLess" w="33309" h="21600">
                <a:moveTo>
                  <a:pt x="33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09" y="20200"/>
                </a:lnTo>
                <a:close/>
              </a:path>
              <a:path fill="lighten" w="33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н 2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16720" y="981000"/>
            <a:ext cx="1297080" cy="863640"/>
          </a:xfrm>
          <a:custGeom>
            <a:avLst/>
            <a:gdLst>
              <a:gd name="textAreaLeft" fmla="*/ 55800 w 1297080"/>
              <a:gd name="textAreaRight" fmla="*/ 1241280 w 1297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н 2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19640" y="981000"/>
            <a:ext cx="1297080" cy="863640"/>
          </a:xfrm>
          <a:custGeom>
            <a:avLst/>
            <a:gdLst>
              <a:gd name="textAreaLeft" fmla="*/ 55800 w 1297080"/>
              <a:gd name="textAreaRight" fmla="*/ 1241280 w 1297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н 2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184464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министрация Зырянского район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мской област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256536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правление образования Администраци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ырянского район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84640"/>
            <a:ext cx="5219640" cy="1152360"/>
          </a:xfrm>
          <a:custGeom>
            <a:avLst/>
            <a:gdLst>
              <a:gd name="textAreaLeft" fmla="*/ 74520 w 5219640"/>
              <a:gd name="textAreaRight" fmla="*/ 5145120 w 5219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97814" h="21600">
                <a:moveTo>
                  <a:pt x="0" y="0"/>
                </a:moveTo>
                <a:lnTo>
                  <a:pt x="97814" y="0"/>
                </a:lnTo>
                <a:lnTo>
                  <a:pt x="97814" y="21600"/>
                </a:lnTo>
                <a:lnTo>
                  <a:pt x="0" y="21600"/>
                </a:lnTo>
                <a:close/>
              </a:path>
              <a:path fill="lightenLess" w="97814" h="21600">
                <a:moveTo>
                  <a:pt x="0" y="0"/>
                </a:moveTo>
                <a:lnTo>
                  <a:pt x="97814" y="0"/>
                </a:lnTo>
                <a:lnTo>
                  <a:pt x="96414" y="1400"/>
                </a:lnTo>
                <a:lnTo>
                  <a:pt x="1400" y="1400"/>
                </a:lnTo>
                <a:close/>
              </a:path>
              <a:path fill="darken" w="97814" h="21600">
                <a:moveTo>
                  <a:pt x="97814" y="0"/>
                </a:moveTo>
                <a:lnTo>
                  <a:pt x="97814" y="21600"/>
                </a:lnTo>
                <a:lnTo>
                  <a:pt x="96414" y="20200"/>
                </a:lnTo>
                <a:lnTo>
                  <a:pt x="96414" y="1400"/>
                </a:lnTo>
                <a:close/>
              </a:path>
              <a:path fill="darkenLess" w="97814" h="21600">
                <a:moveTo>
                  <a:pt x="9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414" y="20200"/>
                </a:lnTo>
                <a:close/>
              </a:path>
              <a:path fill="lighten" w="9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казённое учреждени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Управление жизнеобеспечения, муниципального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мущества и земельных отношени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министрации Зырянского района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4437000"/>
            <a:ext cx="5219640" cy="865080"/>
          </a:xfrm>
          <a:custGeom>
            <a:avLst/>
            <a:gdLst>
              <a:gd name="textAreaLeft" fmla="*/ 55800 w 5219640"/>
              <a:gd name="textAreaRight" fmla="*/ 5163840 w 521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130283" h="21600">
                <a:moveTo>
                  <a:pt x="0" y="0"/>
                </a:moveTo>
                <a:lnTo>
                  <a:pt x="130283" y="0"/>
                </a:lnTo>
                <a:lnTo>
                  <a:pt x="130283" y="21600"/>
                </a:lnTo>
                <a:lnTo>
                  <a:pt x="0" y="21600"/>
                </a:lnTo>
                <a:close/>
              </a:path>
              <a:path fill="lightenLess" w="130283" h="21600">
                <a:moveTo>
                  <a:pt x="0" y="0"/>
                </a:moveTo>
                <a:lnTo>
                  <a:pt x="130283" y="0"/>
                </a:lnTo>
                <a:lnTo>
                  <a:pt x="128883" y="1400"/>
                </a:lnTo>
                <a:lnTo>
                  <a:pt x="1400" y="1400"/>
                </a:lnTo>
                <a:close/>
              </a:path>
              <a:path fill="darken" w="130283" h="21600">
                <a:moveTo>
                  <a:pt x="130283" y="0"/>
                </a:moveTo>
                <a:lnTo>
                  <a:pt x="130283" y="21600"/>
                </a:lnTo>
                <a:lnTo>
                  <a:pt x="128883" y="20200"/>
                </a:lnTo>
                <a:lnTo>
                  <a:pt x="128883" y="1400"/>
                </a:lnTo>
                <a:close/>
              </a:path>
              <a:path fill="darkenLess" w="130283" h="21600">
                <a:moveTo>
                  <a:pt x="130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883" y="20200"/>
                </a:lnTo>
                <a:close/>
              </a:path>
              <a:path fill="lighten" w="130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казённое учреждени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Управление финансов Администраци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ырянского район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300640"/>
            <a:ext cx="5219640" cy="504720"/>
          </a:xfrm>
          <a:custGeom>
            <a:avLst/>
            <a:gdLst>
              <a:gd name="textAreaLeft" fmla="*/ 32400 w 5219640"/>
              <a:gd name="textAreaRight" fmla="*/ 5187240 w 521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23236" h="21600">
                <a:moveTo>
                  <a:pt x="0" y="0"/>
                </a:moveTo>
                <a:lnTo>
                  <a:pt x="223236" y="0"/>
                </a:lnTo>
                <a:lnTo>
                  <a:pt x="223236" y="21600"/>
                </a:lnTo>
                <a:lnTo>
                  <a:pt x="0" y="21600"/>
                </a:lnTo>
                <a:close/>
              </a:path>
              <a:path fill="lightenLess" w="223236" h="21600">
                <a:moveTo>
                  <a:pt x="0" y="0"/>
                </a:moveTo>
                <a:lnTo>
                  <a:pt x="223236" y="0"/>
                </a:lnTo>
                <a:lnTo>
                  <a:pt x="221836" y="1400"/>
                </a:lnTo>
                <a:lnTo>
                  <a:pt x="1400" y="1400"/>
                </a:lnTo>
                <a:close/>
              </a:path>
              <a:path fill="darken" w="223236" h="21600">
                <a:moveTo>
                  <a:pt x="223236" y="0"/>
                </a:moveTo>
                <a:lnTo>
                  <a:pt x="223236" y="21600"/>
                </a:lnTo>
                <a:lnTo>
                  <a:pt x="221836" y="20200"/>
                </a:lnTo>
                <a:lnTo>
                  <a:pt x="221836" y="1400"/>
                </a:lnTo>
                <a:close/>
              </a:path>
              <a:path fill="darkenLess" w="223236" h="21600">
                <a:moveTo>
                  <a:pt x="22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6" y="20200"/>
                </a:lnTo>
                <a:close/>
              </a:path>
              <a:path fill="lighten" w="22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ума Зырянского район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5805360"/>
            <a:ext cx="5219640" cy="576360"/>
          </a:xfrm>
          <a:custGeom>
            <a:avLst/>
            <a:gdLst>
              <a:gd name="textAreaLeft" fmla="*/ 37080 w 5219640"/>
              <a:gd name="textAreaRight" fmla="*/ 5182560 w 521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95506" h="21600">
                <a:moveTo>
                  <a:pt x="0" y="0"/>
                </a:moveTo>
                <a:lnTo>
                  <a:pt x="195506" y="0"/>
                </a:lnTo>
                <a:lnTo>
                  <a:pt x="195506" y="21600"/>
                </a:lnTo>
                <a:lnTo>
                  <a:pt x="0" y="21600"/>
                </a:lnTo>
                <a:close/>
              </a:path>
              <a:path fill="lightenLess" w="195506" h="21600">
                <a:moveTo>
                  <a:pt x="0" y="0"/>
                </a:moveTo>
                <a:lnTo>
                  <a:pt x="195506" y="0"/>
                </a:lnTo>
                <a:lnTo>
                  <a:pt x="194106" y="1400"/>
                </a:lnTo>
                <a:lnTo>
                  <a:pt x="1400" y="1400"/>
                </a:lnTo>
                <a:close/>
              </a:path>
              <a:path fill="darken" w="195506" h="21600">
                <a:moveTo>
                  <a:pt x="195506" y="0"/>
                </a:moveTo>
                <a:lnTo>
                  <a:pt x="195506" y="21600"/>
                </a:lnTo>
                <a:lnTo>
                  <a:pt x="194106" y="20200"/>
                </a:lnTo>
                <a:lnTo>
                  <a:pt x="194106" y="1400"/>
                </a:lnTo>
                <a:close/>
              </a:path>
              <a:path fill="darkenLess" w="195506" h="21600">
                <a:moveTo>
                  <a:pt x="195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4106" y="20200"/>
                </a:lnTo>
                <a:close/>
              </a:path>
              <a:path fill="lighten" w="195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нтрольно-счетный орган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ырянского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йон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381720"/>
            <a:ext cx="5219640" cy="476280"/>
          </a:xfrm>
          <a:custGeom>
            <a:avLst/>
            <a:gdLst>
              <a:gd name="textAreaLeft" fmla="*/ 30600 w 5219640"/>
              <a:gd name="textAreaRight" fmla="*/ 5189040 w 521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36556" h="21600">
                <a:moveTo>
                  <a:pt x="0" y="0"/>
                </a:moveTo>
                <a:lnTo>
                  <a:pt x="236556" y="0"/>
                </a:lnTo>
                <a:lnTo>
                  <a:pt x="236556" y="21600"/>
                </a:lnTo>
                <a:lnTo>
                  <a:pt x="0" y="21600"/>
                </a:lnTo>
                <a:close/>
              </a:path>
              <a:path fill="lightenLess" w="236556" h="21600">
                <a:moveTo>
                  <a:pt x="0" y="0"/>
                </a:moveTo>
                <a:lnTo>
                  <a:pt x="236556" y="0"/>
                </a:lnTo>
                <a:lnTo>
                  <a:pt x="235156" y="1400"/>
                </a:lnTo>
                <a:lnTo>
                  <a:pt x="1400" y="1400"/>
                </a:lnTo>
                <a:close/>
              </a:path>
              <a:path fill="darken" w="236556" h="21600">
                <a:moveTo>
                  <a:pt x="236556" y="0"/>
                </a:moveTo>
                <a:lnTo>
                  <a:pt x="236556" y="21600"/>
                </a:lnTo>
                <a:lnTo>
                  <a:pt x="235156" y="20200"/>
                </a:lnTo>
                <a:lnTo>
                  <a:pt x="235156" y="1400"/>
                </a:lnTo>
                <a:close/>
              </a:path>
              <a:path fill="darkenLess" w="236556" h="21600">
                <a:moveTo>
                  <a:pt x="236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56" y="20200"/>
                </a:lnTo>
                <a:close/>
              </a:path>
              <a:path fill="lighten" w="236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19640" y="1844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32 17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19640" y="256536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 26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19640" y="3284640"/>
            <a:ext cx="1297080" cy="11509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4342" h="21600">
                <a:moveTo>
                  <a:pt x="0" y="0"/>
                </a:moveTo>
                <a:lnTo>
                  <a:pt x="24342" y="0"/>
                </a:lnTo>
                <a:lnTo>
                  <a:pt x="24342" y="21600"/>
                </a:lnTo>
                <a:lnTo>
                  <a:pt x="0" y="21600"/>
                </a:lnTo>
                <a:close/>
              </a:path>
              <a:path fill="lightenLess" w="24342" h="21600">
                <a:moveTo>
                  <a:pt x="0" y="0"/>
                </a:moveTo>
                <a:lnTo>
                  <a:pt x="24342" y="0"/>
                </a:lnTo>
                <a:lnTo>
                  <a:pt x="22942" y="1400"/>
                </a:lnTo>
                <a:lnTo>
                  <a:pt x="1400" y="1400"/>
                </a:lnTo>
                <a:close/>
              </a:path>
              <a:path fill="darken" w="24342" h="21600">
                <a:moveTo>
                  <a:pt x="24342" y="0"/>
                </a:moveTo>
                <a:lnTo>
                  <a:pt x="24342" y="21600"/>
                </a:lnTo>
                <a:lnTo>
                  <a:pt x="22942" y="20200"/>
                </a:lnTo>
                <a:lnTo>
                  <a:pt x="22942" y="1400"/>
                </a:lnTo>
                <a:close/>
              </a:path>
              <a:path fill="darkenLess" w="24342" h="21600">
                <a:moveTo>
                  <a:pt x="24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2" y="20200"/>
                </a:lnTo>
                <a:close/>
              </a:path>
              <a:path fill="lighten" w="24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44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19640" y="4437000"/>
            <a:ext cx="1297080" cy="863640"/>
          </a:xfrm>
          <a:custGeom>
            <a:avLst/>
            <a:gdLst>
              <a:gd name="textAreaLeft" fmla="*/ 55800 w 1297080"/>
              <a:gd name="textAreaRight" fmla="*/ 1241280 w 1297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1 747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219640" y="5300640"/>
            <a:ext cx="1297080" cy="503280"/>
          </a:xfrm>
          <a:custGeom>
            <a:avLst/>
            <a:gdLst>
              <a:gd name="textAreaLeft" fmla="*/ 32400 w 1297080"/>
              <a:gd name="textAreaRight" fmla="*/ 1264680 w 1297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5644" h="21600">
                <a:moveTo>
                  <a:pt x="0" y="0"/>
                </a:moveTo>
                <a:lnTo>
                  <a:pt x="55644" y="0"/>
                </a:lnTo>
                <a:lnTo>
                  <a:pt x="55644" y="21600"/>
                </a:lnTo>
                <a:lnTo>
                  <a:pt x="0" y="21600"/>
                </a:lnTo>
                <a:close/>
              </a:path>
              <a:path fill="lightenLess" w="55644" h="21600">
                <a:moveTo>
                  <a:pt x="0" y="0"/>
                </a:moveTo>
                <a:lnTo>
                  <a:pt x="55644" y="0"/>
                </a:lnTo>
                <a:lnTo>
                  <a:pt x="54244" y="1400"/>
                </a:lnTo>
                <a:lnTo>
                  <a:pt x="1400" y="1400"/>
                </a:lnTo>
                <a:close/>
              </a:path>
              <a:path fill="darken" w="55644" h="21600">
                <a:moveTo>
                  <a:pt x="55644" y="0"/>
                </a:moveTo>
                <a:lnTo>
                  <a:pt x="55644" y="21600"/>
                </a:lnTo>
                <a:lnTo>
                  <a:pt x="54244" y="20200"/>
                </a:lnTo>
                <a:lnTo>
                  <a:pt x="54244" y="1400"/>
                </a:lnTo>
                <a:close/>
              </a:path>
              <a:path fill="darkenLess" w="55644" h="21600">
                <a:moveTo>
                  <a:pt x="55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44" y="20200"/>
                </a:lnTo>
                <a:close/>
              </a:path>
              <a:path fill="lighten" w="55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9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219640" y="5805360"/>
            <a:ext cx="1297080" cy="574920"/>
          </a:xfrm>
          <a:custGeom>
            <a:avLst/>
            <a:gdLst>
              <a:gd name="textAreaLeft" fmla="*/ 37080 w 1297080"/>
              <a:gd name="textAreaRight" fmla="*/ 1260000 w 1297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48715" h="21600">
                <a:moveTo>
                  <a:pt x="0" y="0"/>
                </a:moveTo>
                <a:lnTo>
                  <a:pt x="48715" y="0"/>
                </a:lnTo>
                <a:lnTo>
                  <a:pt x="48715" y="21600"/>
                </a:lnTo>
                <a:lnTo>
                  <a:pt x="0" y="21600"/>
                </a:lnTo>
                <a:close/>
              </a:path>
              <a:path fill="lightenLess" w="48715" h="21600">
                <a:moveTo>
                  <a:pt x="0" y="0"/>
                </a:moveTo>
                <a:lnTo>
                  <a:pt x="48715" y="0"/>
                </a:lnTo>
                <a:lnTo>
                  <a:pt x="47315" y="1400"/>
                </a:lnTo>
                <a:lnTo>
                  <a:pt x="1400" y="1400"/>
                </a:lnTo>
                <a:close/>
              </a:path>
              <a:path fill="darken" w="48715" h="21600">
                <a:moveTo>
                  <a:pt x="48715" y="0"/>
                </a:moveTo>
                <a:lnTo>
                  <a:pt x="48715" y="21600"/>
                </a:lnTo>
                <a:lnTo>
                  <a:pt x="47315" y="20200"/>
                </a:lnTo>
                <a:lnTo>
                  <a:pt x="47315" y="1400"/>
                </a:lnTo>
                <a:close/>
              </a:path>
              <a:path fill="darkenLess" w="48715" h="21600">
                <a:moveTo>
                  <a:pt x="48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15" y="20200"/>
                </a:lnTo>
                <a:close/>
              </a:path>
              <a:path fill="lighten" w="48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6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19640" y="6381720"/>
            <a:ext cx="1297080" cy="476280"/>
          </a:xfrm>
          <a:custGeom>
            <a:avLst/>
            <a:gdLst>
              <a:gd name="textAreaLeft" fmla="*/ 30600 w 1297080"/>
              <a:gd name="textAreaRight" fmla="*/ 1266480 w 1297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8796" h="21600">
                <a:moveTo>
                  <a:pt x="0" y="0"/>
                </a:moveTo>
                <a:lnTo>
                  <a:pt x="58796" y="0"/>
                </a:lnTo>
                <a:lnTo>
                  <a:pt x="58796" y="21600"/>
                </a:lnTo>
                <a:lnTo>
                  <a:pt x="0" y="21600"/>
                </a:lnTo>
                <a:close/>
              </a:path>
              <a:path fill="lightenLess" w="58796" h="21600">
                <a:moveTo>
                  <a:pt x="0" y="0"/>
                </a:moveTo>
                <a:lnTo>
                  <a:pt x="58796" y="0"/>
                </a:lnTo>
                <a:lnTo>
                  <a:pt x="57396" y="1400"/>
                </a:lnTo>
                <a:lnTo>
                  <a:pt x="1400" y="1400"/>
                </a:lnTo>
                <a:close/>
              </a:path>
              <a:path fill="darken" w="58796" h="21600">
                <a:moveTo>
                  <a:pt x="58796" y="0"/>
                </a:moveTo>
                <a:lnTo>
                  <a:pt x="58796" y="21600"/>
                </a:lnTo>
                <a:lnTo>
                  <a:pt x="57396" y="20200"/>
                </a:lnTo>
                <a:lnTo>
                  <a:pt x="57396" y="1400"/>
                </a:lnTo>
                <a:close/>
              </a:path>
              <a:path fill="darkenLess" w="58796" h="21600">
                <a:moveTo>
                  <a:pt x="5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96" y="20200"/>
                </a:lnTo>
                <a:close/>
              </a:path>
              <a:path fill="lighten" w="5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09 197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16720" y="1844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9 11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16720" y="256536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95 38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3284640"/>
            <a:ext cx="1297080" cy="115236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12" h="21600">
                <a:moveTo>
                  <a:pt x="0" y="0"/>
                </a:moveTo>
                <a:lnTo>
                  <a:pt x="24312" y="0"/>
                </a:lnTo>
                <a:lnTo>
                  <a:pt x="24312" y="21600"/>
                </a:lnTo>
                <a:lnTo>
                  <a:pt x="0" y="21600"/>
                </a:lnTo>
                <a:close/>
              </a:path>
              <a:path fill="lightenLess" w="24312" h="21600">
                <a:moveTo>
                  <a:pt x="0" y="0"/>
                </a:moveTo>
                <a:lnTo>
                  <a:pt x="24312" y="0"/>
                </a:lnTo>
                <a:lnTo>
                  <a:pt x="22912" y="1400"/>
                </a:lnTo>
                <a:lnTo>
                  <a:pt x="1400" y="1400"/>
                </a:lnTo>
                <a:close/>
              </a:path>
              <a:path fill="darken" w="24312" h="21600">
                <a:moveTo>
                  <a:pt x="24312" y="0"/>
                </a:moveTo>
                <a:lnTo>
                  <a:pt x="24312" y="21600"/>
                </a:lnTo>
                <a:lnTo>
                  <a:pt x="22912" y="20200"/>
                </a:lnTo>
                <a:lnTo>
                  <a:pt x="22912" y="1400"/>
                </a:lnTo>
                <a:close/>
              </a:path>
              <a:path fill="darkenLess" w="24312" h="21600">
                <a:moveTo>
                  <a:pt x="24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12" y="20200"/>
                </a:lnTo>
                <a:close/>
              </a:path>
              <a:path fill="lighten" w="24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34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16720" y="4437000"/>
            <a:ext cx="1297080" cy="865080"/>
          </a:xfrm>
          <a:custGeom>
            <a:avLst/>
            <a:gdLst>
              <a:gd name="textAreaLeft" fmla="*/ 55800 w 1297080"/>
              <a:gd name="textAreaRight" fmla="*/ 1241280 w 12970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 887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16720" y="5300640"/>
            <a:ext cx="1297080" cy="504720"/>
          </a:xfrm>
          <a:custGeom>
            <a:avLst/>
            <a:gdLst>
              <a:gd name="textAreaLeft" fmla="*/ 32400 w 1297080"/>
              <a:gd name="textAreaRight" fmla="*/ 1264680 w 129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5486" h="21600">
                <a:moveTo>
                  <a:pt x="0" y="0"/>
                </a:moveTo>
                <a:lnTo>
                  <a:pt x="55486" y="0"/>
                </a:lnTo>
                <a:lnTo>
                  <a:pt x="55486" y="21600"/>
                </a:lnTo>
                <a:lnTo>
                  <a:pt x="0" y="21600"/>
                </a:lnTo>
                <a:close/>
              </a:path>
              <a:path fill="lightenLess" w="55486" h="21600">
                <a:moveTo>
                  <a:pt x="0" y="0"/>
                </a:moveTo>
                <a:lnTo>
                  <a:pt x="55486" y="0"/>
                </a:lnTo>
                <a:lnTo>
                  <a:pt x="54086" y="1400"/>
                </a:lnTo>
                <a:lnTo>
                  <a:pt x="1400" y="1400"/>
                </a:lnTo>
                <a:close/>
              </a:path>
              <a:path fill="darken" w="55486" h="21600">
                <a:moveTo>
                  <a:pt x="55486" y="0"/>
                </a:moveTo>
                <a:lnTo>
                  <a:pt x="55486" y="21600"/>
                </a:lnTo>
                <a:lnTo>
                  <a:pt x="54086" y="20200"/>
                </a:lnTo>
                <a:lnTo>
                  <a:pt x="54086" y="1400"/>
                </a:lnTo>
                <a:close/>
              </a:path>
              <a:path fill="darkenLess" w="55486" h="21600">
                <a:moveTo>
                  <a:pt x="55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86" y="20200"/>
                </a:lnTo>
                <a:close/>
              </a:path>
              <a:path fill="lighten" w="55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516720" y="5805360"/>
            <a:ext cx="1297080" cy="576360"/>
          </a:xfrm>
          <a:custGeom>
            <a:avLst/>
            <a:gdLst>
              <a:gd name="textAreaLeft" fmla="*/ 37080 w 1297080"/>
              <a:gd name="textAreaRight" fmla="*/ 1260000 w 1297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93" h="21600">
                <a:moveTo>
                  <a:pt x="0" y="0"/>
                </a:moveTo>
                <a:lnTo>
                  <a:pt x="48593" y="0"/>
                </a:lnTo>
                <a:lnTo>
                  <a:pt x="48593" y="21600"/>
                </a:lnTo>
                <a:lnTo>
                  <a:pt x="0" y="21600"/>
                </a:lnTo>
                <a:close/>
              </a:path>
              <a:path fill="lightenLess" w="48593" h="21600">
                <a:moveTo>
                  <a:pt x="0" y="0"/>
                </a:moveTo>
                <a:lnTo>
                  <a:pt x="48593" y="0"/>
                </a:lnTo>
                <a:lnTo>
                  <a:pt x="47193" y="1400"/>
                </a:lnTo>
                <a:lnTo>
                  <a:pt x="1400" y="1400"/>
                </a:lnTo>
                <a:close/>
              </a:path>
              <a:path fill="darken" w="48593" h="21600">
                <a:moveTo>
                  <a:pt x="48593" y="0"/>
                </a:moveTo>
                <a:lnTo>
                  <a:pt x="48593" y="21600"/>
                </a:lnTo>
                <a:lnTo>
                  <a:pt x="47193" y="20200"/>
                </a:lnTo>
                <a:lnTo>
                  <a:pt x="47193" y="1400"/>
                </a:lnTo>
                <a:close/>
              </a:path>
              <a:path fill="darkenLess" w="48593" h="21600">
                <a:moveTo>
                  <a:pt x="4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3" y="20200"/>
                </a:lnTo>
                <a:close/>
              </a:path>
              <a:path fill="lighten" w="4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8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516720" y="6381720"/>
            <a:ext cx="1297080" cy="476280"/>
          </a:xfrm>
          <a:custGeom>
            <a:avLst/>
            <a:gdLst>
              <a:gd name="textAreaLeft" fmla="*/ 30600 w 1297080"/>
              <a:gd name="textAreaRight" fmla="*/ 1266480 w 1297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8796" h="21600">
                <a:moveTo>
                  <a:pt x="0" y="0"/>
                </a:moveTo>
                <a:lnTo>
                  <a:pt x="58796" y="0"/>
                </a:lnTo>
                <a:lnTo>
                  <a:pt x="58796" y="21600"/>
                </a:lnTo>
                <a:lnTo>
                  <a:pt x="0" y="21600"/>
                </a:lnTo>
                <a:close/>
              </a:path>
              <a:path fill="lightenLess" w="58796" h="21600">
                <a:moveTo>
                  <a:pt x="0" y="0"/>
                </a:moveTo>
                <a:lnTo>
                  <a:pt x="58796" y="0"/>
                </a:lnTo>
                <a:lnTo>
                  <a:pt x="57396" y="1400"/>
                </a:lnTo>
                <a:lnTo>
                  <a:pt x="1400" y="1400"/>
                </a:lnTo>
                <a:close/>
              </a:path>
              <a:path fill="darken" w="58796" h="21600">
                <a:moveTo>
                  <a:pt x="58796" y="0"/>
                </a:moveTo>
                <a:lnTo>
                  <a:pt x="58796" y="21600"/>
                </a:lnTo>
                <a:lnTo>
                  <a:pt x="57396" y="20200"/>
                </a:lnTo>
                <a:lnTo>
                  <a:pt x="57396" y="1400"/>
                </a:lnTo>
                <a:close/>
              </a:path>
              <a:path fill="darkenLess" w="58796" h="21600">
                <a:moveTo>
                  <a:pt x="5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96" y="20200"/>
                </a:lnTo>
                <a:close/>
              </a:path>
              <a:path fill="lighten" w="5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90 15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812000" y="184464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7 47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812000" y="256536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90 83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812000" y="3284640"/>
            <a:ext cx="1332000" cy="1152360"/>
          </a:xfrm>
          <a:custGeom>
            <a:avLst/>
            <a:gdLst>
              <a:gd name="textAreaLeft" fmla="*/ 74520 w 1332000"/>
              <a:gd name="textAreaRight" fmla="*/ 1257480 w 133200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966" h="21600">
                <a:moveTo>
                  <a:pt x="0" y="0"/>
                </a:moveTo>
                <a:lnTo>
                  <a:pt x="24966" y="0"/>
                </a:lnTo>
                <a:lnTo>
                  <a:pt x="24966" y="21600"/>
                </a:lnTo>
                <a:lnTo>
                  <a:pt x="0" y="21600"/>
                </a:lnTo>
                <a:close/>
              </a:path>
              <a:path fill="lightenLess" w="24966" h="21600">
                <a:moveTo>
                  <a:pt x="0" y="0"/>
                </a:moveTo>
                <a:lnTo>
                  <a:pt x="24966" y="0"/>
                </a:lnTo>
                <a:lnTo>
                  <a:pt x="23566" y="1400"/>
                </a:lnTo>
                <a:lnTo>
                  <a:pt x="1400" y="1400"/>
                </a:lnTo>
                <a:close/>
              </a:path>
              <a:path fill="darken" w="24966" h="21600">
                <a:moveTo>
                  <a:pt x="24966" y="0"/>
                </a:moveTo>
                <a:lnTo>
                  <a:pt x="24966" y="21600"/>
                </a:lnTo>
                <a:lnTo>
                  <a:pt x="23566" y="20200"/>
                </a:lnTo>
                <a:lnTo>
                  <a:pt x="23566" y="1400"/>
                </a:lnTo>
                <a:close/>
              </a:path>
              <a:path fill="darkenLess" w="24966" h="21600">
                <a:moveTo>
                  <a:pt x="24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66" y="20200"/>
                </a:lnTo>
                <a:close/>
              </a:path>
              <a:path fill="lighten" w="24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25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812000" y="4437000"/>
            <a:ext cx="1332000" cy="865080"/>
          </a:xfrm>
          <a:custGeom>
            <a:avLst/>
            <a:gdLst>
              <a:gd name="textAreaLeft" fmla="*/ 55800 w 1332000"/>
              <a:gd name="textAreaRight" fmla="*/ 1276200 w 1332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3254" h="21600">
                <a:moveTo>
                  <a:pt x="0" y="0"/>
                </a:moveTo>
                <a:lnTo>
                  <a:pt x="33254" y="0"/>
                </a:lnTo>
                <a:lnTo>
                  <a:pt x="33254" y="21600"/>
                </a:lnTo>
                <a:lnTo>
                  <a:pt x="0" y="21600"/>
                </a:lnTo>
                <a:close/>
              </a:path>
              <a:path fill="lightenLess" w="33254" h="21600">
                <a:moveTo>
                  <a:pt x="0" y="0"/>
                </a:moveTo>
                <a:lnTo>
                  <a:pt x="33254" y="0"/>
                </a:lnTo>
                <a:lnTo>
                  <a:pt x="31854" y="1400"/>
                </a:lnTo>
                <a:lnTo>
                  <a:pt x="1400" y="1400"/>
                </a:lnTo>
                <a:close/>
              </a:path>
              <a:path fill="darken" w="33254" h="21600">
                <a:moveTo>
                  <a:pt x="33254" y="0"/>
                </a:moveTo>
                <a:lnTo>
                  <a:pt x="33254" y="21600"/>
                </a:lnTo>
                <a:lnTo>
                  <a:pt x="31854" y="20200"/>
                </a:lnTo>
                <a:lnTo>
                  <a:pt x="31854" y="1400"/>
                </a:lnTo>
                <a:close/>
              </a:path>
              <a:path fill="darkenLess" w="33254" h="21600">
                <a:moveTo>
                  <a:pt x="3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54" y="20200"/>
                </a:lnTo>
                <a:close/>
              </a:path>
              <a:path fill="lighten" w="3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8 06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812000" y="5300640"/>
            <a:ext cx="1332000" cy="5047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979" h="21600">
                <a:moveTo>
                  <a:pt x="0" y="0"/>
                </a:moveTo>
                <a:lnTo>
                  <a:pt x="56979" y="0"/>
                </a:lnTo>
                <a:lnTo>
                  <a:pt x="56979" y="21600"/>
                </a:lnTo>
                <a:lnTo>
                  <a:pt x="0" y="21600"/>
                </a:lnTo>
                <a:close/>
              </a:path>
              <a:path fill="lightenLess" w="56979" h="21600">
                <a:moveTo>
                  <a:pt x="0" y="0"/>
                </a:moveTo>
                <a:lnTo>
                  <a:pt x="56979" y="0"/>
                </a:lnTo>
                <a:lnTo>
                  <a:pt x="55579" y="1400"/>
                </a:lnTo>
                <a:lnTo>
                  <a:pt x="1400" y="1400"/>
                </a:lnTo>
                <a:close/>
              </a:path>
              <a:path fill="darken" w="56979" h="21600">
                <a:moveTo>
                  <a:pt x="56979" y="0"/>
                </a:moveTo>
                <a:lnTo>
                  <a:pt x="56979" y="21600"/>
                </a:lnTo>
                <a:lnTo>
                  <a:pt x="55579" y="20200"/>
                </a:lnTo>
                <a:lnTo>
                  <a:pt x="55579" y="1400"/>
                </a:lnTo>
                <a:close/>
              </a:path>
              <a:path fill="darkenLess" w="56979" h="21600">
                <a:moveTo>
                  <a:pt x="56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79" y="20200"/>
                </a:lnTo>
                <a:close/>
              </a:path>
              <a:path fill="lighten" w="56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812000" y="5805360"/>
            <a:ext cx="1332000" cy="576360"/>
          </a:xfrm>
          <a:custGeom>
            <a:avLst/>
            <a:gdLst>
              <a:gd name="textAreaLeft" fmla="*/ 37080 w 1332000"/>
              <a:gd name="textAreaRight" fmla="*/ 1294920 w 13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9901" h="21600">
                <a:moveTo>
                  <a:pt x="0" y="0"/>
                </a:moveTo>
                <a:lnTo>
                  <a:pt x="49901" y="0"/>
                </a:lnTo>
                <a:lnTo>
                  <a:pt x="49901" y="21600"/>
                </a:lnTo>
                <a:lnTo>
                  <a:pt x="0" y="21600"/>
                </a:lnTo>
                <a:close/>
              </a:path>
              <a:path fill="lightenLess" w="49901" h="21600">
                <a:moveTo>
                  <a:pt x="0" y="0"/>
                </a:moveTo>
                <a:lnTo>
                  <a:pt x="49901" y="0"/>
                </a:lnTo>
                <a:lnTo>
                  <a:pt x="48501" y="1400"/>
                </a:lnTo>
                <a:lnTo>
                  <a:pt x="1400" y="1400"/>
                </a:lnTo>
                <a:close/>
              </a:path>
              <a:path fill="darken" w="49901" h="21600">
                <a:moveTo>
                  <a:pt x="49901" y="0"/>
                </a:moveTo>
                <a:lnTo>
                  <a:pt x="49901" y="21600"/>
                </a:lnTo>
                <a:lnTo>
                  <a:pt x="48501" y="20200"/>
                </a:lnTo>
                <a:lnTo>
                  <a:pt x="48501" y="1400"/>
                </a:lnTo>
                <a:close/>
              </a:path>
              <a:path fill="darkenLess" w="49901" h="21600">
                <a:moveTo>
                  <a:pt x="4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01" y="20200"/>
                </a:lnTo>
                <a:close/>
              </a:path>
              <a:path fill="lighten" w="4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5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90 99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2064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ходы в расчете на душу населения на 2017 го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76500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6 980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2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0800000">
            <a:off x="2195640" y="76428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50920" y="162864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 671,0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0920" y="249228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5 046,3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0920" y="3357720"/>
            <a:ext cx="1655640" cy="79200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22,4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0920" y="422100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 372,3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508464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 203,4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0920" y="5950080"/>
            <a:ext cx="1655640" cy="792000"/>
          </a:xfrm>
          <a:prstGeom prst="verticalScroll">
            <a:avLst>
              <a:gd name="adj" fmla="val 12500"/>
            </a:avLst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 484,7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10800000">
            <a:off x="2195640" y="162792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льтуру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0800000">
            <a:off x="2195640" y="249156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ую политику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0800000">
            <a:off x="2195640" y="3357720"/>
            <a:ext cx="6664320" cy="79200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ую культуру и спорт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0800000">
            <a:off x="2195640" y="422064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жилищно - коммунальное хозяйств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0800000">
            <a:off x="2195640" y="508428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ую экономику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2195640" y="5950080"/>
            <a:ext cx="6664320" cy="79200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государственные вопрос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0"/>
            <a:ext cx="9144000" cy="1042920"/>
          </a:xfrm>
          <a:custGeom>
            <a:avLst/>
            <a:gdLst>
              <a:gd name="textAreaLeft" fmla="*/ 67320 w 9144000"/>
              <a:gd name="textAreaRight" fmla="*/ 9076680 w 9144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89324" h="21600">
                <a:moveTo>
                  <a:pt x="0" y="0"/>
                </a:moveTo>
                <a:lnTo>
                  <a:pt x="189324" y="0"/>
                </a:lnTo>
                <a:lnTo>
                  <a:pt x="189324" y="21600"/>
                </a:lnTo>
                <a:lnTo>
                  <a:pt x="0" y="21600"/>
                </a:lnTo>
                <a:close/>
              </a:path>
              <a:path fill="lightenLess" w="189324" h="21600">
                <a:moveTo>
                  <a:pt x="0" y="0"/>
                </a:moveTo>
                <a:lnTo>
                  <a:pt x="189324" y="0"/>
                </a:lnTo>
                <a:lnTo>
                  <a:pt x="187924" y="1400"/>
                </a:lnTo>
                <a:lnTo>
                  <a:pt x="1400" y="1400"/>
                </a:lnTo>
                <a:close/>
              </a:path>
              <a:path fill="darken" w="189324" h="21600">
                <a:moveTo>
                  <a:pt x="189324" y="0"/>
                </a:moveTo>
                <a:lnTo>
                  <a:pt x="189324" y="21600"/>
                </a:lnTo>
                <a:lnTo>
                  <a:pt x="187924" y="20200"/>
                </a:lnTo>
                <a:lnTo>
                  <a:pt x="187924" y="1400"/>
                </a:lnTo>
                <a:close/>
              </a:path>
              <a:path fill="darkenLess" w="189324" h="21600">
                <a:moveTo>
                  <a:pt x="18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924" y="20200"/>
                </a:lnTo>
                <a:close/>
              </a:path>
              <a:path fill="lighten" w="18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ходы бюджета района по разделам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ункциональной классификации 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0" y="6165720"/>
            <a:ext cx="2987640" cy="692280"/>
          </a:xfrm>
          <a:custGeom>
            <a:avLst/>
            <a:gdLst>
              <a:gd name="textAreaLeft" fmla="*/ 44640 w 2987640"/>
              <a:gd name="textAreaRight" fmla="*/ 2943000 w 2987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93181" h="21600">
                <a:moveTo>
                  <a:pt x="0" y="0"/>
                </a:moveTo>
                <a:lnTo>
                  <a:pt x="93181" y="0"/>
                </a:lnTo>
                <a:lnTo>
                  <a:pt x="93181" y="21600"/>
                </a:lnTo>
                <a:lnTo>
                  <a:pt x="0" y="21600"/>
                </a:lnTo>
                <a:close/>
              </a:path>
              <a:path fill="lightenLess" w="93181" h="21600">
                <a:moveTo>
                  <a:pt x="0" y="0"/>
                </a:moveTo>
                <a:lnTo>
                  <a:pt x="93181" y="0"/>
                </a:lnTo>
                <a:lnTo>
                  <a:pt x="91781" y="1400"/>
                </a:lnTo>
                <a:lnTo>
                  <a:pt x="1400" y="1400"/>
                </a:lnTo>
                <a:close/>
              </a:path>
              <a:path fill="darken" w="93181" h="21600">
                <a:moveTo>
                  <a:pt x="93181" y="0"/>
                </a:moveTo>
                <a:lnTo>
                  <a:pt x="93181" y="21600"/>
                </a:lnTo>
                <a:lnTo>
                  <a:pt x="91781" y="20200"/>
                </a:lnTo>
                <a:lnTo>
                  <a:pt x="91781" y="1400"/>
                </a:lnTo>
                <a:close/>
              </a:path>
              <a:path fill="darkenLess" w="93181" h="21600">
                <a:moveTo>
                  <a:pt x="9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781" y="20200"/>
                </a:lnTo>
                <a:close/>
              </a:path>
              <a:path fill="lighten" w="9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ег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09 19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т.р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86760 w 9144000"/>
              <a:gd name="textAreaRight" fmla="*/ 9057240 w 9144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147213" h="21600">
                <a:moveTo>
                  <a:pt x="0" y="0"/>
                </a:moveTo>
                <a:lnTo>
                  <a:pt x="147213" y="0"/>
                </a:lnTo>
                <a:lnTo>
                  <a:pt x="147213" y="21600"/>
                </a:lnTo>
                <a:lnTo>
                  <a:pt x="0" y="21600"/>
                </a:lnTo>
                <a:close/>
              </a:path>
              <a:path fill="lightenLess" w="147213" h="21600">
                <a:moveTo>
                  <a:pt x="0" y="0"/>
                </a:moveTo>
                <a:lnTo>
                  <a:pt x="147213" y="0"/>
                </a:lnTo>
                <a:lnTo>
                  <a:pt x="145813" y="1400"/>
                </a:lnTo>
                <a:lnTo>
                  <a:pt x="1400" y="1400"/>
                </a:lnTo>
                <a:close/>
              </a:path>
              <a:path fill="darken" w="147213" h="21600">
                <a:moveTo>
                  <a:pt x="147213" y="0"/>
                </a:moveTo>
                <a:lnTo>
                  <a:pt x="147213" y="21600"/>
                </a:lnTo>
                <a:lnTo>
                  <a:pt x="145813" y="20200"/>
                </a:lnTo>
                <a:lnTo>
                  <a:pt x="145813" y="1400"/>
                </a:lnTo>
                <a:close/>
              </a:path>
              <a:path fill="darkenLess" w="147213" h="21600">
                <a:moveTo>
                  <a:pt x="14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13" y="20200"/>
                </a:lnTo>
                <a:close/>
              </a:path>
              <a:path fill="lighten" w="14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ходы на межбюджетные трансферты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даваемые бюджета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льских поселени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бюджета района 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0" y="1773000"/>
            <a:ext cx="2736720" cy="1800000"/>
          </a:xfrm>
          <a:prstGeom prst="wedgeRectCallout">
            <a:avLst>
              <a:gd name="adj1" fmla="val -41939"/>
              <a:gd name="adj2" fmla="val 5634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отация за счет средств областного бюджета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017 год – 13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969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8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13 794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9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13 794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10800000">
            <a:off x="0" y="4076280"/>
            <a:ext cx="2736720" cy="1800360"/>
          </a:xfrm>
          <a:prstGeom prst="wedgeRectCallout">
            <a:avLst>
              <a:gd name="adj1" fmla="val -41939"/>
              <a:gd name="adj2" fmla="val 56259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отация за счет средств местного бюджет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017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8 417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8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6 017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9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10 934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800000">
            <a:off x="6407280" y="1773000"/>
            <a:ext cx="2736720" cy="1800000"/>
          </a:xfrm>
          <a:prstGeom prst="wedgeRectCallout">
            <a:avLst>
              <a:gd name="adj1" fmla="val -41939"/>
              <a:gd name="adj2" fmla="val 5634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 за счет средств областного бюджет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017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36 674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8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32 833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9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32 878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0800000">
            <a:off x="6407280" y="4076280"/>
            <a:ext cx="2736720" cy="1800360"/>
          </a:xfrm>
          <a:prstGeom prst="wedgeRectCallout">
            <a:avLst>
              <a:gd name="adj1" fmla="val -41939"/>
              <a:gd name="adj2" fmla="val 56259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 за счет средств местного бюджет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2017 год –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760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 тыс.рублей 2018 год – 5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1 тыс.рублей 2019 год – 5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1 тыс.рублей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360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ъем муниципального долга Зырянского райо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0" y="2708280"/>
          <a:ext cx="5580000" cy="36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558000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3382920" y="1125360"/>
          <a:ext cx="5761080" cy="32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2920" y="1125360"/>
                    <a:ext cx="57610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682200" y="623736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1.01.2017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93480" y="623736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1.01.201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06200" y="623736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1.01.2019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ТО ТАКОЕ БЮДЖЕТ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852640"/>
            <a:ext cx="2738520" cy="3097440"/>
          </a:xfrm>
          <a:custGeom>
            <a:avLst/>
            <a:gdLst>
              <a:gd name="textAreaLeft" fmla="*/ 133560 w 2738520"/>
              <a:gd name="textAreaRight" fmla="*/ 2604960 w 2738520"/>
              <a:gd name="textAreaTop" fmla="*/ 133560 h 3097440"/>
              <a:gd name="textAreaBottom" fmla="*/ 2963880 h 3097440"/>
            </a:gdLst>
            <a:ahLst/>
            <a:rect l="textAreaLeft" t="textAreaTop" r="textAreaRight" b="textAreaBottom"/>
            <a:pathLst>
              <a:path w="21600" h="24431">
                <a:moveTo>
                  <a:pt x="3600" y="0"/>
                </a:moveTo>
                <a:arcTo wR="3600" hR="3600" stAng="16200000" swAng="-5400000"/>
                <a:lnTo>
                  <a:pt x="0" y="20831"/>
                </a:lnTo>
                <a:arcTo wR="3600" hR="3600" stAng="10800000" swAng="-5400000"/>
                <a:lnTo>
                  <a:pt x="18000" y="24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ступающи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бюдже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нежны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73672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6156360" y="2852640"/>
            <a:ext cx="2735280" cy="309744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97440"/>
              <a:gd name="textAreaBottom" fmla="*/ 2964240 h 3097440"/>
            </a:gdLst>
            <a:ahLst/>
            <a:rect l="textAreaLeft" t="textAreaTop" r="textAreaRight" b="textAreaBottom"/>
            <a:pathLst>
              <a:path w="21600" h="24460">
                <a:moveTo>
                  <a:pt x="3600" y="0"/>
                </a:moveTo>
                <a:arcTo wR="3600" hR="3600" stAng="16200000" swAng="-5400000"/>
                <a:lnTo>
                  <a:pt x="0" y="20860"/>
                </a:lnTo>
                <a:arcTo wR="3600" hR="3600" stAng="10800000" swAng="-5400000"/>
                <a:lnTo>
                  <a:pt x="18000" y="24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плачиваемы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бюджета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нежные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6093000"/>
            <a:ext cx="8642160" cy="620640"/>
          </a:xfrm>
          <a:custGeom>
            <a:avLst/>
            <a:gdLst>
              <a:gd name="textAreaLeft" fmla="*/ 0 w 8642160"/>
              <a:gd name="textAreaRight" fmla="*/ 8642520 w 864216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.е., бюджет – это план доходов и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ов на определенный перио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981000"/>
            <a:ext cx="8424720" cy="1728720"/>
          </a:xfrm>
          <a:prstGeom prst="flowChartDocumen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– это форма образования и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ования денежных средств, предназначенная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для финансового обеспечения задач и функций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государства и местного самоуправле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ходы бюджета района в программном формат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го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95280" y="1557360"/>
          <a:ext cx="874872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748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5940360" y="6165720"/>
            <a:ext cx="3203640" cy="69228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ег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09 197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т.р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1413000"/>
          </a:xfrm>
          <a:prstGeom prst="bevel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ходы бюджета района по разделам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кономической классификации за счет собственных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редств и финансовой помощи на 2017 го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0" y="1484280"/>
          <a:ext cx="914400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5940360" y="6165720"/>
            <a:ext cx="3203640" cy="692280"/>
          </a:xfrm>
          <a:prstGeom prst="bevel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его 126 168 т.р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грамм муниципального образования на 2017 - 2019 г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380360" y="83664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9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51640" y="83664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924360" y="8366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1557360"/>
            <a:ext cx="9144000" cy="574560"/>
          </a:xfrm>
          <a:custGeom>
            <a:avLst/>
            <a:gdLst>
              <a:gd name="textAreaLeft" fmla="*/ 37080 w 9144000"/>
              <a:gd name="textAreaRight" fmla="*/ 9106920 w 9144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43558" h="21600">
                <a:moveTo>
                  <a:pt x="0" y="0"/>
                </a:moveTo>
                <a:lnTo>
                  <a:pt x="343558" y="0"/>
                </a:lnTo>
                <a:lnTo>
                  <a:pt x="343558" y="21600"/>
                </a:lnTo>
                <a:lnTo>
                  <a:pt x="0" y="21600"/>
                </a:lnTo>
                <a:close/>
              </a:path>
              <a:path fill="lightenLess" w="343558" h="21600">
                <a:moveTo>
                  <a:pt x="0" y="0"/>
                </a:moveTo>
                <a:lnTo>
                  <a:pt x="343558" y="0"/>
                </a:lnTo>
                <a:lnTo>
                  <a:pt x="342158" y="1400"/>
                </a:lnTo>
                <a:lnTo>
                  <a:pt x="1400" y="1400"/>
                </a:lnTo>
                <a:close/>
              </a:path>
              <a:path fill="darken" w="343558" h="21600">
                <a:moveTo>
                  <a:pt x="343558" y="0"/>
                </a:moveTo>
                <a:lnTo>
                  <a:pt x="343558" y="21600"/>
                </a:lnTo>
                <a:lnTo>
                  <a:pt x="342158" y="20200"/>
                </a:lnTo>
                <a:lnTo>
                  <a:pt x="342158" y="1400"/>
                </a:lnTo>
                <a:close/>
              </a:path>
              <a:path fill="darkenLess" w="343558" h="21600">
                <a:moveTo>
                  <a:pt x="34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158" y="20200"/>
                </a:lnTo>
                <a:close/>
              </a:path>
              <a:path fill="lighten" w="34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ЦП, носящие постоянный характер реализаци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2133720"/>
            <a:ext cx="3924360" cy="1222200"/>
          </a:xfrm>
          <a:custGeom>
            <a:avLst/>
            <a:gdLst>
              <a:gd name="textAreaLeft" fmla="*/ 79200 w 3924360"/>
              <a:gd name="textAreaRight" fmla="*/ 3845160 w 3924360"/>
              <a:gd name="textAreaTop" fmla="*/ 79200 h 1222200"/>
              <a:gd name="textAreaBottom" fmla="*/ 1143000 h 1222200"/>
            </a:gdLst>
            <a:ahLst/>
            <a:rect l="textAreaLeft" t="textAreaTop" r="textAreaRight" b="textAreaBottom"/>
            <a:pathLst>
              <a:path w="69341" h="21600">
                <a:moveTo>
                  <a:pt x="0" y="0"/>
                </a:moveTo>
                <a:lnTo>
                  <a:pt x="69341" y="0"/>
                </a:lnTo>
                <a:lnTo>
                  <a:pt x="69341" y="21600"/>
                </a:lnTo>
                <a:lnTo>
                  <a:pt x="0" y="21600"/>
                </a:lnTo>
                <a:close/>
              </a:path>
              <a:path fill="lightenLess" w="69341" h="21600">
                <a:moveTo>
                  <a:pt x="0" y="0"/>
                </a:moveTo>
                <a:lnTo>
                  <a:pt x="69341" y="0"/>
                </a:lnTo>
                <a:lnTo>
                  <a:pt x="67941" y="1400"/>
                </a:lnTo>
                <a:lnTo>
                  <a:pt x="1400" y="1400"/>
                </a:lnTo>
                <a:close/>
              </a:path>
              <a:path fill="darken" w="69341" h="21600">
                <a:moveTo>
                  <a:pt x="69341" y="0"/>
                </a:moveTo>
                <a:lnTo>
                  <a:pt x="69341" y="21600"/>
                </a:lnTo>
                <a:lnTo>
                  <a:pt x="67941" y="20200"/>
                </a:lnTo>
                <a:lnTo>
                  <a:pt x="67941" y="1400"/>
                </a:lnTo>
                <a:close/>
              </a:path>
              <a:path fill="darkenLess" w="69341" h="21600">
                <a:moveTo>
                  <a:pt x="69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1" y="20200"/>
                </a:lnTo>
                <a:close/>
              </a:path>
              <a:path fill="lighten" w="69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вершенствование автоматизированно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истемы управления бюджетным процессом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йон»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924360" y="2133720"/>
            <a:ext cx="1727280" cy="1222200"/>
          </a:xfrm>
          <a:custGeom>
            <a:avLst/>
            <a:gdLst>
              <a:gd name="textAreaLeft" fmla="*/ 79200 w 1727280"/>
              <a:gd name="textAreaRight" fmla="*/ 1648080 w 1727280"/>
              <a:gd name="textAreaTop" fmla="*/ 79200 h 1222200"/>
              <a:gd name="textAreaBottom" fmla="*/ 1143000 h 1222200"/>
            </a:gdLst>
            <a:ahLst/>
            <a:rect l="textAreaLeft" t="textAreaTop" r="textAreaRight" b="textAreaBottom"/>
            <a:pathLst>
              <a:path w="30524" h="21600">
                <a:moveTo>
                  <a:pt x="0" y="0"/>
                </a:moveTo>
                <a:lnTo>
                  <a:pt x="30524" y="0"/>
                </a:lnTo>
                <a:lnTo>
                  <a:pt x="30524" y="21600"/>
                </a:lnTo>
                <a:lnTo>
                  <a:pt x="0" y="21600"/>
                </a:lnTo>
                <a:close/>
              </a:path>
              <a:path fill="lightenLess" w="30524" h="21600">
                <a:moveTo>
                  <a:pt x="0" y="0"/>
                </a:moveTo>
                <a:lnTo>
                  <a:pt x="30524" y="0"/>
                </a:lnTo>
                <a:lnTo>
                  <a:pt x="29124" y="1400"/>
                </a:lnTo>
                <a:lnTo>
                  <a:pt x="1400" y="1400"/>
                </a:lnTo>
                <a:close/>
              </a:path>
              <a:path fill="darken" w="30524" h="21600">
                <a:moveTo>
                  <a:pt x="30524" y="0"/>
                </a:moveTo>
                <a:lnTo>
                  <a:pt x="30524" y="21600"/>
                </a:lnTo>
                <a:lnTo>
                  <a:pt x="29124" y="20200"/>
                </a:lnTo>
                <a:lnTo>
                  <a:pt x="29124" y="1400"/>
                </a:lnTo>
                <a:close/>
              </a:path>
              <a:path fill="darkenLess" w="30524" h="21600">
                <a:moveTo>
                  <a:pt x="30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24" y="20200"/>
                </a:lnTo>
                <a:close/>
              </a:path>
              <a:path fill="lighten" w="30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1640" y="2133720"/>
            <a:ext cx="1728720" cy="1222200"/>
          </a:xfrm>
          <a:custGeom>
            <a:avLst/>
            <a:gdLst>
              <a:gd name="textAreaLeft" fmla="*/ 79200 w 1728720"/>
              <a:gd name="textAreaRight" fmla="*/ 1649520 w 1728720"/>
              <a:gd name="textAreaTop" fmla="*/ 79200 h 1222200"/>
              <a:gd name="textAreaBottom" fmla="*/ 1143000 h 1222200"/>
            </a:gdLst>
            <a:ahLst/>
            <a:rect l="textAreaLeft" t="textAreaTop" r="textAreaRight" b="textAreaBottom"/>
            <a:pathLst>
              <a:path w="30549" h="21600">
                <a:moveTo>
                  <a:pt x="0" y="0"/>
                </a:moveTo>
                <a:lnTo>
                  <a:pt x="30549" y="0"/>
                </a:lnTo>
                <a:lnTo>
                  <a:pt x="30549" y="21600"/>
                </a:lnTo>
                <a:lnTo>
                  <a:pt x="0" y="21600"/>
                </a:lnTo>
                <a:close/>
              </a:path>
              <a:path fill="lightenLess" w="30549" h="21600">
                <a:moveTo>
                  <a:pt x="0" y="0"/>
                </a:moveTo>
                <a:lnTo>
                  <a:pt x="30549" y="0"/>
                </a:lnTo>
                <a:lnTo>
                  <a:pt x="29149" y="1400"/>
                </a:lnTo>
                <a:lnTo>
                  <a:pt x="1400" y="1400"/>
                </a:lnTo>
                <a:close/>
              </a:path>
              <a:path fill="darken" w="30549" h="21600">
                <a:moveTo>
                  <a:pt x="30549" y="0"/>
                </a:moveTo>
                <a:lnTo>
                  <a:pt x="30549" y="21600"/>
                </a:lnTo>
                <a:lnTo>
                  <a:pt x="29149" y="20200"/>
                </a:lnTo>
                <a:lnTo>
                  <a:pt x="29149" y="1400"/>
                </a:lnTo>
                <a:close/>
              </a:path>
              <a:path fill="darkenLess" w="30549" h="21600">
                <a:moveTo>
                  <a:pt x="3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49" y="20200"/>
                </a:lnTo>
                <a:close/>
              </a:path>
              <a:path fill="lighten" w="3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380360" y="2133720"/>
            <a:ext cx="1763640" cy="1222200"/>
          </a:xfrm>
          <a:custGeom>
            <a:avLst/>
            <a:gdLst>
              <a:gd name="textAreaLeft" fmla="*/ 79200 w 1763640"/>
              <a:gd name="textAreaRight" fmla="*/ 1684440 w 1763640"/>
              <a:gd name="textAreaTop" fmla="*/ 79200 h 1222200"/>
              <a:gd name="textAreaBottom" fmla="*/ 1143000 h 1222200"/>
            </a:gdLst>
            <a:ahLst/>
            <a:rect l="textAreaLeft" t="textAreaTop" r="textAreaRight" b="textAreaBottom"/>
            <a:pathLst>
              <a:path w="31166" h="21600">
                <a:moveTo>
                  <a:pt x="0" y="0"/>
                </a:moveTo>
                <a:lnTo>
                  <a:pt x="31166" y="0"/>
                </a:lnTo>
                <a:lnTo>
                  <a:pt x="31166" y="21600"/>
                </a:lnTo>
                <a:lnTo>
                  <a:pt x="0" y="21600"/>
                </a:lnTo>
                <a:close/>
              </a:path>
              <a:path fill="lightenLess" w="31166" h="21600">
                <a:moveTo>
                  <a:pt x="0" y="0"/>
                </a:moveTo>
                <a:lnTo>
                  <a:pt x="31166" y="0"/>
                </a:lnTo>
                <a:lnTo>
                  <a:pt x="29766" y="1400"/>
                </a:lnTo>
                <a:lnTo>
                  <a:pt x="1400" y="1400"/>
                </a:lnTo>
                <a:close/>
              </a:path>
              <a:path fill="darken" w="31166" h="21600">
                <a:moveTo>
                  <a:pt x="31166" y="0"/>
                </a:moveTo>
                <a:lnTo>
                  <a:pt x="31166" y="21600"/>
                </a:lnTo>
                <a:lnTo>
                  <a:pt x="29766" y="20200"/>
                </a:lnTo>
                <a:lnTo>
                  <a:pt x="29766" y="1400"/>
                </a:lnTo>
                <a:close/>
              </a:path>
              <a:path fill="darkenLess" w="31166" h="21600">
                <a:moveTo>
                  <a:pt x="31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66" y="20200"/>
                </a:lnTo>
                <a:close/>
              </a:path>
              <a:path fill="lighten" w="31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357720"/>
            <a:ext cx="3924360" cy="1439640"/>
          </a:xfrm>
          <a:custGeom>
            <a:avLst/>
            <a:gdLst>
              <a:gd name="textAreaLeft" fmla="*/ 93240 w 3924360"/>
              <a:gd name="textAreaRight" fmla="*/ 3831120 w 3924360"/>
              <a:gd name="textAreaTop" fmla="*/ 93240 h 1439640"/>
              <a:gd name="textAreaBottom" fmla="*/ 1346400 h 1439640"/>
            </a:gdLst>
            <a:ahLst/>
            <a:rect l="textAreaLeft" t="textAreaTop" r="textAreaRight" b="textAreaBottom"/>
            <a:pathLst>
              <a:path w="58871" h="21600">
                <a:moveTo>
                  <a:pt x="0" y="0"/>
                </a:moveTo>
                <a:lnTo>
                  <a:pt x="58871" y="0"/>
                </a:lnTo>
                <a:lnTo>
                  <a:pt x="58871" y="21600"/>
                </a:lnTo>
                <a:lnTo>
                  <a:pt x="0" y="21600"/>
                </a:lnTo>
                <a:close/>
              </a:path>
              <a:path fill="lightenLess" w="58871" h="21600">
                <a:moveTo>
                  <a:pt x="0" y="0"/>
                </a:moveTo>
                <a:lnTo>
                  <a:pt x="58871" y="0"/>
                </a:lnTo>
                <a:lnTo>
                  <a:pt x="57471" y="1400"/>
                </a:lnTo>
                <a:lnTo>
                  <a:pt x="1400" y="1400"/>
                </a:lnTo>
                <a:close/>
              </a:path>
              <a:path fill="darken" w="58871" h="21600">
                <a:moveTo>
                  <a:pt x="58871" y="0"/>
                </a:moveTo>
                <a:lnTo>
                  <a:pt x="58871" y="21600"/>
                </a:lnTo>
                <a:lnTo>
                  <a:pt x="57471" y="20200"/>
                </a:lnTo>
                <a:lnTo>
                  <a:pt x="57471" y="1400"/>
                </a:lnTo>
                <a:close/>
              </a:path>
              <a:path fill="darkenLess" w="58871" h="21600">
                <a:moveTo>
                  <a:pt x="5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471" y="20200"/>
                </a:lnTo>
                <a:close/>
              </a:path>
              <a:path fill="lighten" w="5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едоставление общедоступного и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сплатного начального общего, основног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его и среднего общего образования п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ным общеобразовательным программам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24360" y="3357720"/>
            <a:ext cx="1727280" cy="1439640"/>
          </a:xfrm>
          <a:custGeom>
            <a:avLst/>
            <a:gdLst>
              <a:gd name="textAreaLeft" fmla="*/ 93240 w 1727280"/>
              <a:gd name="textAreaRight" fmla="*/ 1634040 w 1727280"/>
              <a:gd name="textAreaTop" fmla="*/ 93240 h 1439640"/>
              <a:gd name="textAreaBottom" fmla="*/ 1346400 h 1439640"/>
            </a:gdLst>
            <a:ahLst/>
            <a:rect l="textAreaLeft" t="textAreaTop" r="textAreaRight" b="textAreaBottom"/>
            <a:pathLst>
              <a:path w="25915" h="21600">
                <a:moveTo>
                  <a:pt x="0" y="0"/>
                </a:moveTo>
                <a:lnTo>
                  <a:pt x="25915" y="0"/>
                </a:lnTo>
                <a:lnTo>
                  <a:pt x="25915" y="21600"/>
                </a:lnTo>
                <a:lnTo>
                  <a:pt x="0" y="21600"/>
                </a:lnTo>
                <a:close/>
              </a:path>
              <a:path fill="lightenLess" w="25915" h="21600">
                <a:moveTo>
                  <a:pt x="0" y="0"/>
                </a:moveTo>
                <a:lnTo>
                  <a:pt x="25915" y="0"/>
                </a:lnTo>
                <a:lnTo>
                  <a:pt x="24515" y="1400"/>
                </a:lnTo>
                <a:lnTo>
                  <a:pt x="1400" y="1400"/>
                </a:lnTo>
                <a:close/>
              </a:path>
              <a:path fill="darken" w="25915" h="21600">
                <a:moveTo>
                  <a:pt x="25915" y="0"/>
                </a:moveTo>
                <a:lnTo>
                  <a:pt x="25915" y="21600"/>
                </a:lnTo>
                <a:lnTo>
                  <a:pt x="24515" y="20200"/>
                </a:lnTo>
                <a:lnTo>
                  <a:pt x="24515" y="1400"/>
                </a:lnTo>
                <a:close/>
              </a:path>
              <a:path fill="darkenLess" w="25915" h="21600">
                <a:moveTo>
                  <a:pt x="25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5" y="20200"/>
                </a:lnTo>
                <a:close/>
              </a:path>
              <a:path fill="lighten" w="25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376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51640" y="3357720"/>
            <a:ext cx="1726920" cy="1439640"/>
          </a:xfrm>
          <a:custGeom>
            <a:avLst/>
            <a:gdLst>
              <a:gd name="textAreaLeft" fmla="*/ 93240 w 1726920"/>
              <a:gd name="textAreaRight" fmla="*/ 1633680 w 1726920"/>
              <a:gd name="textAreaTop" fmla="*/ 93240 h 1439640"/>
              <a:gd name="textAreaBottom" fmla="*/ 1346400 h 1439640"/>
            </a:gdLst>
            <a:ahLst/>
            <a:rect l="textAreaLeft" t="textAreaTop" r="textAreaRight" b="textAreaBottom"/>
            <a:pathLst>
              <a:path w="25909" h="21600">
                <a:moveTo>
                  <a:pt x="0" y="0"/>
                </a:moveTo>
                <a:lnTo>
                  <a:pt x="25909" y="0"/>
                </a:lnTo>
                <a:lnTo>
                  <a:pt x="25909" y="21600"/>
                </a:lnTo>
                <a:lnTo>
                  <a:pt x="0" y="21600"/>
                </a:lnTo>
                <a:close/>
              </a:path>
              <a:path fill="lightenLess" w="25909" h="21600">
                <a:moveTo>
                  <a:pt x="0" y="0"/>
                </a:moveTo>
                <a:lnTo>
                  <a:pt x="25909" y="0"/>
                </a:lnTo>
                <a:lnTo>
                  <a:pt x="24509" y="1400"/>
                </a:lnTo>
                <a:lnTo>
                  <a:pt x="1400" y="1400"/>
                </a:lnTo>
                <a:close/>
              </a:path>
              <a:path fill="darken" w="25909" h="21600">
                <a:moveTo>
                  <a:pt x="25909" y="0"/>
                </a:moveTo>
                <a:lnTo>
                  <a:pt x="25909" y="21600"/>
                </a:lnTo>
                <a:lnTo>
                  <a:pt x="24509" y="20200"/>
                </a:lnTo>
                <a:lnTo>
                  <a:pt x="24509" y="1400"/>
                </a:lnTo>
                <a:close/>
              </a:path>
              <a:path fill="darkenLess" w="25909" h="21600">
                <a:moveTo>
                  <a:pt x="25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9" y="20200"/>
                </a:lnTo>
                <a:close/>
              </a:path>
              <a:path fill="lighten" w="25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 163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380360" y="3357720"/>
            <a:ext cx="1763640" cy="1439640"/>
          </a:xfrm>
          <a:custGeom>
            <a:avLst/>
            <a:gdLst>
              <a:gd name="textAreaLeft" fmla="*/ 93240 w 1763640"/>
              <a:gd name="textAreaRight" fmla="*/ 1670400 w 1763640"/>
              <a:gd name="textAreaTop" fmla="*/ 93240 h 1439640"/>
              <a:gd name="textAreaBottom" fmla="*/ 1346400 h 1439640"/>
            </a:gdLst>
            <a:ahLst/>
            <a:rect l="textAreaLeft" t="textAreaTop" r="textAreaRight" b="textAreaBottom"/>
            <a:pathLst>
              <a:path w="26460" h="21600">
                <a:moveTo>
                  <a:pt x="0" y="0"/>
                </a:moveTo>
                <a:lnTo>
                  <a:pt x="26460" y="0"/>
                </a:lnTo>
                <a:lnTo>
                  <a:pt x="26460" y="21600"/>
                </a:lnTo>
                <a:lnTo>
                  <a:pt x="0" y="21600"/>
                </a:lnTo>
                <a:close/>
              </a:path>
              <a:path fill="lightenLess" w="26460" h="21600">
                <a:moveTo>
                  <a:pt x="0" y="0"/>
                </a:moveTo>
                <a:lnTo>
                  <a:pt x="26460" y="0"/>
                </a:lnTo>
                <a:lnTo>
                  <a:pt x="25060" y="1400"/>
                </a:lnTo>
                <a:lnTo>
                  <a:pt x="1400" y="1400"/>
                </a:lnTo>
                <a:close/>
              </a:path>
              <a:path fill="darken" w="26460" h="21600">
                <a:moveTo>
                  <a:pt x="26460" y="0"/>
                </a:moveTo>
                <a:lnTo>
                  <a:pt x="26460" y="21600"/>
                </a:lnTo>
                <a:lnTo>
                  <a:pt x="25060" y="20200"/>
                </a:lnTo>
                <a:lnTo>
                  <a:pt x="25060" y="1400"/>
                </a:lnTo>
                <a:close/>
              </a:path>
              <a:path fill="darkenLess" w="26460" h="21600">
                <a:moveTo>
                  <a:pt x="26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60" y="20200"/>
                </a:lnTo>
                <a:close/>
              </a:path>
              <a:path fill="lighten" w="26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 547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4797360"/>
            <a:ext cx="3924360" cy="1081080"/>
          </a:xfrm>
          <a:custGeom>
            <a:avLst/>
            <a:gdLst>
              <a:gd name="textAreaLeft" fmla="*/ 69840 w 3924360"/>
              <a:gd name="textAreaRight" fmla="*/ 3854520 w 39243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78390" h="21600">
                <a:moveTo>
                  <a:pt x="0" y="0"/>
                </a:moveTo>
                <a:lnTo>
                  <a:pt x="78390" y="0"/>
                </a:lnTo>
                <a:lnTo>
                  <a:pt x="78390" y="21600"/>
                </a:lnTo>
                <a:lnTo>
                  <a:pt x="0" y="21600"/>
                </a:lnTo>
                <a:close/>
              </a:path>
              <a:path fill="lightenLess" w="78390" h="21600">
                <a:moveTo>
                  <a:pt x="0" y="0"/>
                </a:moveTo>
                <a:lnTo>
                  <a:pt x="78390" y="0"/>
                </a:lnTo>
                <a:lnTo>
                  <a:pt x="76990" y="1400"/>
                </a:lnTo>
                <a:lnTo>
                  <a:pt x="1400" y="1400"/>
                </a:lnTo>
                <a:close/>
              </a:path>
              <a:path fill="darken" w="78390" h="21600">
                <a:moveTo>
                  <a:pt x="78390" y="0"/>
                </a:moveTo>
                <a:lnTo>
                  <a:pt x="78390" y="21600"/>
                </a:lnTo>
                <a:lnTo>
                  <a:pt x="76990" y="20200"/>
                </a:lnTo>
                <a:lnTo>
                  <a:pt x="76990" y="1400"/>
                </a:lnTo>
                <a:close/>
              </a:path>
              <a:path fill="darkenLess" w="78390" h="21600">
                <a:moveTo>
                  <a:pt x="78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90" y="20200"/>
                </a:lnTo>
                <a:close/>
              </a:path>
              <a:path fill="lighten" w="78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едоставление  образования  п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еобразовательным программам дошкольног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ования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5877000"/>
            <a:ext cx="3924360" cy="981000"/>
          </a:xfrm>
          <a:custGeom>
            <a:avLst/>
            <a:gdLst>
              <a:gd name="textAreaLeft" fmla="*/ 63360 w 3924360"/>
              <a:gd name="textAreaRight" fmla="*/ 3861000 w 3924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86384" h="21600">
                <a:moveTo>
                  <a:pt x="0" y="0"/>
                </a:moveTo>
                <a:lnTo>
                  <a:pt x="86384" y="0"/>
                </a:lnTo>
                <a:lnTo>
                  <a:pt x="86384" y="21600"/>
                </a:lnTo>
                <a:lnTo>
                  <a:pt x="0" y="21600"/>
                </a:lnTo>
                <a:close/>
              </a:path>
              <a:path fill="lightenLess" w="86384" h="21600">
                <a:moveTo>
                  <a:pt x="0" y="0"/>
                </a:moveTo>
                <a:lnTo>
                  <a:pt x="86384" y="0"/>
                </a:lnTo>
                <a:lnTo>
                  <a:pt x="84984" y="1400"/>
                </a:lnTo>
                <a:lnTo>
                  <a:pt x="1400" y="1400"/>
                </a:lnTo>
                <a:close/>
              </a:path>
              <a:path fill="darken" w="86384" h="21600">
                <a:moveTo>
                  <a:pt x="86384" y="0"/>
                </a:moveTo>
                <a:lnTo>
                  <a:pt x="86384" y="21600"/>
                </a:lnTo>
                <a:lnTo>
                  <a:pt x="84984" y="20200"/>
                </a:lnTo>
                <a:lnTo>
                  <a:pt x="84984" y="1400"/>
                </a:lnTo>
                <a:close/>
              </a:path>
              <a:path fill="darkenLess" w="86384" h="21600">
                <a:moveTo>
                  <a:pt x="86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4" y="20200"/>
                </a:lnTo>
                <a:close/>
              </a:path>
              <a:path fill="lighten" w="86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едоставление дополнительног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ования детям в Зырянском районе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7-2019 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24360" y="4797360"/>
            <a:ext cx="1727280" cy="1081080"/>
          </a:xfrm>
          <a:custGeom>
            <a:avLst/>
            <a:gdLst>
              <a:gd name="textAreaLeft" fmla="*/ 69840 w 1727280"/>
              <a:gd name="textAreaRight" fmla="*/ 1657440 w 1727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4507" h="21600">
                <a:moveTo>
                  <a:pt x="0" y="0"/>
                </a:moveTo>
                <a:lnTo>
                  <a:pt x="34507" y="0"/>
                </a:lnTo>
                <a:lnTo>
                  <a:pt x="34507" y="21600"/>
                </a:lnTo>
                <a:lnTo>
                  <a:pt x="0" y="21600"/>
                </a:lnTo>
                <a:close/>
              </a:path>
              <a:path fill="lightenLess" w="34507" h="21600">
                <a:moveTo>
                  <a:pt x="0" y="0"/>
                </a:moveTo>
                <a:lnTo>
                  <a:pt x="34507" y="0"/>
                </a:lnTo>
                <a:lnTo>
                  <a:pt x="33107" y="1400"/>
                </a:lnTo>
                <a:lnTo>
                  <a:pt x="1400" y="1400"/>
                </a:lnTo>
                <a:close/>
              </a:path>
              <a:path fill="darken" w="34507" h="21600">
                <a:moveTo>
                  <a:pt x="34507" y="0"/>
                </a:moveTo>
                <a:lnTo>
                  <a:pt x="34507" y="21600"/>
                </a:lnTo>
                <a:lnTo>
                  <a:pt x="33107" y="20200"/>
                </a:lnTo>
                <a:lnTo>
                  <a:pt x="33107" y="1400"/>
                </a:lnTo>
                <a:close/>
              </a:path>
              <a:path fill="darkenLess" w="34507" h="21600">
                <a:moveTo>
                  <a:pt x="34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7" y="20200"/>
                </a:lnTo>
                <a:close/>
              </a:path>
              <a:path fill="lighten" w="34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18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24360" y="5877000"/>
            <a:ext cx="1727280" cy="981000"/>
          </a:xfrm>
          <a:custGeom>
            <a:avLst/>
            <a:gdLst>
              <a:gd name="textAreaLeft" fmla="*/ 63360 w 1727280"/>
              <a:gd name="textAreaRight" fmla="*/ 1663920 w 172728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8026" h="21600">
                <a:moveTo>
                  <a:pt x="0" y="0"/>
                </a:moveTo>
                <a:lnTo>
                  <a:pt x="38026" y="0"/>
                </a:lnTo>
                <a:lnTo>
                  <a:pt x="38026" y="21600"/>
                </a:lnTo>
                <a:lnTo>
                  <a:pt x="0" y="21600"/>
                </a:lnTo>
                <a:close/>
              </a:path>
              <a:path fill="lightenLess" w="38026" h="21600">
                <a:moveTo>
                  <a:pt x="0" y="0"/>
                </a:moveTo>
                <a:lnTo>
                  <a:pt x="38026" y="0"/>
                </a:lnTo>
                <a:lnTo>
                  <a:pt x="36626" y="1400"/>
                </a:lnTo>
                <a:lnTo>
                  <a:pt x="1400" y="1400"/>
                </a:lnTo>
                <a:close/>
              </a:path>
              <a:path fill="darken" w="38026" h="21600">
                <a:moveTo>
                  <a:pt x="38026" y="0"/>
                </a:moveTo>
                <a:lnTo>
                  <a:pt x="38026" y="21600"/>
                </a:lnTo>
                <a:lnTo>
                  <a:pt x="36626" y="20200"/>
                </a:lnTo>
                <a:lnTo>
                  <a:pt x="36626" y="1400"/>
                </a:lnTo>
                <a:close/>
              </a:path>
              <a:path fill="darkenLess" w="38026" h="21600">
                <a:moveTo>
                  <a:pt x="38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26" y="20200"/>
                </a:lnTo>
                <a:close/>
              </a:path>
              <a:path fill="lighten" w="38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889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651640" y="4797360"/>
            <a:ext cx="1726920" cy="1081080"/>
          </a:xfrm>
          <a:custGeom>
            <a:avLst/>
            <a:gdLst>
              <a:gd name="textAreaLeft" fmla="*/ 69840 w 1726920"/>
              <a:gd name="textAreaRight" fmla="*/ 1657080 w 1726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4500" h="21600">
                <a:moveTo>
                  <a:pt x="0" y="0"/>
                </a:moveTo>
                <a:lnTo>
                  <a:pt x="34500" y="0"/>
                </a:lnTo>
                <a:lnTo>
                  <a:pt x="34500" y="21600"/>
                </a:lnTo>
                <a:lnTo>
                  <a:pt x="0" y="21600"/>
                </a:lnTo>
                <a:close/>
              </a:path>
              <a:path fill="lightenLess" w="34500" h="21600">
                <a:moveTo>
                  <a:pt x="0" y="0"/>
                </a:moveTo>
                <a:lnTo>
                  <a:pt x="34500" y="0"/>
                </a:lnTo>
                <a:lnTo>
                  <a:pt x="33100" y="1400"/>
                </a:lnTo>
                <a:lnTo>
                  <a:pt x="1400" y="1400"/>
                </a:lnTo>
                <a:close/>
              </a:path>
              <a:path fill="darken" w="34500" h="21600">
                <a:moveTo>
                  <a:pt x="34500" y="0"/>
                </a:moveTo>
                <a:lnTo>
                  <a:pt x="34500" y="21600"/>
                </a:lnTo>
                <a:lnTo>
                  <a:pt x="33100" y="20200"/>
                </a:lnTo>
                <a:lnTo>
                  <a:pt x="33100" y="1400"/>
                </a:lnTo>
                <a:close/>
              </a:path>
              <a:path fill="darkenLess" w="34500" h="21600">
                <a:moveTo>
                  <a:pt x="345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0" y="20200"/>
                </a:lnTo>
                <a:close/>
              </a:path>
              <a:path fill="lighten" w="345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554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380360" y="4797360"/>
            <a:ext cx="1763640" cy="1081080"/>
          </a:xfrm>
          <a:custGeom>
            <a:avLst/>
            <a:gdLst>
              <a:gd name="textAreaLeft" fmla="*/ 69840 w 1763640"/>
              <a:gd name="textAreaRight" fmla="*/ 1693800 w 1763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5233" h="21600">
                <a:moveTo>
                  <a:pt x="0" y="0"/>
                </a:moveTo>
                <a:lnTo>
                  <a:pt x="35233" y="0"/>
                </a:lnTo>
                <a:lnTo>
                  <a:pt x="35233" y="21600"/>
                </a:lnTo>
                <a:lnTo>
                  <a:pt x="0" y="21600"/>
                </a:lnTo>
                <a:close/>
              </a:path>
              <a:path fill="lightenLess" w="35233" h="21600">
                <a:moveTo>
                  <a:pt x="0" y="0"/>
                </a:moveTo>
                <a:lnTo>
                  <a:pt x="35233" y="0"/>
                </a:lnTo>
                <a:lnTo>
                  <a:pt x="33833" y="1400"/>
                </a:lnTo>
                <a:lnTo>
                  <a:pt x="1400" y="1400"/>
                </a:lnTo>
                <a:close/>
              </a:path>
              <a:path fill="darken" w="35233" h="21600">
                <a:moveTo>
                  <a:pt x="35233" y="0"/>
                </a:moveTo>
                <a:lnTo>
                  <a:pt x="35233" y="21600"/>
                </a:lnTo>
                <a:lnTo>
                  <a:pt x="33833" y="20200"/>
                </a:lnTo>
                <a:lnTo>
                  <a:pt x="33833" y="1400"/>
                </a:lnTo>
                <a:close/>
              </a:path>
              <a:path fill="darkenLess" w="35233" h="21600">
                <a:moveTo>
                  <a:pt x="3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33" y="20200"/>
                </a:lnTo>
                <a:close/>
              </a:path>
              <a:path fill="lighten" w="3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466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80360" y="5877000"/>
            <a:ext cx="1763640" cy="981000"/>
          </a:xfrm>
          <a:custGeom>
            <a:avLst/>
            <a:gdLst>
              <a:gd name="textAreaLeft" fmla="*/ 63360 w 1763640"/>
              <a:gd name="textAreaRight" fmla="*/ 1700280 w 176364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8826" h="21600">
                <a:moveTo>
                  <a:pt x="0" y="0"/>
                </a:moveTo>
                <a:lnTo>
                  <a:pt x="38826" y="0"/>
                </a:lnTo>
                <a:lnTo>
                  <a:pt x="38826" y="21600"/>
                </a:lnTo>
                <a:lnTo>
                  <a:pt x="0" y="21600"/>
                </a:lnTo>
                <a:close/>
              </a:path>
              <a:path fill="lightenLess" w="38826" h="21600">
                <a:moveTo>
                  <a:pt x="0" y="0"/>
                </a:moveTo>
                <a:lnTo>
                  <a:pt x="38826" y="0"/>
                </a:lnTo>
                <a:lnTo>
                  <a:pt x="37426" y="1400"/>
                </a:lnTo>
                <a:lnTo>
                  <a:pt x="1400" y="1400"/>
                </a:lnTo>
                <a:close/>
              </a:path>
              <a:path fill="darken" w="38826" h="21600">
                <a:moveTo>
                  <a:pt x="38826" y="0"/>
                </a:moveTo>
                <a:lnTo>
                  <a:pt x="38826" y="21600"/>
                </a:lnTo>
                <a:lnTo>
                  <a:pt x="37426" y="20200"/>
                </a:lnTo>
                <a:lnTo>
                  <a:pt x="37426" y="1400"/>
                </a:lnTo>
                <a:close/>
              </a:path>
              <a:path fill="darkenLess" w="38826" h="21600">
                <a:moveTo>
                  <a:pt x="38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6" y="20200"/>
                </a:lnTo>
                <a:close/>
              </a:path>
              <a:path fill="lighten" w="38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372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51640" y="5877000"/>
            <a:ext cx="1726920" cy="981000"/>
          </a:xfrm>
          <a:custGeom>
            <a:avLst/>
            <a:gdLst>
              <a:gd name="textAreaLeft" fmla="*/ 63360 w 1726920"/>
              <a:gd name="textAreaRight" fmla="*/ 1663560 w 1726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8018" h="21600">
                <a:moveTo>
                  <a:pt x="0" y="0"/>
                </a:moveTo>
                <a:lnTo>
                  <a:pt x="38018" y="0"/>
                </a:lnTo>
                <a:lnTo>
                  <a:pt x="38018" y="21600"/>
                </a:lnTo>
                <a:lnTo>
                  <a:pt x="0" y="21600"/>
                </a:lnTo>
                <a:close/>
              </a:path>
              <a:path fill="lightenLess" w="38018" h="21600">
                <a:moveTo>
                  <a:pt x="0" y="0"/>
                </a:moveTo>
                <a:lnTo>
                  <a:pt x="38018" y="0"/>
                </a:lnTo>
                <a:lnTo>
                  <a:pt x="36618" y="1400"/>
                </a:lnTo>
                <a:lnTo>
                  <a:pt x="1400" y="1400"/>
                </a:lnTo>
                <a:close/>
              </a:path>
              <a:path fill="darken" w="38018" h="21600">
                <a:moveTo>
                  <a:pt x="38018" y="0"/>
                </a:moveTo>
                <a:lnTo>
                  <a:pt x="38018" y="21600"/>
                </a:lnTo>
                <a:lnTo>
                  <a:pt x="36618" y="20200"/>
                </a:lnTo>
                <a:lnTo>
                  <a:pt x="36618" y="1400"/>
                </a:lnTo>
                <a:close/>
              </a:path>
              <a:path fill="darkenLess" w="38018" h="21600">
                <a:moveTo>
                  <a:pt x="38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18" y="20200"/>
                </a:lnTo>
                <a:close/>
              </a:path>
              <a:path fill="lighten" w="38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08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3664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едомственные целевы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3429000"/>
            <a:ext cx="3924360" cy="863640"/>
          </a:xfrm>
          <a:custGeom>
            <a:avLst/>
            <a:gdLst>
              <a:gd name="textAreaLeft" fmla="*/ 55800 w 3924360"/>
              <a:gd name="textAreaRight" fmla="*/ 3868560 w 3924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98118" h="21600">
                <a:moveTo>
                  <a:pt x="0" y="0"/>
                </a:moveTo>
                <a:lnTo>
                  <a:pt x="98118" y="0"/>
                </a:lnTo>
                <a:lnTo>
                  <a:pt x="98118" y="21600"/>
                </a:lnTo>
                <a:lnTo>
                  <a:pt x="0" y="21600"/>
                </a:lnTo>
                <a:close/>
              </a:path>
              <a:path fill="lightenLess" w="98118" h="21600">
                <a:moveTo>
                  <a:pt x="0" y="0"/>
                </a:moveTo>
                <a:lnTo>
                  <a:pt x="98118" y="0"/>
                </a:lnTo>
                <a:lnTo>
                  <a:pt x="96718" y="1400"/>
                </a:lnTo>
                <a:lnTo>
                  <a:pt x="1400" y="1400"/>
                </a:lnTo>
                <a:close/>
              </a:path>
              <a:path fill="darken" w="98118" h="21600">
                <a:moveTo>
                  <a:pt x="98118" y="0"/>
                </a:moveTo>
                <a:lnTo>
                  <a:pt x="98118" y="21600"/>
                </a:lnTo>
                <a:lnTo>
                  <a:pt x="96718" y="20200"/>
                </a:lnTo>
                <a:lnTo>
                  <a:pt x="96718" y="1400"/>
                </a:lnTo>
                <a:close/>
              </a:path>
              <a:path fill="darkenLess" w="98118" h="21600">
                <a:moveTo>
                  <a:pt x="98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718" y="20200"/>
                </a:lnTo>
                <a:close/>
              </a:path>
              <a:path fill="lighten" w="98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предоставления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зейных услуг населению Зырянского района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7-2019 г.г.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24360" y="2492280"/>
            <a:ext cx="1727280" cy="935280"/>
          </a:xfrm>
          <a:custGeom>
            <a:avLst/>
            <a:gdLst>
              <a:gd name="textAreaLeft" fmla="*/ 60480 w 1727280"/>
              <a:gd name="textAreaRight" fmla="*/ 1666800 w 17272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39884" h="21600">
                <a:moveTo>
                  <a:pt x="0" y="0"/>
                </a:moveTo>
                <a:lnTo>
                  <a:pt x="39884" y="0"/>
                </a:lnTo>
                <a:lnTo>
                  <a:pt x="39884" y="21600"/>
                </a:lnTo>
                <a:lnTo>
                  <a:pt x="0" y="21600"/>
                </a:lnTo>
                <a:close/>
              </a:path>
              <a:path fill="lightenLess" w="39884" h="21600">
                <a:moveTo>
                  <a:pt x="0" y="0"/>
                </a:moveTo>
                <a:lnTo>
                  <a:pt x="39884" y="0"/>
                </a:lnTo>
                <a:lnTo>
                  <a:pt x="38484" y="1400"/>
                </a:lnTo>
                <a:lnTo>
                  <a:pt x="1400" y="1400"/>
                </a:lnTo>
                <a:close/>
              </a:path>
              <a:path fill="darken" w="39884" h="21600">
                <a:moveTo>
                  <a:pt x="39884" y="0"/>
                </a:moveTo>
                <a:lnTo>
                  <a:pt x="39884" y="21600"/>
                </a:lnTo>
                <a:lnTo>
                  <a:pt x="38484" y="20200"/>
                </a:lnTo>
                <a:lnTo>
                  <a:pt x="38484" y="1400"/>
                </a:lnTo>
                <a:close/>
              </a:path>
              <a:path fill="darkenLess" w="39884" h="21600">
                <a:moveTo>
                  <a:pt x="39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4" y="20200"/>
                </a:lnTo>
                <a:close/>
              </a:path>
              <a:path fill="lighten" w="39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915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51640" y="2492280"/>
            <a:ext cx="1728720" cy="93528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39917" h="21600">
                <a:moveTo>
                  <a:pt x="0" y="0"/>
                </a:moveTo>
                <a:lnTo>
                  <a:pt x="39917" y="0"/>
                </a:lnTo>
                <a:lnTo>
                  <a:pt x="39917" y="21600"/>
                </a:lnTo>
                <a:lnTo>
                  <a:pt x="0" y="21600"/>
                </a:lnTo>
                <a:close/>
              </a:path>
              <a:path fill="lightenLess" w="39917" h="21600">
                <a:moveTo>
                  <a:pt x="0" y="0"/>
                </a:moveTo>
                <a:lnTo>
                  <a:pt x="39917" y="0"/>
                </a:lnTo>
                <a:lnTo>
                  <a:pt x="38517" y="1400"/>
                </a:lnTo>
                <a:lnTo>
                  <a:pt x="1400" y="1400"/>
                </a:lnTo>
                <a:close/>
              </a:path>
              <a:path fill="darken" w="39917" h="21600">
                <a:moveTo>
                  <a:pt x="39917" y="0"/>
                </a:moveTo>
                <a:lnTo>
                  <a:pt x="39917" y="21600"/>
                </a:lnTo>
                <a:lnTo>
                  <a:pt x="38517" y="20200"/>
                </a:lnTo>
                <a:lnTo>
                  <a:pt x="38517" y="1400"/>
                </a:lnTo>
                <a:close/>
              </a:path>
              <a:path fill="darkenLess" w="39917" h="21600">
                <a:moveTo>
                  <a:pt x="39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7" y="20200"/>
                </a:lnTo>
                <a:close/>
              </a:path>
              <a:path fill="lighten" w="39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905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380360" y="2492280"/>
            <a:ext cx="1763640" cy="93528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0723" h="21600">
                <a:moveTo>
                  <a:pt x="0" y="0"/>
                </a:moveTo>
                <a:lnTo>
                  <a:pt x="40723" y="0"/>
                </a:lnTo>
                <a:lnTo>
                  <a:pt x="40723" y="21600"/>
                </a:lnTo>
                <a:lnTo>
                  <a:pt x="0" y="21600"/>
                </a:lnTo>
                <a:close/>
              </a:path>
              <a:path fill="lightenLess" w="40723" h="21600">
                <a:moveTo>
                  <a:pt x="0" y="0"/>
                </a:moveTo>
                <a:lnTo>
                  <a:pt x="40723" y="0"/>
                </a:lnTo>
                <a:lnTo>
                  <a:pt x="39323" y="1400"/>
                </a:lnTo>
                <a:lnTo>
                  <a:pt x="1400" y="1400"/>
                </a:lnTo>
                <a:close/>
              </a:path>
              <a:path fill="darken" w="40723" h="21600">
                <a:moveTo>
                  <a:pt x="40723" y="0"/>
                </a:moveTo>
                <a:lnTo>
                  <a:pt x="40723" y="21600"/>
                </a:lnTo>
                <a:lnTo>
                  <a:pt x="39323" y="20200"/>
                </a:lnTo>
                <a:lnTo>
                  <a:pt x="39323" y="1400"/>
                </a:lnTo>
                <a:close/>
              </a:path>
              <a:path fill="darkenLess" w="40723" h="21600">
                <a:moveTo>
                  <a:pt x="4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23" y="20200"/>
                </a:lnTo>
                <a:close/>
              </a:path>
              <a:path fill="lighten" w="4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905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4292640"/>
            <a:ext cx="3924360" cy="93816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8160"/>
              <a:gd name="textAreaBottom" fmla="*/ 877680 h 938160"/>
            </a:gdLst>
            <a:ahLst/>
            <a:rect l="textAreaLeft" t="textAreaTop" r="textAreaRight" b="textAreaBottom"/>
            <a:pathLst>
              <a:path w="90327" h="21600">
                <a:moveTo>
                  <a:pt x="0" y="0"/>
                </a:moveTo>
                <a:lnTo>
                  <a:pt x="90327" y="0"/>
                </a:lnTo>
                <a:lnTo>
                  <a:pt x="90327" y="21600"/>
                </a:lnTo>
                <a:lnTo>
                  <a:pt x="0" y="21600"/>
                </a:lnTo>
                <a:close/>
              </a:path>
              <a:path fill="lightenLess" w="90327" h="21600">
                <a:moveTo>
                  <a:pt x="0" y="0"/>
                </a:moveTo>
                <a:lnTo>
                  <a:pt x="90327" y="0"/>
                </a:lnTo>
                <a:lnTo>
                  <a:pt x="88927" y="1400"/>
                </a:lnTo>
                <a:lnTo>
                  <a:pt x="1400" y="1400"/>
                </a:lnTo>
                <a:close/>
              </a:path>
              <a:path fill="darken" w="90327" h="21600">
                <a:moveTo>
                  <a:pt x="90327" y="0"/>
                </a:moveTo>
                <a:lnTo>
                  <a:pt x="90327" y="21600"/>
                </a:lnTo>
                <a:lnTo>
                  <a:pt x="88927" y="20200"/>
                </a:lnTo>
                <a:lnTo>
                  <a:pt x="88927" y="1400"/>
                </a:lnTo>
                <a:close/>
              </a:path>
              <a:path fill="darkenLess" w="90327" h="21600">
                <a:moveTo>
                  <a:pt x="90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927" y="20200"/>
                </a:lnTo>
                <a:close/>
              </a:path>
              <a:path fill="lighten" w="90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предоставления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селению Зырянского района библиотечных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луг на 2017-2019 г.г.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924360" y="4292640"/>
            <a:ext cx="1728720" cy="93816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8160"/>
              <a:gd name="textAreaBottom" fmla="*/ 877680 h 938160"/>
            </a:gdLst>
            <a:ahLst/>
            <a:rect l="textAreaLeft" t="textAreaTop" r="textAreaRight" b="textAreaBottom"/>
            <a:pathLst>
              <a:path w="39795" h="21600">
                <a:moveTo>
                  <a:pt x="0" y="0"/>
                </a:moveTo>
                <a:lnTo>
                  <a:pt x="39795" y="0"/>
                </a:lnTo>
                <a:lnTo>
                  <a:pt x="39795" y="21600"/>
                </a:lnTo>
                <a:lnTo>
                  <a:pt x="0" y="21600"/>
                </a:lnTo>
                <a:close/>
              </a:path>
              <a:path fill="lightenLess" w="39795" h="21600">
                <a:moveTo>
                  <a:pt x="0" y="0"/>
                </a:moveTo>
                <a:lnTo>
                  <a:pt x="39795" y="0"/>
                </a:lnTo>
                <a:lnTo>
                  <a:pt x="38395" y="1400"/>
                </a:lnTo>
                <a:lnTo>
                  <a:pt x="1400" y="1400"/>
                </a:lnTo>
                <a:close/>
              </a:path>
              <a:path fill="darken" w="39795" h="21600">
                <a:moveTo>
                  <a:pt x="39795" y="0"/>
                </a:moveTo>
                <a:lnTo>
                  <a:pt x="39795" y="21600"/>
                </a:lnTo>
                <a:lnTo>
                  <a:pt x="38395" y="20200"/>
                </a:lnTo>
                <a:lnTo>
                  <a:pt x="38395" y="1400"/>
                </a:lnTo>
                <a:close/>
              </a:path>
              <a:path fill="darkenLess" w="39795" h="21600">
                <a:moveTo>
                  <a:pt x="3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95" y="20200"/>
                </a:lnTo>
                <a:close/>
              </a:path>
              <a:path fill="lighten" w="3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585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51640" y="4292640"/>
            <a:ext cx="1728720" cy="93816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8160"/>
              <a:gd name="textAreaBottom" fmla="*/ 877680 h 938160"/>
            </a:gdLst>
            <a:ahLst/>
            <a:rect l="textAreaLeft" t="textAreaTop" r="textAreaRight" b="textAreaBottom"/>
            <a:pathLst>
              <a:path w="39795" h="21600">
                <a:moveTo>
                  <a:pt x="0" y="0"/>
                </a:moveTo>
                <a:lnTo>
                  <a:pt x="39795" y="0"/>
                </a:lnTo>
                <a:lnTo>
                  <a:pt x="39795" y="21600"/>
                </a:lnTo>
                <a:lnTo>
                  <a:pt x="0" y="21600"/>
                </a:lnTo>
                <a:close/>
              </a:path>
              <a:path fill="lightenLess" w="39795" h="21600">
                <a:moveTo>
                  <a:pt x="0" y="0"/>
                </a:moveTo>
                <a:lnTo>
                  <a:pt x="39795" y="0"/>
                </a:lnTo>
                <a:lnTo>
                  <a:pt x="38395" y="1400"/>
                </a:lnTo>
                <a:lnTo>
                  <a:pt x="1400" y="1400"/>
                </a:lnTo>
                <a:close/>
              </a:path>
              <a:path fill="darken" w="39795" h="21600">
                <a:moveTo>
                  <a:pt x="39795" y="0"/>
                </a:moveTo>
                <a:lnTo>
                  <a:pt x="39795" y="21600"/>
                </a:lnTo>
                <a:lnTo>
                  <a:pt x="38395" y="20200"/>
                </a:lnTo>
                <a:lnTo>
                  <a:pt x="38395" y="1400"/>
                </a:lnTo>
                <a:close/>
              </a:path>
              <a:path fill="darkenLess" w="39795" h="21600">
                <a:moveTo>
                  <a:pt x="3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95" y="20200"/>
                </a:lnTo>
                <a:close/>
              </a:path>
              <a:path fill="lighten" w="3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942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380360" y="4292640"/>
            <a:ext cx="1763640" cy="93816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8160"/>
              <a:gd name="textAreaBottom" fmla="*/ 877680 h 938160"/>
            </a:gdLst>
            <a:ahLst/>
            <a:rect l="textAreaLeft" t="textAreaTop" r="textAreaRight" b="textAreaBottom"/>
            <a:pathLst>
              <a:path w="40598" h="21600">
                <a:moveTo>
                  <a:pt x="0" y="0"/>
                </a:moveTo>
                <a:lnTo>
                  <a:pt x="40598" y="0"/>
                </a:lnTo>
                <a:lnTo>
                  <a:pt x="40598" y="21600"/>
                </a:lnTo>
                <a:lnTo>
                  <a:pt x="0" y="21600"/>
                </a:lnTo>
                <a:close/>
              </a:path>
              <a:path fill="lightenLess" w="40598" h="21600">
                <a:moveTo>
                  <a:pt x="0" y="0"/>
                </a:moveTo>
                <a:lnTo>
                  <a:pt x="40598" y="0"/>
                </a:lnTo>
                <a:lnTo>
                  <a:pt x="39198" y="1400"/>
                </a:lnTo>
                <a:lnTo>
                  <a:pt x="1400" y="1400"/>
                </a:lnTo>
                <a:close/>
              </a:path>
              <a:path fill="darken" w="40598" h="21600">
                <a:moveTo>
                  <a:pt x="40598" y="0"/>
                </a:moveTo>
                <a:lnTo>
                  <a:pt x="40598" y="21600"/>
                </a:lnTo>
                <a:lnTo>
                  <a:pt x="39198" y="20200"/>
                </a:lnTo>
                <a:lnTo>
                  <a:pt x="39198" y="1400"/>
                </a:lnTo>
                <a:close/>
              </a:path>
              <a:path fill="darkenLess" w="40598" h="21600">
                <a:moveTo>
                  <a:pt x="40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98" y="20200"/>
                </a:lnTo>
                <a:close/>
              </a:path>
              <a:path fill="lighten" w="40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44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5229360"/>
            <a:ext cx="3924360" cy="1008000"/>
          </a:xfrm>
          <a:custGeom>
            <a:avLst/>
            <a:gdLst>
              <a:gd name="textAreaLeft" fmla="*/ 65160 w 3924360"/>
              <a:gd name="textAreaRight" fmla="*/ 3859200 w 3924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4071" h="21600">
                <a:moveTo>
                  <a:pt x="0" y="0"/>
                </a:moveTo>
                <a:lnTo>
                  <a:pt x="84071" y="0"/>
                </a:lnTo>
                <a:lnTo>
                  <a:pt x="84071" y="21600"/>
                </a:lnTo>
                <a:lnTo>
                  <a:pt x="0" y="21600"/>
                </a:lnTo>
                <a:close/>
              </a:path>
              <a:path fill="lightenLess" w="84071" h="21600">
                <a:moveTo>
                  <a:pt x="0" y="0"/>
                </a:moveTo>
                <a:lnTo>
                  <a:pt x="84071" y="0"/>
                </a:lnTo>
                <a:lnTo>
                  <a:pt x="82671" y="1400"/>
                </a:lnTo>
                <a:lnTo>
                  <a:pt x="1400" y="1400"/>
                </a:lnTo>
                <a:close/>
              </a:path>
              <a:path fill="darken" w="84071" h="21600">
                <a:moveTo>
                  <a:pt x="84071" y="0"/>
                </a:moveTo>
                <a:lnTo>
                  <a:pt x="84071" y="21600"/>
                </a:lnTo>
                <a:lnTo>
                  <a:pt x="82671" y="20200"/>
                </a:lnTo>
                <a:lnTo>
                  <a:pt x="82671" y="1400"/>
                </a:lnTo>
                <a:close/>
              </a:path>
              <a:path fill="darkenLess" w="84071" h="21600">
                <a:moveTo>
                  <a:pt x="84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671" y="20200"/>
                </a:lnTo>
                <a:close/>
              </a:path>
              <a:path fill="lighten" w="84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обеспечения равных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ых возможностей сельских поселени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на 2017-2019 годы по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шению вопросов местного значения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924360" y="522936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956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651640" y="522936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 182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5229360"/>
            <a:ext cx="1763640" cy="1008000"/>
          </a:xfrm>
          <a:custGeom>
            <a:avLst/>
            <a:gdLst>
              <a:gd name="textAreaLeft" fmla="*/ 65160 w 1763640"/>
              <a:gd name="textAreaRight" fmla="*/ 1698480 w 176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787" h="21600">
                <a:moveTo>
                  <a:pt x="0" y="0"/>
                </a:moveTo>
                <a:lnTo>
                  <a:pt x="37787" y="0"/>
                </a:lnTo>
                <a:lnTo>
                  <a:pt x="37787" y="21600"/>
                </a:lnTo>
                <a:lnTo>
                  <a:pt x="0" y="21600"/>
                </a:lnTo>
                <a:close/>
              </a:path>
              <a:path fill="lightenLess" w="37787" h="21600">
                <a:moveTo>
                  <a:pt x="0" y="0"/>
                </a:moveTo>
                <a:lnTo>
                  <a:pt x="37787" y="0"/>
                </a:lnTo>
                <a:lnTo>
                  <a:pt x="36387" y="1400"/>
                </a:lnTo>
                <a:lnTo>
                  <a:pt x="1400" y="1400"/>
                </a:lnTo>
                <a:close/>
              </a:path>
              <a:path fill="darken" w="37787" h="21600">
                <a:moveTo>
                  <a:pt x="37787" y="0"/>
                </a:moveTo>
                <a:lnTo>
                  <a:pt x="37787" y="21600"/>
                </a:lnTo>
                <a:lnTo>
                  <a:pt x="36387" y="20200"/>
                </a:lnTo>
                <a:lnTo>
                  <a:pt x="36387" y="1400"/>
                </a:lnTo>
                <a:close/>
              </a:path>
              <a:path fill="darkenLess" w="37787" h="21600">
                <a:moveTo>
                  <a:pt x="37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7" y="20200"/>
                </a:lnTo>
                <a:close/>
              </a:path>
              <a:path fill="lighten" w="37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10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37360"/>
            <a:ext cx="3924360" cy="620640"/>
          </a:xfrm>
          <a:custGeom>
            <a:avLst/>
            <a:gdLst>
              <a:gd name="textAreaLeft" fmla="*/ 39960 w 3924360"/>
              <a:gd name="textAreaRight" fmla="*/ 3884400 w 392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136512" h="21600">
                <a:moveTo>
                  <a:pt x="0" y="0"/>
                </a:moveTo>
                <a:lnTo>
                  <a:pt x="136512" y="0"/>
                </a:lnTo>
                <a:lnTo>
                  <a:pt x="136512" y="21600"/>
                </a:lnTo>
                <a:lnTo>
                  <a:pt x="0" y="21600"/>
                </a:lnTo>
                <a:close/>
              </a:path>
              <a:path fill="lightenLess" w="136512" h="21600">
                <a:moveTo>
                  <a:pt x="0" y="0"/>
                </a:moveTo>
                <a:lnTo>
                  <a:pt x="136512" y="0"/>
                </a:lnTo>
                <a:lnTo>
                  <a:pt x="135112" y="1400"/>
                </a:lnTo>
                <a:lnTo>
                  <a:pt x="1400" y="1400"/>
                </a:lnTo>
                <a:close/>
              </a:path>
              <a:path fill="darken" w="136512" h="21600">
                <a:moveTo>
                  <a:pt x="136512" y="0"/>
                </a:moveTo>
                <a:lnTo>
                  <a:pt x="136512" y="21600"/>
                </a:lnTo>
                <a:lnTo>
                  <a:pt x="135112" y="20200"/>
                </a:lnTo>
                <a:lnTo>
                  <a:pt x="135112" y="1400"/>
                </a:lnTo>
                <a:close/>
              </a:path>
              <a:path fill="darkenLess" w="136512" h="21600">
                <a:moveTo>
                  <a:pt x="136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12" y="20200"/>
                </a:lnTo>
                <a:close/>
              </a:path>
              <a:path fill="lighten" w="136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24360" y="6237360"/>
            <a:ext cx="1727280" cy="620640"/>
          </a:xfrm>
          <a:custGeom>
            <a:avLst/>
            <a:gdLst>
              <a:gd name="textAreaLeft" fmla="*/ 39960 w 1727280"/>
              <a:gd name="textAreaRight" fmla="*/ 1687320 w 172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0092" h="21600">
                <a:moveTo>
                  <a:pt x="0" y="0"/>
                </a:moveTo>
                <a:lnTo>
                  <a:pt x="60092" y="0"/>
                </a:lnTo>
                <a:lnTo>
                  <a:pt x="60092" y="21600"/>
                </a:lnTo>
                <a:lnTo>
                  <a:pt x="0" y="21600"/>
                </a:lnTo>
                <a:close/>
              </a:path>
              <a:path fill="lightenLess" w="60092" h="21600">
                <a:moveTo>
                  <a:pt x="0" y="0"/>
                </a:moveTo>
                <a:lnTo>
                  <a:pt x="60092" y="0"/>
                </a:lnTo>
                <a:lnTo>
                  <a:pt x="58692" y="1400"/>
                </a:lnTo>
                <a:lnTo>
                  <a:pt x="1400" y="1400"/>
                </a:lnTo>
                <a:close/>
              </a:path>
              <a:path fill="darken" w="60092" h="21600">
                <a:moveTo>
                  <a:pt x="60092" y="0"/>
                </a:moveTo>
                <a:lnTo>
                  <a:pt x="60092" y="21600"/>
                </a:lnTo>
                <a:lnTo>
                  <a:pt x="58692" y="20200"/>
                </a:lnTo>
                <a:lnTo>
                  <a:pt x="58692" y="1400"/>
                </a:lnTo>
                <a:close/>
              </a:path>
              <a:path fill="darkenLess" w="60092" h="21600">
                <a:moveTo>
                  <a:pt x="6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92" y="20200"/>
                </a:lnTo>
                <a:close/>
              </a:path>
              <a:path fill="lighten" w="6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90 90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651640" y="6237360"/>
            <a:ext cx="1726920" cy="620640"/>
          </a:xfrm>
          <a:custGeom>
            <a:avLst/>
            <a:gdLst>
              <a:gd name="textAreaLeft" fmla="*/ 39960 w 1726920"/>
              <a:gd name="textAreaRight" fmla="*/ 1686960 w 17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0079" h="21600">
                <a:moveTo>
                  <a:pt x="0" y="0"/>
                </a:moveTo>
                <a:lnTo>
                  <a:pt x="60079" y="0"/>
                </a:lnTo>
                <a:lnTo>
                  <a:pt x="60079" y="21600"/>
                </a:lnTo>
                <a:lnTo>
                  <a:pt x="0" y="21600"/>
                </a:lnTo>
                <a:close/>
              </a:path>
              <a:path fill="lightenLess" w="60079" h="21600">
                <a:moveTo>
                  <a:pt x="0" y="0"/>
                </a:moveTo>
                <a:lnTo>
                  <a:pt x="60079" y="0"/>
                </a:lnTo>
                <a:lnTo>
                  <a:pt x="58679" y="1400"/>
                </a:lnTo>
                <a:lnTo>
                  <a:pt x="1400" y="1400"/>
                </a:lnTo>
                <a:close/>
              </a:path>
              <a:path fill="darken" w="60079" h="21600">
                <a:moveTo>
                  <a:pt x="60079" y="0"/>
                </a:moveTo>
                <a:lnTo>
                  <a:pt x="60079" y="21600"/>
                </a:lnTo>
                <a:lnTo>
                  <a:pt x="58679" y="20200"/>
                </a:lnTo>
                <a:lnTo>
                  <a:pt x="58679" y="1400"/>
                </a:lnTo>
                <a:close/>
              </a:path>
              <a:path fill="darkenLess" w="60079" h="21600">
                <a:moveTo>
                  <a:pt x="60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79" y="20200"/>
                </a:lnTo>
                <a:close/>
              </a:path>
              <a:path fill="lighten" w="60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1 63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80360" y="6237360"/>
            <a:ext cx="1763640" cy="620640"/>
          </a:xfrm>
          <a:custGeom>
            <a:avLst/>
            <a:gdLst>
              <a:gd name="textAreaLeft" fmla="*/ 39960 w 1763640"/>
              <a:gd name="textAreaRight" fmla="*/ 1723680 w 1763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1357" h="21600">
                <a:moveTo>
                  <a:pt x="0" y="0"/>
                </a:moveTo>
                <a:lnTo>
                  <a:pt x="61357" y="0"/>
                </a:lnTo>
                <a:lnTo>
                  <a:pt x="61357" y="21600"/>
                </a:lnTo>
                <a:lnTo>
                  <a:pt x="0" y="21600"/>
                </a:lnTo>
                <a:close/>
              </a:path>
              <a:path fill="lightenLess" w="61357" h="21600">
                <a:moveTo>
                  <a:pt x="0" y="0"/>
                </a:moveTo>
                <a:lnTo>
                  <a:pt x="61357" y="0"/>
                </a:lnTo>
                <a:lnTo>
                  <a:pt x="59957" y="1400"/>
                </a:lnTo>
                <a:lnTo>
                  <a:pt x="1400" y="1400"/>
                </a:lnTo>
                <a:close/>
              </a:path>
              <a:path fill="darken" w="61357" h="21600">
                <a:moveTo>
                  <a:pt x="61357" y="0"/>
                </a:moveTo>
                <a:lnTo>
                  <a:pt x="61357" y="21600"/>
                </a:lnTo>
                <a:lnTo>
                  <a:pt x="59957" y="20200"/>
                </a:lnTo>
                <a:lnTo>
                  <a:pt x="59957" y="1400"/>
                </a:lnTo>
                <a:close/>
              </a:path>
              <a:path fill="darkenLess" w="61357" h="21600">
                <a:moveTo>
                  <a:pt x="61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957" y="20200"/>
                </a:lnTo>
                <a:close/>
              </a:path>
              <a:path fill="lighten" w="61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1 00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грамм муниципального образования на 2017 - 2019 г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3664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едомственные целевы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924360" y="8366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51640" y="83664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80360" y="83664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9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2492280"/>
            <a:ext cx="3924360" cy="93528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90605" h="21600">
                <a:moveTo>
                  <a:pt x="0" y="0"/>
                </a:moveTo>
                <a:lnTo>
                  <a:pt x="90605" y="0"/>
                </a:lnTo>
                <a:lnTo>
                  <a:pt x="90605" y="21600"/>
                </a:lnTo>
                <a:lnTo>
                  <a:pt x="0" y="21600"/>
                </a:lnTo>
                <a:close/>
              </a:path>
              <a:path fill="lightenLess" w="90605" h="21600">
                <a:moveTo>
                  <a:pt x="0" y="0"/>
                </a:moveTo>
                <a:lnTo>
                  <a:pt x="90605" y="0"/>
                </a:lnTo>
                <a:lnTo>
                  <a:pt x="89205" y="1400"/>
                </a:lnTo>
                <a:lnTo>
                  <a:pt x="1400" y="1400"/>
                </a:lnTo>
                <a:close/>
              </a:path>
              <a:path fill="darken" w="90605" h="21600">
                <a:moveTo>
                  <a:pt x="90605" y="0"/>
                </a:moveTo>
                <a:lnTo>
                  <a:pt x="90605" y="21600"/>
                </a:lnTo>
                <a:lnTo>
                  <a:pt x="89205" y="20200"/>
                </a:lnTo>
                <a:lnTo>
                  <a:pt x="89205" y="1400"/>
                </a:lnTo>
                <a:close/>
              </a:path>
              <a:path fill="darkenLess" w="90605" h="21600">
                <a:moveTo>
                  <a:pt x="90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05" y="20200"/>
                </a:lnTo>
                <a:close/>
              </a:path>
              <a:path fill="lighten" w="90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предоставления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ю Зырянского района культурно-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суговых услуг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24360" y="1557360"/>
            <a:ext cx="1727280" cy="936720"/>
          </a:xfrm>
          <a:custGeom>
            <a:avLst/>
            <a:gdLst>
              <a:gd name="textAreaLeft" fmla="*/ 60480 w 1727280"/>
              <a:gd name="textAreaRight" fmla="*/ 1666800 w 1727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9823" h="21600">
                <a:moveTo>
                  <a:pt x="0" y="0"/>
                </a:moveTo>
                <a:lnTo>
                  <a:pt x="39823" y="0"/>
                </a:lnTo>
                <a:lnTo>
                  <a:pt x="39823" y="21600"/>
                </a:lnTo>
                <a:lnTo>
                  <a:pt x="0" y="21600"/>
                </a:lnTo>
                <a:close/>
              </a:path>
              <a:path fill="lightenLess" w="39823" h="21600">
                <a:moveTo>
                  <a:pt x="0" y="0"/>
                </a:moveTo>
                <a:lnTo>
                  <a:pt x="39823" y="0"/>
                </a:lnTo>
                <a:lnTo>
                  <a:pt x="38423" y="1400"/>
                </a:lnTo>
                <a:lnTo>
                  <a:pt x="1400" y="1400"/>
                </a:lnTo>
                <a:close/>
              </a:path>
              <a:path fill="darken" w="39823" h="21600">
                <a:moveTo>
                  <a:pt x="39823" y="0"/>
                </a:moveTo>
                <a:lnTo>
                  <a:pt x="39823" y="21600"/>
                </a:lnTo>
                <a:lnTo>
                  <a:pt x="38423" y="20200"/>
                </a:lnTo>
                <a:lnTo>
                  <a:pt x="38423" y="1400"/>
                </a:lnTo>
                <a:close/>
              </a:path>
              <a:path fill="darkenLess" w="39823" h="21600">
                <a:moveTo>
                  <a:pt x="39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23" y="20200"/>
                </a:lnTo>
                <a:close/>
              </a:path>
              <a:path fill="lighten" w="39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17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651640" y="1557360"/>
            <a:ext cx="1728720" cy="93672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9856" h="21600">
                <a:moveTo>
                  <a:pt x="0" y="0"/>
                </a:moveTo>
                <a:lnTo>
                  <a:pt x="39856" y="0"/>
                </a:lnTo>
                <a:lnTo>
                  <a:pt x="39856" y="21600"/>
                </a:lnTo>
                <a:lnTo>
                  <a:pt x="0" y="21600"/>
                </a:lnTo>
                <a:close/>
              </a:path>
              <a:path fill="lightenLess" w="39856" h="21600">
                <a:moveTo>
                  <a:pt x="0" y="0"/>
                </a:moveTo>
                <a:lnTo>
                  <a:pt x="39856" y="0"/>
                </a:lnTo>
                <a:lnTo>
                  <a:pt x="38456" y="1400"/>
                </a:lnTo>
                <a:lnTo>
                  <a:pt x="1400" y="1400"/>
                </a:lnTo>
                <a:close/>
              </a:path>
              <a:path fill="darken" w="39856" h="21600">
                <a:moveTo>
                  <a:pt x="39856" y="0"/>
                </a:moveTo>
                <a:lnTo>
                  <a:pt x="39856" y="21600"/>
                </a:lnTo>
                <a:lnTo>
                  <a:pt x="38456" y="20200"/>
                </a:lnTo>
                <a:lnTo>
                  <a:pt x="38456" y="1400"/>
                </a:lnTo>
                <a:close/>
              </a:path>
              <a:path fill="darkenLess" w="39856" h="21600">
                <a:moveTo>
                  <a:pt x="39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56" y="20200"/>
                </a:lnTo>
                <a:close/>
              </a:path>
              <a:path fill="lighten" w="39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28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380360" y="1557360"/>
            <a:ext cx="1763640" cy="93672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0661" h="21600">
                <a:moveTo>
                  <a:pt x="0" y="0"/>
                </a:moveTo>
                <a:lnTo>
                  <a:pt x="40661" y="0"/>
                </a:lnTo>
                <a:lnTo>
                  <a:pt x="40661" y="21600"/>
                </a:lnTo>
                <a:lnTo>
                  <a:pt x="0" y="21600"/>
                </a:lnTo>
                <a:close/>
              </a:path>
              <a:path fill="lightenLess" w="40661" h="21600">
                <a:moveTo>
                  <a:pt x="0" y="0"/>
                </a:moveTo>
                <a:lnTo>
                  <a:pt x="40661" y="0"/>
                </a:lnTo>
                <a:lnTo>
                  <a:pt x="39261" y="1400"/>
                </a:lnTo>
                <a:lnTo>
                  <a:pt x="1400" y="1400"/>
                </a:lnTo>
                <a:close/>
              </a:path>
              <a:path fill="darken" w="40661" h="21600">
                <a:moveTo>
                  <a:pt x="40661" y="0"/>
                </a:moveTo>
                <a:lnTo>
                  <a:pt x="40661" y="21600"/>
                </a:lnTo>
                <a:lnTo>
                  <a:pt x="39261" y="20200"/>
                </a:lnTo>
                <a:lnTo>
                  <a:pt x="39261" y="1400"/>
                </a:lnTo>
                <a:close/>
              </a:path>
              <a:path fill="darkenLess" w="40661" h="21600">
                <a:moveTo>
                  <a:pt x="40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61" y="20200"/>
                </a:lnTo>
                <a:close/>
              </a:path>
              <a:path fill="lighten" w="40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759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1557360"/>
            <a:ext cx="3924360" cy="93672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0466" h="21600">
                <a:moveTo>
                  <a:pt x="0" y="0"/>
                </a:moveTo>
                <a:lnTo>
                  <a:pt x="90466" y="0"/>
                </a:lnTo>
                <a:lnTo>
                  <a:pt x="90466" y="21600"/>
                </a:lnTo>
                <a:lnTo>
                  <a:pt x="0" y="21600"/>
                </a:lnTo>
                <a:close/>
              </a:path>
              <a:path fill="lightenLess" w="90466" h="21600">
                <a:moveTo>
                  <a:pt x="0" y="0"/>
                </a:moveTo>
                <a:lnTo>
                  <a:pt x="90466" y="0"/>
                </a:lnTo>
                <a:lnTo>
                  <a:pt x="89066" y="1400"/>
                </a:lnTo>
                <a:lnTo>
                  <a:pt x="1400" y="1400"/>
                </a:lnTo>
                <a:close/>
              </a:path>
              <a:path fill="darken" w="90466" h="21600">
                <a:moveTo>
                  <a:pt x="90466" y="0"/>
                </a:moveTo>
                <a:lnTo>
                  <a:pt x="90466" y="21600"/>
                </a:lnTo>
                <a:lnTo>
                  <a:pt x="89066" y="20200"/>
                </a:lnTo>
                <a:lnTo>
                  <a:pt x="89066" y="1400"/>
                </a:lnTo>
                <a:close/>
              </a:path>
              <a:path fill="darkenLess" w="90466" h="21600">
                <a:moveTo>
                  <a:pt x="90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066" y="20200"/>
                </a:lnTo>
                <a:close/>
              </a:path>
              <a:path fill="lighten" w="90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 доступа к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лучению дополнительного образования детям в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расте от 3 до 18 лет на 2017-2019 г.г.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24360" y="3429000"/>
            <a:ext cx="1728720" cy="865080"/>
          </a:xfrm>
          <a:custGeom>
            <a:avLst/>
            <a:gdLst>
              <a:gd name="textAreaLeft" fmla="*/ 55800 w 1728720"/>
              <a:gd name="textAreaRight" fmla="*/ 1672920 w 17287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43155" h="21600">
                <a:moveTo>
                  <a:pt x="0" y="0"/>
                </a:moveTo>
                <a:lnTo>
                  <a:pt x="43155" y="0"/>
                </a:lnTo>
                <a:lnTo>
                  <a:pt x="43155" y="21600"/>
                </a:lnTo>
                <a:lnTo>
                  <a:pt x="0" y="21600"/>
                </a:lnTo>
                <a:close/>
              </a:path>
              <a:path fill="lightenLess" w="43155" h="21600">
                <a:moveTo>
                  <a:pt x="0" y="0"/>
                </a:moveTo>
                <a:lnTo>
                  <a:pt x="43155" y="0"/>
                </a:lnTo>
                <a:lnTo>
                  <a:pt x="41755" y="1400"/>
                </a:lnTo>
                <a:lnTo>
                  <a:pt x="1400" y="1400"/>
                </a:lnTo>
                <a:close/>
              </a:path>
              <a:path fill="darken" w="43155" h="21600">
                <a:moveTo>
                  <a:pt x="43155" y="0"/>
                </a:moveTo>
                <a:lnTo>
                  <a:pt x="43155" y="21600"/>
                </a:lnTo>
                <a:lnTo>
                  <a:pt x="41755" y="20200"/>
                </a:lnTo>
                <a:lnTo>
                  <a:pt x="41755" y="1400"/>
                </a:lnTo>
                <a:close/>
              </a:path>
              <a:path fill="darkenLess" w="43155" h="21600">
                <a:moveTo>
                  <a:pt x="43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5" y="20200"/>
                </a:lnTo>
                <a:close/>
              </a:path>
              <a:path fill="lighten" w="43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462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651640" y="3429000"/>
            <a:ext cx="1728720" cy="863640"/>
          </a:xfrm>
          <a:custGeom>
            <a:avLst/>
            <a:gdLst>
              <a:gd name="textAreaLeft" fmla="*/ 55800 w 1728720"/>
              <a:gd name="textAreaRight" fmla="*/ 1672920 w 1728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142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80360" y="3429000"/>
            <a:ext cx="1763640" cy="863640"/>
          </a:xfrm>
          <a:custGeom>
            <a:avLst/>
            <a:gdLst>
              <a:gd name="textAreaLeft" fmla="*/ 55800 w 1763640"/>
              <a:gd name="textAreaRight" fmla="*/ 1707840 w 17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4100" h="21600">
                <a:moveTo>
                  <a:pt x="0" y="0"/>
                </a:moveTo>
                <a:lnTo>
                  <a:pt x="44100" y="0"/>
                </a:lnTo>
                <a:lnTo>
                  <a:pt x="44100" y="21600"/>
                </a:lnTo>
                <a:lnTo>
                  <a:pt x="0" y="21600"/>
                </a:lnTo>
                <a:close/>
              </a:path>
              <a:path fill="lightenLess" w="44100" h="21600">
                <a:moveTo>
                  <a:pt x="0" y="0"/>
                </a:moveTo>
                <a:lnTo>
                  <a:pt x="44100" y="0"/>
                </a:lnTo>
                <a:lnTo>
                  <a:pt x="42700" y="1400"/>
                </a:lnTo>
                <a:lnTo>
                  <a:pt x="1400" y="1400"/>
                </a:lnTo>
                <a:close/>
              </a:path>
              <a:path fill="darken" w="44100" h="21600">
                <a:moveTo>
                  <a:pt x="44100" y="0"/>
                </a:moveTo>
                <a:lnTo>
                  <a:pt x="44100" y="21600"/>
                </a:lnTo>
                <a:lnTo>
                  <a:pt x="42700" y="20200"/>
                </a:lnTo>
                <a:lnTo>
                  <a:pt x="42700" y="1400"/>
                </a:lnTo>
                <a:close/>
              </a:path>
              <a:path fill="darkenLess" w="44100" h="21600">
                <a:moveTo>
                  <a:pt x="441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00" y="20200"/>
                </a:lnTo>
                <a:close/>
              </a:path>
              <a:path fill="lighten" w="441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8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3573360"/>
            <a:ext cx="3924360" cy="71928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117801" h="21600">
                <a:moveTo>
                  <a:pt x="0" y="0"/>
                </a:moveTo>
                <a:lnTo>
                  <a:pt x="117801" y="0"/>
                </a:lnTo>
                <a:lnTo>
                  <a:pt x="117801" y="21600"/>
                </a:lnTo>
                <a:lnTo>
                  <a:pt x="0" y="21600"/>
                </a:lnTo>
                <a:close/>
              </a:path>
              <a:path fill="lightenLess" w="117801" h="21600">
                <a:moveTo>
                  <a:pt x="0" y="0"/>
                </a:moveTo>
                <a:lnTo>
                  <a:pt x="117801" y="0"/>
                </a:lnTo>
                <a:lnTo>
                  <a:pt x="116401" y="1400"/>
                </a:lnTo>
                <a:lnTo>
                  <a:pt x="1400" y="1400"/>
                </a:lnTo>
                <a:close/>
              </a:path>
              <a:path fill="darken" w="117801" h="21600">
                <a:moveTo>
                  <a:pt x="117801" y="0"/>
                </a:moveTo>
                <a:lnTo>
                  <a:pt x="117801" y="21600"/>
                </a:lnTo>
                <a:lnTo>
                  <a:pt x="116401" y="20200"/>
                </a:lnTo>
                <a:lnTo>
                  <a:pt x="116401" y="1400"/>
                </a:lnTo>
                <a:close/>
              </a:path>
              <a:path fill="darkenLess" w="117801" h="21600">
                <a:moveTo>
                  <a:pt x="117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401" y="20200"/>
                </a:lnTo>
                <a:close/>
              </a:path>
              <a:path fill="lighten" w="117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укрепления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ичных подсобных хозяйств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24360" y="3573360"/>
            <a:ext cx="1727280" cy="71928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1855" h="21600">
                <a:moveTo>
                  <a:pt x="0" y="0"/>
                </a:moveTo>
                <a:lnTo>
                  <a:pt x="51855" y="0"/>
                </a:lnTo>
                <a:lnTo>
                  <a:pt x="51855" y="21600"/>
                </a:lnTo>
                <a:lnTo>
                  <a:pt x="0" y="21600"/>
                </a:lnTo>
                <a:close/>
              </a:path>
              <a:path fill="lightenLess" w="51855" h="21600">
                <a:moveTo>
                  <a:pt x="0" y="0"/>
                </a:moveTo>
                <a:lnTo>
                  <a:pt x="51855" y="0"/>
                </a:lnTo>
                <a:lnTo>
                  <a:pt x="50455" y="1400"/>
                </a:lnTo>
                <a:lnTo>
                  <a:pt x="1400" y="1400"/>
                </a:lnTo>
                <a:close/>
              </a:path>
              <a:path fill="darken" w="51855" h="21600">
                <a:moveTo>
                  <a:pt x="51855" y="0"/>
                </a:moveTo>
                <a:lnTo>
                  <a:pt x="51855" y="21600"/>
                </a:lnTo>
                <a:lnTo>
                  <a:pt x="50455" y="20200"/>
                </a:lnTo>
                <a:lnTo>
                  <a:pt x="50455" y="1400"/>
                </a:lnTo>
                <a:close/>
              </a:path>
              <a:path fill="darkenLess" w="51855" h="21600">
                <a:moveTo>
                  <a:pt x="51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55" y="20200"/>
                </a:lnTo>
                <a:close/>
              </a:path>
              <a:path fill="lighten" w="51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651640" y="3573360"/>
            <a:ext cx="1728720" cy="71928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1898" h="21600">
                <a:moveTo>
                  <a:pt x="0" y="0"/>
                </a:moveTo>
                <a:lnTo>
                  <a:pt x="51898" y="0"/>
                </a:lnTo>
                <a:lnTo>
                  <a:pt x="51898" y="21600"/>
                </a:lnTo>
                <a:lnTo>
                  <a:pt x="0" y="21600"/>
                </a:lnTo>
                <a:close/>
              </a:path>
              <a:path fill="lightenLess" w="51898" h="21600">
                <a:moveTo>
                  <a:pt x="0" y="0"/>
                </a:moveTo>
                <a:lnTo>
                  <a:pt x="51898" y="0"/>
                </a:lnTo>
                <a:lnTo>
                  <a:pt x="50498" y="1400"/>
                </a:lnTo>
                <a:lnTo>
                  <a:pt x="1400" y="1400"/>
                </a:lnTo>
                <a:close/>
              </a:path>
              <a:path fill="darken" w="51898" h="21600">
                <a:moveTo>
                  <a:pt x="51898" y="0"/>
                </a:moveTo>
                <a:lnTo>
                  <a:pt x="51898" y="21600"/>
                </a:lnTo>
                <a:lnTo>
                  <a:pt x="50498" y="20200"/>
                </a:lnTo>
                <a:lnTo>
                  <a:pt x="50498" y="1400"/>
                </a:lnTo>
                <a:close/>
              </a:path>
              <a:path fill="darkenLess" w="51898" h="21600">
                <a:moveTo>
                  <a:pt x="5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98" y="20200"/>
                </a:lnTo>
                <a:close/>
              </a:path>
              <a:path fill="lighten" w="5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380360" y="3573360"/>
            <a:ext cx="1763640" cy="71928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2946" h="21600">
                <a:moveTo>
                  <a:pt x="0" y="0"/>
                </a:moveTo>
                <a:lnTo>
                  <a:pt x="52946" y="0"/>
                </a:lnTo>
                <a:lnTo>
                  <a:pt x="52946" y="21600"/>
                </a:lnTo>
                <a:lnTo>
                  <a:pt x="0" y="21600"/>
                </a:lnTo>
                <a:close/>
              </a:path>
              <a:path fill="lightenLess" w="52946" h="21600">
                <a:moveTo>
                  <a:pt x="0" y="0"/>
                </a:moveTo>
                <a:lnTo>
                  <a:pt x="52946" y="0"/>
                </a:lnTo>
                <a:lnTo>
                  <a:pt x="51547" y="1400"/>
                </a:lnTo>
                <a:lnTo>
                  <a:pt x="1400" y="1400"/>
                </a:lnTo>
                <a:close/>
              </a:path>
              <a:path fill="darken" w="52946" h="21600">
                <a:moveTo>
                  <a:pt x="52946" y="0"/>
                </a:moveTo>
                <a:lnTo>
                  <a:pt x="52946" y="21600"/>
                </a:lnTo>
                <a:lnTo>
                  <a:pt x="51547" y="20200"/>
                </a:lnTo>
                <a:lnTo>
                  <a:pt x="51547" y="1400"/>
                </a:lnTo>
                <a:close/>
              </a:path>
              <a:path fill="darkenLess" w="52946" h="21600">
                <a:moveTo>
                  <a:pt x="52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47" y="20200"/>
                </a:lnTo>
                <a:close/>
              </a:path>
              <a:path fill="lighten" w="52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429264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действие развитию массово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зической культуры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24360" y="429264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429264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7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380360" y="429264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7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6165720"/>
            <a:ext cx="3924360" cy="692280"/>
          </a:xfrm>
          <a:custGeom>
            <a:avLst/>
            <a:gdLst>
              <a:gd name="textAreaLeft" fmla="*/ 44640 w 3924360"/>
              <a:gd name="textAreaRight" fmla="*/ 3879720 w 3924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122393" h="21600">
                <a:moveTo>
                  <a:pt x="0" y="0"/>
                </a:moveTo>
                <a:lnTo>
                  <a:pt x="122393" y="0"/>
                </a:lnTo>
                <a:lnTo>
                  <a:pt x="122393" y="21600"/>
                </a:lnTo>
                <a:lnTo>
                  <a:pt x="0" y="21600"/>
                </a:lnTo>
                <a:close/>
              </a:path>
              <a:path fill="lightenLess" w="122393" h="21600">
                <a:moveTo>
                  <a:pt x="0" y="0"/>
                </a:moveTo>
                <a:lnTo>
                  <a:pt x="122393" y="0"/>
                </a:lnTo>
                <a:lnTo>
                  <a:pt x="120993" y="1400"/>
                </a:lnTo>
                <a:lnTo>
                  <a:pt x="1400" y="1400"/>
                </a:lnTo>
                <a:close/>
              </a:path>
              <a:path fill="darken" w="122393" h="21600">
                <a:moveTo>
                  <a:pt x="122393" y="0"/>
                </a:moveTo>
                <a:lnTo>
                  <a:pt x="122393" y="21600"/>
                </a:lnTo>
                <a:lnTo>
                  <a:pt x="120993" y="20200"/>
                </a:lnTo>
                <a:lnTo>
                  <a:pt x="120993" y="1400"/>
                </a:lnTo>
                <a:close/>
              </a:path>
              <a:path fill="darkenLess" w="122393" h="21600">
                <a:moveTo>
                  <a:pt x="122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93" y="20200"/>
                </a:lnTo>
                <a:close/>
              </a:path>
              <a:path fill="lighten" w="122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165720"/>
            <a:ext cx="1726920" cy="692280"/>
          </a:xfrm>
          <a:custGeom>
            <a:avLst/>
            <a:gdLst>
              <a:gd name="textAreaLeft" fmla="*/ 44640 w 1726920"/>
              <a:gd name="textAreaRight" fmla="*/ 1682280 w 17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3865" h="21600">
                <a:moveTo>
                  <a:pt x="0" y="0"/>
                </a:moveTo>
                <a:lnTo>
                  <a:pt x="53865" y="0"/>
                </a:lnTo>
                <a:lnTo>
                  <a:pt x="53865" y="21600"/>
                </a:lnTo>
                <a:lnTo>
                  <a:pt x="0" y="21600"/>
                </a:lnTo>
                <a:close/>
              </a:path>
              <a:path fill="lightenLess" w="53865" h="21600">
                <a:moveTo>
                  <a:pt x="0" y="0"/>
                </a:moveTo>
                <a:lnTo>
                  <a:pt x="53865" y="0"/>
                </a:lnTo>
                <a:lnTo>
                  <a:pt x="52465" y="1400"/>
                </a:lnTo>
                <a:lnTo>
                  <a:pt x="1400" y="1400"/>
                </a:lnTo>
                <a:close/>
              </a:path>
              <a:path fill="darken" w="53865" h="21600">
                <a:moveTo>
                  <a:pt x="53865" y="0"/>
                </a:moveTo>
                <a:lnTo>
                  <a:pt x="53865" y="21600"/>
                </a:lnTo>
                <a:lnTo>
                  <a:pt x="52465" y="20200"/>
                </a:lnTo>
                <a:lnTo>
                  <a:pt x="52465" y="1400"/>
                </a:lnTo>
                <a:close/>
              </a:path>
              <a:path fill="darkenLess" w="53865" h="21600">
                <a:moveTo>
                  <a:pt x="5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65" y="20200"/>
                </a:lnTo>
                <a:close/>
              </a:path>
              <a:path fill="lighten" w="5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2 69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80360" y="6165720"/>
            <a:ext cx="1763640" cy="692280"/>
          </a:xfrm>
          <a:custGeom>
            <a:avLst/>
            <a:gdLst>
              <a:gd name="textAreaLeft" fmla="*/ 44640 w 1763640"/>
              <a:gd name="textAreaRight" fmla="*/ 1719000 w 1763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5010" h="21600">
                <a:moveTo>
                  <a:pt x="0" y="0"/>
                </a:moveTo>
                <a:lnTo>
                  <a:pt x="55010" y="0"/>
                </a:lnTo>
                <a:lnTo>
                  <a:pt x="55010" y="21600"/>
                </a:lnTo>
                <a:lnTo>
                  <a:pt x="0" y="21600"/>
                </a:lnTo>
                <a:close/>
              </a:path>
              <a:path fill="lightenLess" w="55010" h="21600">
                <a:moveTo>
                  <a:pt x="0" y="0"/>
                </a:moveTo>
                <a:lnTo>
                  <a:pt x="55010" y="0"/>
                </a:lnTo>
                <a:lnTo>
                  <a:pt x="53610" y="1400"/>
                </a:lnTo>
                <a:lnTo>
                  <a:pt x="1400" y="1400"/>
                </a:lnTo>
                <a:close/>
              </a:path>
              <a:path fill="darken" w="55010" h="21600">
                <a:moveTo>
                  <a:pt x="55010" y="0"/>
                </a:moveTo>
                <a:lnTo>
                  <a:pt x="55010" y="21600"/>
                </a:lnTo>
                <a:lnTo>
                  <a:pt x="53610" y="20200"/>
                </a:lnTo>
                <a:lnTo>
                  <a:pt x="53610" y="1400"/>
                </a:lnTo>
                <a:close/>
              </a:path>
              <a:path fill="darkenLess" w="55010" h="21600">
                <a:moveTo>
                  <a:pt x="55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0" y="20200"/>
                </a:lnTo>
                <a:close/>
              </a:path>
              <a:path fill="lighten" w="55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2 69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924360" y="6165720"/>
            <a:ext cx="1727280" cy="692280"/>
          </a:xfrm>
          <a:custGeom>
            <a:avLst/>
            <a:gdLst>
              <a:gd name="textAreaLeft" fmla="*/ 44640 w 1727280"/>
              <a:gd name="textAreaRight" fmla="*/ 1682640 w 1727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3877" h="21600">
                <a:moveTo>
                  <a:pt x="0" y="0"/>
                </a:moveTo>
                <a:lnTo>
                  <a:pt x="53877" y="0"/>
                </a:lnTo>
                <a:lnTo>
                  <a:pt x="53877" y="21600"/>
                </a:lnTo>
                <a:lnTo>
                  <a:pt x="0" y="21600"/>
                </a:lnTo>
                <a:close/>
              </a:path>
              <a:path fill="lightenLess" w="53877" h="21600">
                <a:moveTo>
                  <a:pt x="0" y="0"/>
                </a:moveTo>
                <a:lnTo>
                  <a:pt x="53877" y="0"/>
                </a:lnTo>
                <a:lnTo>
                  <a:pt x="52477" y="1400"/>
                </a:lnTo>
                <a:lnTo>
                  <a:pt x="1400" y="1400"/>
                </a:lnTo>
                <a:close/>
              </a:path>
              <a:path fill="darken" w="53877" h="21600">
                <a:moveTo>
                  <a:pt x="53877" y="0"/>
                </a:moveTo>
                <a:lnTo>
                  <a:pt x="53877" y="21600"/>
                </a:lnTo>
                <a:lnTo>
                  <a:pt x="52477" y="20200"/>
                </a:lnTo>
                <a:lnTo>
                  <a:pt x="52477" y="1400"/>
                </a:lnTo>
                <a:close/>
              </a:path>
              <a:path fill="darkenLess" w="53877" h="21600">
                <a:moveTo>
                  <a:pt x="5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7" y="20200"/>
                </a:lnTo>
                <a:close/>
              </a:path>
              <a:path fill="lighten" w="5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2 64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5013360"/>
            <a:ext cx="3924360" cy="1150920"/>
          </a:xfrm>
          <a:custGeom>
            <a:avLst/>
            <a:gdLst>
              <a:gd name="textAreaLeft" fmla="*/ 74520 w 3924360"/>
              <a:gd name="textAreaRight" fmla="*/ 3849840 w 3924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73635" h="21600">
                <a:moveTo>
                  <a:pt x="0" y="0"/>
                </a:moveTo>
                <a:lnTo>
                  <a:pt x="73635" y="0"/>
                </a:lnTo>
                <a:lnTo>
                  <a:pt x="73635" y="21600"/>
                </a:lnTo>
                <a:lnTo>
                  <a:pt x="0" y="21600"/>
                </a:lnTo>
                <a:close/>
              </a:path>
              <a:path fill="lightenLess" w="73635" h="21600">
                <a:moveTo>
                  <a:pt x="0" y="0"/>
                </a:moveTo>
                <a:lnTo>
                  <a:pt x="73635" y="0"/>
                </a:lnTo>
                <a:lnTo>
                  <a:pt x="72235" y="1400"/>
                </a:lnTo>
                <a:lnTo>
                  <a:pt x="1400" y="1400"/>
                </a:lnTo>
                <a:close/>
              </a:path>
              <a:path fill="darken" w="73635" h="21600">
                <a:moveTo>
                  <a:pt x="73635" y="0"/>
                </a:moveTo>
                <a:lnTo>
                  <a:pt x="73635" y="21600"/>
                </a:lnTo>
                <a:lnTo>
                  <a:pt x="72235" y="20200"/>
                </a:lnTo>
                <a:lnTo>
                  <a:pt x="72235" y="1400"/>
                </a:lnTo>
                <a:close/>
              </a:path>
              <a:path fill="darkenLess" w="73635" h="21600">
                <a:moveTo>
                  <a:pt x="7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235" y="20200"/>
                </a:lnTo>
                <a:close/>
              </a:path>
              <a:path fill="lighten" w="7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ЦП «Школьное питание в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образовательных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реждениях на 2017 год и плановы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иод 2018-2019 годов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24360" y="5013360"/>
            <a:ext cx="1727280" cy="1150920"/>
          </a:xfrm>
          <a:custGeom>
            <a:avLst/>
            <a:gdLst>
              <a:gd name="textAreaLeft" fmla="*/ 74520 w 1727280"/>
              <a:gd name="textAreaRight" fmla="*/ 1652760 w 172728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32414" h="21600">
                <a:moveTo>
                  <a:pt x="0" y="0"/>
                </a:moveTo>
                <a:lnTo>
                  <a:pt x="32414" y="0"/>
                </a:lnTo>
                <a:lnTo>
                  <a:pt x="32414" y="21600"/>
                </a:lnTo>
                <a:lnTo>
                  <a:pt x="0" y="21600"/>
                </a:lnTo>
                <a:close/>
              </a:path>
              <a:path fill="lightenLess" w="32414" h="21600">
                <a:moveTo>
                  <a:pt x="0" y="0"/>
                </a:moveTo>
                <a:lnTo>
                  <a:pt x="32414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4" h="21600">
                <a:moveTo>
                  <a:pt x="32414" y="0"/>
                </a:moveTo>
                <a:lnTo>
                  <a:pt x="32414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4" h="21600">
                <a:moveTo>
                  <a:pt x="32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253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5013360"/>
            <a:ext cx="1726920" cy="1150920"/>
          </a:xfrm>
          <a:custGeom>
            <a:avLst/>
            <a:gdLst>
              <a:gd name="textAreaLeft" fmla="*/ 74520 w 1726920"/>
              <a:gd name="textAreaRight" fmla="*/ 1652400 w 172692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32407" h="21600">
                <a:moveTo>
                  <a:pt x="0" y="0"/>
                </a:moveTo>
                <a:lnTo>
                  <a:pt x="32407" y="0"/>
                </a:lnTo>
                <a:lnTo>
                  <a:pt x="32407" y="21600"/>
                </a:lnTo>
                <a:lnTo>
                  <a:pt x="0" y="21600"/>
                </a:lnTo>
                <a:close/>
              </a:path>
              <a:path fill="lightenLess" w="32407" h="21600">
                <a:moveTo>
                  <a:pt x="0" y="0"/>
                </a:moveTo>
                <a:lnTo>
                  <a:pt x="32407" y="0"/>
                </a:lnTo>
                <a:lnTo>
                  <a:pt x="31007" y="1400"/>
                </a:lnTo>
                <a:lnTo>
                  <a:pt x="1400" y="1400"/>
                </a:lnTo>
                <a:close/>
              </a:path>
              <a:path fill="darken" w="32407" h="21600">
                <a:moveTo>
                  <a:pt x="32407" y="0"/>
                </a:moveTo>
                <a:lnTo>
                  <a:pt x="32407" y="21600"/>
                </a:lnTo>
                <a:lnTo>
                  <a:pt x="31007" y="20200"/>
                </a:lnTo>
                <a:lnTo>
                  <a:pt x="31007" y="1400"/>
                </a:lnTo>
                <a:close/>
              </a:path>
              <a:path fill="darkenLess" w="32407" h="21600">
                <a:moveTo>
                  <a:pt x="32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7" y="20200"/>
                </a:lnTo>
                <a:close/>
              </a:path>
              <a:path fill="lighten" w="32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253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80360" y="5013360"/>
            <a:ext cx="1763640" cy="1150920"/>
          </a:xfrm>
          <a:custGeom>
            <a:avLst/>
            <a:gdLst>
              <a:gd name="textAreaLeft" fmla="*/ 74520 w 1763640"/>
              <a:gd name="textAreaRight" fmla="*/ 1689120 w 176364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33096" h="21600">
                <a:moveTo>
                  <a:pt x="0" y="0"/>
                </a:moveTo>
                <a:lnTo>
                  <a:pt x="33096" y="0"/>
                </a:lnTo>
                <a:lnTo>
                  <a:pt x="33096" y="21600"/>
                </a:lnTo>
                <a:lnTo>
                  <a:pt x="0" y="21600"/>
                </a:lnTo>
                <a:close/>
              </a:path>
              <a:path fill="lightenLess" w="33096" h="21600">
                <a:moveTo>
                  <a:pt x="0" y="0"/>
                </a:moveTo>
                <a:lnTo>
                  <a:pt x="33096" y="0"/>
                </a:lnTo>
                <a:lnTo>
                  <a:pt x="31696" y="1400"/>
                </a:lnTo>
                <a:lnTo>
                  <a:pt x="1400" y="1400"/>
                </a:lnTo>
                <a:close/>
              </a:path>
              <a:path fill="darken" w="33096" h="21600">
                <a:moveTo>
                  <a:pt x="33096" y="0"/>
                </a:moveTo>
                <a:lnTo>
                  <a:pt x="33096" y="21600"/>
                </a:lnTo>
                <a:lnTo>
                  <a:pt x="31696" y="20200"/>
                </a:lnTo>
                <a:lnTo>
                  <a:pt x="31696" y="1400"/>
                </a:lnTo>
                <a:close/>
              </a:path>
              <a:path fill="darkenLess" w="33096" h="21600">
                <a:moveTo>
                  <a:pt x="33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96" y="20200"/>
                </a:lnTo>
                <a:close/>
              </a:path>
              <a:path fill="lighten" w="33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253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грамм муниципального образования на 2017 - 2019 г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24360" y="8366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651640" y="83664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80360" y="83664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9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1557360"/>
            <a:ext cx="9144000" cy="647640"/>
          </a:xfrm>
          <a:custGeom>
            <a:avLst/>
            <a:gdLst>
              <a:gd name="textAreaLeft" fmla="*/ 41760 w 9144000"/>
              <a:gd name="textAreaRight" fmla="*/ 9102240 w 914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04812" h="21600">
                <a:moveTo>
                  <a:pt x="0" y="0"/>
                </a:moveTo>
                <a:lnTo>
                  <a:pt x="304812" y="0"/>
                </a:lnTo>
                <a:lnTo>
                  <a:pt x="304812" y="21600"/>
                </a:lnTo>
                <a:lnTo>
                  <a:pt x="0" y="21600"/>
                </a:lnTo>
                <a:close/>
              </a:path>
              <a:path fill="lightenLess" w="304812" h="21600">
                <a:moveTo>
                  <a:pt x="0" y="0"/>
                </a:moveTo>
                <a:lnTo>
                  <a:pt x="304812" y="0"/>
                </a:lnTo>
                <a:lnTo>
                  <a:pt x="303412" y="1400"/>
                </a:lnTo>
                <a:lnTo>
                  <a:pt x="1400" y="1400"/>
                </a:lnTo>
                <a:close/>
              </a:path>
              <a:path fill="darken" w="304812" h="21600">
                <a:moveTo>
                  <a:pt x="304812" y="0"/>
                </a:moveTo>
                <a:lnTo>
                  <a:pt x="304812" y="21600"/>
                </a:lnTo>
                <a:lnTo>
                  <a:pt x="303412" y="20200"/>
                </a:lnTo>
                <a:lnTo>
                  <a:pt x="303412" y="1400"/>
                </a:lnTo>
                <a:close/>
              </a:path>
              <a:path fill="darkenLess" w="304812" h="21600">
                <a:moveTo>
                  <a:pt x="304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412" y="20200"/>
                </a:lnTo>
                <a:close/>
              </a:path>
              <a:path fill="lighten" w="304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ЦП, носящие срочный характер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2205000"/>
            <a:ext cx="3924360" cy="1368360"/>
          </a:xfrm>
          <a:custGeom>
            <a:avLst/>
            <a:gdLst>
              <a:gd name="textAreaLeft" fmla="*/ 88560 w 3924360"/>
              <a:gd name="textAreaRight" fmla="*/ 3835800 w 3924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1937" h="21600">
                <a:moveTo>
                  <a:pt x="0" y="0"/>
                </a:moveTo>
                <a:lnTo>
                  <a:pt x="61937" y="0"/>
                </a:lnTo>
                <a:lnTo>
                  <a:pt x="61937" y="21600"/>
                </a:lnTo>
                <a:lnTo>
                  <a:pt x="0" y="21600"/>
                </a:lnTo>
                <a:close/>
              </a:path>
              <a:path fill="lightenLess" w="61937" h="21600">
                <a:moveTo>
                  <a:pt x="0" y="0"/>
                </a:moveTo>
                <a:lnTo>
                  <a:pt x="61937" y="0"/>
                </a:lnTo>
                <a:lnTo>
                  <a:pt x="60537" y="1400"/>
                </a:lnTo>
                <a:lnTo>
                  <a:pt x="1400" y="1400"/>
                </a:lnTo>
                <a:close/>
              </a:path>
              <a:path fill="darken" w="61937" h="21600">
                <a:moveTo>
                  <a:pt x="61937" y="0"/>
                </a:moveTo>
                <a:lnTo>
                  <a:pt x="61937" y="21600"/>
                </a:lnTo>
                <a:lnTo>
                  <a:pt x="60537" y="20200"/>
                </a:lnTo>
                <a:lnTo>
                  <a:pt x="60537" y="1400"/>
                </a:lnTo>
                <a:close/>
              </a:path>
              <a:path fill="darkenLess" w="61937" h="21600">
                <a:moveTo>
                  <a:pt x="61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537" y="20200"/>
                </a:lnTo>
                <a:close/>
              </a:path>
              <a:path fill="lighten" w="61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ЦП «Профилактика преступлений и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онарушений, пропаганда здорового образа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и среди несовершеннолетних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ог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я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Зырянский район»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924360" y="2205000"/>
            <a:ext cx="1727280" cy="1368360"/>
          </a:xfrm>
          <a:custGeom>
            <a:avLst/>
            <a:gdLst>
              <a:gd name="textAreaLeft" fmla="*/ 88560 w 1727280"/>
              <a:gd name="textAreaRight" fmla="*/ 1638720 w 1727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7264" h="21600">
                <a:moveTo>
                  <a:pt x="0" y="0"/>
                </a:moveTo>
                <a:lnTo>
                  <a:pt x="27264" y="0"/>
                </a:lnTo>
                <a:lnTo>
                  <a:pt x="27264" y="21600"/>
                </a:lnTo>
                <a:lnTo>
                  <a:pt x="0" y="21600"/>
                </a:lnTo>
                <a:close/>
              </a:path>
              <a:path fill="lightenLess" w="27264" h="21600">
                <a:moveTo>
                  <a:pt x="0" y="0"/>
                </a:moveTo>
                <a:lnTo>
                  <a:pt x="27264" y="0"/>
                </a:lnTo>
                <a:lnTo>
                  <a:pt x="25864" y="1400"/>
                </a:lnTo>
                <a:lnTo>
                  <a:pt x="1400" y="1400"/>
                </a:lnTo>
                <a:close/>
              </a:path>
              <a:path fill="darken" w="27264" h="21600">
                <a:moveTo>
                  <a:pt x="27264" y="0"/>
                </a:moveTo>
                <a:lnTo>
                  <a:pt x="27264" y="21600"/>
                </a:lnTo>
                <a:lnTo>
                  <a:pt x="25864" y="20200"/>
                </a:lnTo>
                <a:lnTo>
                  <a:pt x="25864" y="1400"/>
                </a:lnTo>
                <a:close/>
              </a:path>
              <a:path fill="darkenLess" w="27264" h="21600">
                <a:moveTo>
                  <a:pt x="27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64" y="20200"/>
                </a:lnTo>
                <a:close/>
              </a:path>
              <a:path fill="lighten" w="27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4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651640" y="2205000"/>
            <a:ext cx="1726920" cy="1368360"/>
          </a:xfrm>
          <a:custGeom>
            <a:avLst/>
            <a:gdLst>
              <a:gd name="textAreaLeft" fmla="*/ 88560 w 1726920"/>
              <a:gd name="textAreaRight" fmla="*/ 1638360 w 17269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7258" h="21600">
                <a:moveTo>
                  <a:pt x="0" y="0"/>
                </a:moveTo>
                <a:lnTo>
                  <a:pt x="27258" y="0"/>
                </a:lnTo>
                <a:lnTo>
                  <a:pt x="27258" y="21600"/>
                </a:lnTo>
                <a:lnTo>
                  <a:pt x="0" y="21600"/>
                </a:lnTo>
                <a:close/>
              </a:path>
              <a:path fill="lightenLess" w="27258" h="21600">
                <a:moveTo>
                  <a:pt x="0" y="0"/>
                </a:moveTo>
                <a:lnTo>
                  <a:pt x="27258" y="0"/>
                </a:lnTo>
                <a:lnTo>
                  <a:pt x="25859" y="1400"/>
                </a:lnTo>
                <a:lnTo>
                  <a:pt x="1400" y="1400"/>
                </a:lnTo>
                <a:close/>
              </a:path>
              <a:path fill="darken" w="27258" h="21600">
                <a:moveTo>
                  <a:pt x="27258" y="0"/>
                </a:moveTo>
                <a:lnTo>
                  <a:pt x="27258" y="21600"/>
                </a:lnTo>
                <a:lnTo>
                  <a:pt x="25859" y="20200"/>
                </a:lnTo>
                <a:lnTo>
                  <a:pt x="25859" y="1400"/>
                </a:lnTo>
                <a:close/>
              </a:path>
              <a:path fill="darkenLess" w="27258" h="21600">
                <a:moveTo>
                  <a:pt x="272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59" y="20200"/>
                </a:lnTo>
                <a:close/>
              </a:path>
              <a:path fill="lighten" w="272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380360" y="2205000"/>
            <a:ext cx="1763640" cy="1368360"/>
          </a:xfrm>
          <a:custGeom>
            <a:avLst/>
            <a:gdLst>
              <a:gd name="textAreaLeft" fmla="*/ 88560 w 1763640"/>
              <a:gd name="textAreaRight" fmla="*/ 1675080 w 17636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7838" h="21600">
                <a:moveTo>
                  <a:pt x="0" y="0"/>
                </a:moveTo>
                <a:lnTo>
                  <a:pt x="27838" y="0"/>
                </a:lnTo>
                <a:lnTo>
                  <a:pt x="27838" y="21600"/>
                </a:lnTo>
                <a:lnTo>
                  <a:pt x="0" y="21600"/>
                </a:lnTo>
                <a:close/>
              </a:path>
              <a:path fill="lightenLess" w="27838" h="21600">
                <a:moveTo>
                  <a:pt x="0" y="0"/>
                </a:moveTo>
                <a:lnTo>
                  <a:pt x="27838" y="0"/>
                </a:lnTo>
                <a:lnTo>
                  <a:pt x="26438" y="1400"/>
                </a:lnTo>
                <a:lnTo>
                  <a:pt x="1400" y="1400"/>
                </a:lnTo>
                <a:close/>
              </a:path>
              <a:path fill="darken" w="27838" h="21600">
                <a:moveTo>
                  <a:pt x="27838" y="0"/>
                </a:moveTo>
                <a:lnTo>
                  <a:pt x="27838" y="21600"/>
                </a:lnTo>
                <a:lnTo>
                  <a:pt x="26438" y="20200"/>
                </a:lnTo>
                <a:lnTo>
                  <a:pt x="26438" y="1400"/>
                </a:lnTo>
                <a:close/>
              </a:path>
              <a:path fill="darkenLess" w="27838" h="21600">
                <a:moveTo>
                  <a:pt x="27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38" y="20200"/>
                </a:lnTo>
                <a:close/>
              </a:path>
              <a:path fill="lighten" w="27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7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83664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едомственные целевы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6381720"/>
            <a:ext cx="3924360" cy="476280"/>
          </a:xfrm>
          <a:custGeom>
            <a:avLst/>
            <a:gdLst>
              <a:gd name="textAreaLeft" fmla="*/ 30600 w 3924360"/>
              <a:gd name="textAreaRight" fmla="*/ 3893760 w 392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77857" h="21600">
                <a:moveTo>
                  <a:pt x="0" y="0"/>
                </a:moveTo>
                <a:lnTo>
                  <a:pt x="177857" y="0"/>
                </a:lnTo>
                <a:lnTo>
                  <a:pt x="177857" y="21600"/>
                </a:lnTo>
                <a:lnTo>
                  <a:pt x="0" y="21600"/>
                </a:lnTo>
                <a:close/>
              </a:path>
              <a:path fill="lightenLess" w="177857" h="21600">
                <a:moveTo>
                  <a:pt x="0" y="0"/>
                </a:moveTo>
                <a:lnTo>
                  <a:pt x="177857" y="0"/>
                </a:lnTo>
                <a:lnTo>
                  <a:pt x="176457" y="1400"/>
                </a:lnTo>
                <a:lnTo>
                  <a:pt x="1400" y="1400"/>
                </a:lnTo>
                <a:close/>
              </a:path>
              <a:path fill="darken" w="177857" h="21600">
                <a:moveTo>
                  <a:pt x="177857" y="0"/>
                </a:moveTo>
                <a:lnTo>
                  <a:pt x="177857" y="21600"/>
                </a:lnTo>
                <a:lnTo>
                  <a:pt x="176457" y="20200"/>
                </a:lnTo>
                <a:lnTo>
                  <a:pt x="176457" y="1400"/>
                </a:lnTo>
                <a:close/>
              </a:path>
              <a:path fill="darkenLess" w="177857" h="21600">
                <a:moveTo>
                  <a:pt x="177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457" y="20200"/>
                </a:lnTo>
                <a:close/>
              </a:path>
              <a:path fill="lighten" w="177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СЕ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24360" y="6381720"/>
            <a:ext cx="1727280" cy="476280"/>
          </a:xfrm>
          <a:custGeom>
            <a:avLst/>
            <a:gdLst>
              <a:gd name="textAreaLeft" fmla="*/ 30600 w 1727280"/>
              <a:gd name="textAreaRight" fmla="*/ 1696680 w 1727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8292" h="21600">
                <a:moveTo>
                  <a:pt x="0" y="0"/>
                </a:moveTo>
                <a:lnTo>
                  <a:pt x="78292" y="0"/>
                </a:lnTo>
                <a:lnTo>
                  <a:pt x="78292" y="21600"/>
                </a:lnTo>
                <a:lnTo>
                  <a:pt x="0" y="21600"/>
                </a:lnTo>
                <a:close/>
              </a:path>
              <a:path fill="lightenLess" w="78292" h="21600">
                <a:moveTo>
                  <a:pt x="0" y="0"/>
                </a:moveTo>
                <a:lnTo>
                  <a:pt x="78292" y="0"/>
                </a:lnTo>
                <a:lnTo>
                  <a:pt x="76892" y="1400"/>
                </a:lnTo>
                <a:lnTo>
                  <a:pt x="1400" y="1400"/>
                </a:lnTo>
                <a:close/>
              </a:path>
              <a:path fill="darken" w="78292" h="21600">
                <a:moveTo>
                  <a:pt x="78292" y="0"/>
                </a:moveTo>
                <a:lnTo>
                  <a:pt x="78292" y="21600"/>
                </a:lnTo>
                <a:lnTo>
                  <a:pt x="76892" y="20200"/>
                </a:lnTo>
                <a:lnTo>
                  <a:pt x="76892" y="1400"/>
                </a:lnTo>
                <a:close/>
              </a:path>
              <a:path fill="darkenLess" w="78292" h="21600">
                <a:moveTo>
                  <a:pt x="78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92" y="20200"/>
                </a:lnTo>
                <a:close/>
              </a:path>
              <a:path fill="lighten" w="78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94 59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51640" y="6381720"/>
            <a:ext cx="1726920" cy="476280"/>
          </a:xfrm>
          <a:custGeom>
            <a:avLst/>
            <a:gdLst>
              <a:gd name="textAreaLeft" fmla="*/ 30600 w 1726920"/>
              <a:gd name="textAreaRight" fmla="*/ 1696320 w 17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8276" h="21600">
                <a:moveTo>
                  <a:pt x="0" y="0"/>
                </a:moveTo>
                <a:lnTo>
                  <a:pt x="78276" y="0"/>
                </a:lnTo>
                <a:lnTo>
                  <a:pt x="78276" y="21600"/>
                </a:lnTo>
                <a:lnTo>
                  <a:pt x="0" y="21600"/>
                </a:lnTo>
                <a:close/>
              </a:path>
              <a:path fill="lightenLess" w="78276" h="21600">
                <a:moveTo>
                  <a:pt x="0" y="0"/>
                </a:moveTo>
                <a:lnTo>
                  <a:pt x="78276" y="0"/>
                </a:lnTo>
                <a:lnTo>
                  <a:pt x="76876" y="1400"/>
                </a:lnTo>
                <a:lnTo>
                  <a:pt x="1400" y="1400"/>
                </a:lnTo>
                <a:close/>
              </a:path>
              <a:path fill="darken" w="78276" h="21600">
                <a:moveTo>
                  <a:pt x="78276" y="0"/>
                </a:moveTo>
                <a:lnTo>
                  <a:pt x="78276" y="21600"/>
                </a:lnTo>
                <a:lnTo>
                  <a:pt x="76876" y="20200"/>
                </a:lnTo>
                <a:lnTo>
                  <a:pt x="76876" y="1400"/>
                </a:lnTo>
                <a:close/>
              </a:path>
              <a:path fill="darkenLess" w="78276" h="21600">
                <a:moveTo>
                  <a:pt x="7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6" y="20200"/>
                </a:lnTo>
                <a:close/>
              </a:path>
              <a:path fill="lighten" w="7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5 259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380360" y="6381720"/>
            <a:ext cx="1763640" cy="476280"/>
          </a:xfrm>
          <a:custGeom>
            <a:avLst/>
            <a:gdLst>
              <a:gd name="textAreaLeft" fmla="*/ 30600 w 1763640"/>
              <a:gd name="textAreaRight" fmla="*/ 1733040 w 17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9940" h="21600">
                <a:moveTo>
                  <a:pt x="0" y="0"/>
                </a:moveTo>
                <a:lnTo>
                  <a:pt x="79940" y="0"/>
                </a:lnTo>
                <a:lnTo>
                  <a:pt x="79940" y="21600"/>
                </a:lnTo>
                <a:lnTo>
                  <a:pt x="0" y="21600"/>
                </a:lnTo>
                <a:close/>
              </a:path>
              <a:path fill="lightenLess" w="79940" h="21600">
                <a:moveTo>
                  <a:pt x="0" y="0"/>
                </a:moveTo>
                <a:lnTo>
                  <a:pt x="79940" y="0"/>
                </a:lnTo>
                <a:lnTo>
                  <a:pt x="78540" y="1400"/>
                </a:lnTo>
                <a:lnTo>
                  <a:pt x="1400" y="1400"/>
                </a:lnTo>
                <a:close/>
              </a:path>
              <a:path fill="darken" w="79940" h="21600">
                <a:moveTo>
                  <a:pt x="79940" y="0"/>
                </a:moveTo>
                <a:lnTo>
                  <a:pt x="79940" y="21600"/>
                </a:lnTo>
                <a:lnTo>
                  <a:pt x="78540" y="20200"/>
                </a:lnTo>
                <a:lnTo>
                  <a:pt x="78540" y="1400"/>
                </a:lnTo>
                <a:close/>
              </a:path>
              <a:path fill="darkenLess" w="79940" h="21600">
                <a:moveTo>
                  <a:pt x="79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540" y="20200"/>
                </a:lnTo>
                <a:close/>
              </a:path>
              <a:path fill="lighten" w="79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4 627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1557360"/>
            <a:ext cx="3924360" cy="1224000"/>
          </a:xfrm>
          <a:custGeom>
            <a:avLst/>
            <a:gdLst>
              <a:gd name="textAreaLeft" fmla="*/ 79200 w 3924360"/>
              <a:gd name="textAreaRight" fmla="*/ 3845160 w 3924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69239" h="21600">
                <a:moveTo>
                  <a:pt x="0" y="0"/>
                </a:moveTo>
                <a:lnTo>
                  <a:pt x="69239" y="0"/>
                </a:lnTo>
                <a:lnTo>
                  <a:pt x="69239" y="21600"/>
                </a:lnTo>
                <a:lnTo>
                  <a:pt x="0" y="21600"/>
                </a:lnTo>
                <a:close/>
              </a:path>
              <a:path fill="lightenLess" w="69239" h="21600">
                <a:moveTo>
                  <a:pt x="0" y="0"/>
                </a:moveTo>
                <a:lnTo>
                  <a:pt x="69239" y="0"/>
                </a:lnTo>
                <a:lnTo>
                  <a:pt x="67839" y="1400"/>
                </a:lnTo>
                <a:lnTo>
                  <a:pt x="1400" y="1400"/>
                </a:lnTo>
                <a:close/>
              </a:path>
              <a:path fill="darken" w="69239" h="21600">
                <a:moveTo>
                  <a:pt x="69239" y="0"/>
                </a:moveTo>
                <a:lnTo>
                  <a:pt x="69239" y="21600"/>
                </a:lnTo>
                <a:lnTo>
                  <a:pt x="67839" y="20200"/>
                </a:lnTo>
                <a:lnTo>
                  <a:pt x="67839" y="1400"/>
                </a:lnTo>
                <a:close/>
              </a:path>
              <a:path fill="darkenLess" w="69239" h="21600">
                <a:moveTo>
                  <a:pt x="6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39" y="20200"/>
                </a:lnTo>
                <a:close/>
              </a:path>
              <a:path fill="lighten" w="6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Предоставление молодым семьям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й поддержки на приобретение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роительство) жилья на территории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 на 2016-2018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24360" y="1557360"/>
            <a:ext cx="1727280" cy="1224000"/>
          </a:xfrm>
          <a:custGeom>
            <a:avLst/>
            <a:gdLst>
              <a:gd name="textAreaLeft" fmla="*/ 79200 w 1727280"/>
              <a:gd name="textAreaRight" fmla="*/ 1648080 w 1727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0479" h="21600">
                <a:moveTo>
                  <a:pt x="0" y="0"/>
                </a:moveTo>
                <a:lnTo>
                  <a:pt x="30479" y="0"/>
                </a:lnTo>
                <a:lnTo>
                  <a:pt x="30479" y="21600"/>
                </a:lnTo>
                <a:lnTo>
                  <a:pt x="0" y="21600"/>
                </a:lnTo>
                <a:close/>
              </a:path>
              <a:path fill="lightenLess" w="30479" h="21600">
                <a:moveTo>
                  <a:pt x="0" y="0"/>
                </a:moveTo>
                <a:lnTo>
                  <a:pt x="30479" y="0"/>
                </a:lnTo>
                <a:lnTo>
                  <a:pt x="29079" y="1400"/>
                </a:lnTo>
                <a:lnTo>
                  <a:pt x="1400" y="1400"/>
                </a:lnTo>
                <a:close/>
              </a:path>
              <a:path fill="darken" w="30479" h="21600">
                <a:moveTo>
                  <a:pt x="30479" y="0"/>
                </a:moveTo>
                <a:lnTo>
                  <a:pt x="30479" y="21600"/>
                </a:lnTo>
                <a:lnTo>
                  <a:pt x="29079" y="20200"/>
                </a:lnTo>
                <a:lnTo>
                  <a:pt x="29079" y="1400"/>
                </a:lnTo>
                <a:close/>
              </a:path>
              <a:path fill="darkenLess" w="30479" h="21600">
                <a:moveTo>
                  <a:pt x="30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79" y="20200"/>
                </a:lnTo>
                <a:close/>
              </a:path>
              <a:path fill="lighten" w="30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1640" y="1557360"/>
            <a:ext cx="1726920" cy="1224000"/>
          </a:xfrm>
          <a:custGeom>
            <a:avLst/>
            <a:gdLst>
              <a:gd name="textAreaLeft" fmla="*/ 79200 w 1726920"/>
              <a:gd name="textAreaRight" fmla="*/ 1647720 w 17269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0472" h="21600">
                <a:moveTo>
                  <a:pt x="0" y="0"/>
                </a:moveTo>
                <a:lnTo>
                  <a:pt x="30472" y="0"/>
                </a:lnTo>
                <a:lnTo>
                  <a:pt x="30472" y="21600"/>
                </a:lnTo>
                <a:lnTo>
                  <a:pt x="0" y="21600"/>
                </a:lnTo>
                <a:close/>
              </a:path>
              <a:path fill="lightenLess" w="30472" h="21600">
                <a:moveTo>
                  <a:pt x="0" y="0"/>
                </a:moveTo>
                <a:lnTo>
                  <a:pt x="30472" y="0"/>
                </a:lnTo>
                <a:lnTo>
                  <a:pt x="29073" y="1400"/>
                </a:lnTo>
                <a:lnTo>
                  <a:pt x="1400" y="1400"/>
                </a:lnTo>
                <a:close/>
              </a:path>
              <a:path fill="darken" w="30472" h="21600">
                <a:moveTo>
                  <a:pt x="30472" y="0"/>
                </a:moveTo>
                <a:lnTo>
                  <a:pt x="30472" y="21600"/>
                </a:lnTo>
                <a:lnTo>
                  <a:pt x="29073" y="20200"/>
                </a:lnTo>
                <a:lnTo>
                  <a:pt x="29073" y="1400"/>
                </a:lnTo>
                <a:close/>
              </a:path>
              <a:path fill="darkenLess" w="30472" h="21600">
                <a:moveTo>
                  <a:pt x="30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73" y="20200"/>
                </a:lnTo>
                <a:close/>
              </a:path>
              <a:path fill="lighten" w="30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380360" y="1557360"/>
            <a:ext cx="1763640" cy="1224000"/>
          </a:xfrm>
          <a:custGeom>
            <a:avLst/>
            <a:gdLst>
              <a:gd name="textAreaLeft" fmla="*/ 79200 w 1763640"/>
              <a:gd name="textAreaRight" fmla="*/ 1684440 w 176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1120" h="21600">
                <a:moveTo>
                  <a:pt x="0" y="0"/>
                </a:moveTo>
                <a:lnTo>
                  <a:pt x="31120" y="0"/>
                </a:lnTo>
                <a:lnTo>
                  <a:pt x="31120" y="21600"/>
                </a:lnTo>
                <a:lnTo>
                  <a:pt x="0" y="21600"/>
                </a:lnTo>
                <a:close/>
              </a:path>
              <a:path fill="lightenLess" w="31120" h="21600">
                <a:moveTo>
                  <a:pt x="0" y="0"/>
                </a:moveTo>
                <a:lnTo>
                  <a:pt x="31120" y="0"/>
                </a:lnTo>
                <a:lnTo>
                  <a:pt x="29720" y="1400"/>
                </a:lnTo>
                <a:lnTo>
                  <a:pt x="1400" y="1400"/>
                </a:lnTo>
                <a:close/>
              </a:path>
              <a:path fill="darken" w="31120" h="21600">
                <a:moveTo>
                  <a:pt x="31120" y="0"/>
                </a:moveTo>
                <a:lnTo>
                  <a:pt x="31120" y="21600"/>
                </a:lnTo>
                <a:lnTo>
                  <a:pt x="29720" y="20200"/>
                </a:lnTo>
                <a:lnTo>
                  <a:pt x="29720" y="1400"/>
                </a:lnTo>
                <a:close/>
              </a:path>
              <a:path fill="darkenLess" w="31120" h="21600">
                <a:moveTo>
                  <a:pt x="31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20" y="20200"/>
                </a:lnTo>
                <a:close/>
              </a:path>
              <a:path fill="lighten" w="31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2781360"/>
            <a:ext cx="3924360" cy="863640"/>
          </a:xfrm>
          <a:custGeom>
            <a:avLst/>
            <a:gdLst>
              <a:gd name="textAreaLeft" fmla="*/ 55800 w 3924360"/>
              <a:gd name="textAreaRight" fmla="*/ 3868560 w 3924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98118" h="21600">
                <a:moveTo>
                  <a:pt x="0" y="0"/>
                </a:moveTo>
                <a:lnTo>
                  <a:pt x="98118" y="0"/>
                </a:lnTo>
                <a:lnTo>
                  <a:pt x="98118" y="21600"/>
                </a:lnTo>
                <a:lnTo>
                  <a:pt x="0" y="21600"/>
                </a:lnTo>
                <a:close/>
              </a:path>
              <a:path fill="lightenLess" w="98118" h="21600">
                <a:moveTo>
                  <a:pt x="0" y="0"/>
                </a:moveTo>
                <a:lnTo>
                  <a:pt x="98118" y="0"/>
                </a:lnTo>
                <a:lnTo>
                  <a:pt x="96718" y="1400"/>
                </a:lnTo>
                <a:lnTo>
                  <a:pt x="1400" y="1400"/>
                </a:lnTo>
                <a:close/>
              </a:path>
              <a:path fill="darken" w="98118" h="21600">
                <a:moveTo>
                  <a:pt x="98118" y="0"/>
                </a:moveTo>
                <a:lnTo>
                  <a:pt x="98118" y="21600"/>
                </a:lnTo>
                <a:lnTo>
                  <a:pt x="96718" y="20200"/>
                </a:lnTo>
                <a:lnTo>
                  <a:pt x="96718" y="1400"/>
                </a:lnTo>
                <a:close/>
              </a:path>
              <a:path fill="darkenLess" w="98118" h="21600">
                <a:moveTo>
                  <a:pt x="98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718" y="20200"/>
                </a:lnTo>
                <a:close/>
              </a:path>
              <a:path fill="lighten" w="98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Сохранение и развитие культуры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на 2017-2019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645000"/>
            <a:ext cx="3924360" cy="1008000"/>
          </a:xfrm>
          <a:custGeom>
            <a:avLst/>
            <a:gdLst>
              <a:gd name="textAreaLeft" fmla="*/ 65160 w 3924360"/>
              <a:gd name="textAreaRight" fmla="*/ 3859200 w 3924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4071" h="21600">
                <a:moveTo>
                  <a:pt x="0" y="0"/>
                </a:moveTo>
                <a:lnTo>
                  <a:pt x="84071" y="0"/>
                </a:lnTo>
                <a:lnTo>
                  <a:pt x="84071" y="21600"/>
                </a:lnTo>
                <a:lnTo>
                  <a:pt x="0" y="21600"/>
                </a:lnTo>
                <a:close/>
              </a:path>
              <a:path fill="lightenLess" w="84071" h="21600">
                <a:moveTo>
                  <a:pt x="0" y="0"/>
                </a:moveTo>
                <a:lnTo>
                  <a:pt x="84071" y="0"/>
                </a:lnTo>
                <a:lnTo>
                  <a:pt x="82671" y="1400"/>
                </a:lnTo>
                <a:lnTo>
                  <a:pt x="1400" y="1400"/>
                </a:lnTo>
                <a:close/>
              </a:path>
              <a:path fill="darken" w="84071" h="21600">
                <a:moveTo>
                  <a:pt x="84071" y="0"/>
                </a:moveTo>
                <a:lnTo>
                  <a:pt x="84071" y="21600"/>
                </a:lnTo>
                <a:lnTo>
                  <a:pt x="82671" y="20200"/>
                </a:lnTo>
                <a:lnTo>
                  <a:pt x="82671" y="1400"/>
                </a:lnTo>
                <a:close/>
              </a:path>
              <a:path fill="darkenLess" w="84071" h="21600">
                <a:moveTo>
                  <a:pt x="84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671" y="20200"/>
                </a:lnTo>
                <a:close/>
              </a:path>
              <a:path fill="lighten" w="84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Развитие малого и среднег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принимательства в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м районе  на 2015-2018 годы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24360" y="2781360"/>
            <a:ext cx="1727280" cy="863640"/>
          </a:xfrm>
          <a:custGeom>
            <a:avLst/>
            <a:gdLst>
              <a:gd name="textAreaLeft" fmla="*/ 55800 w 1727280"/>
              <a:gd name="textAreaRight" fmla="*/ 1671480 w 1727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1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1" y="20200"/>
                </a:lnTo>
                <a:lnTo>
                  <a:pt x="41791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1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651640" y="2781360"/>
            <a:ext cx="1726920" cy="863640"/>
          </a:xfrm>
          <a:custGeom>
            <a:avLst/>
            <a:gdLst>
              <a:gd name="textAreaLeft" fmla="*/ 55800 w 1726920"/>
              <a:gd name="textAreaRight" fmla="*/ 1671120 w 1726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3182" h="21600">
                <a:moveTo>
                  <a:pt x="0" y="0"/>
                </a:moveTo>
                <a:lnTo>
                  <a:pt x="43182" y="0"/>
                </a:lnTo>
                <a:lnTo>
                  <a:pt x="43182" y="21600"/>
                </a:lnTo>
                <a:lnTo>
                  <a:pt x="0" y="21600"/>
                </a:lnTo>
                <a:close/>
              </a:path>
              <a:path fill="lightenLess" w="43182" h="21600">
                <a:moveTo>
                  <a:pt x="0" y="0"/>
                </a:moveTo>
                <a:lnTo>
                  <a:pt x="43182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2" h="21600">
                <a:moveTo>
                  <a:pt x="43182" y="0"/>
                </a:moveTo>
                <a:lnTo>
                  <a:pt x="43182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2" h="21600">
                <a:moveTo>
                  <a:pt x="4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380360" y="2781360"/>
            <a:ext cx="1763640" cy="863640"/>
          </a:xfrm>
          <a:custGeom>
            <a:avLst/>
            <a:gdLst>
              <a:gd name="textAreaLeft" fmla="*/ 55800 w 1763640"/>
              <a:gd name="textAreaRight" fmla="*/ 1707840 w 17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4100" h="21600">
                <a:moveTo>
                  <a:pt x="0" y="0"/>
                </a:moveTo>
                <a:lnTo>
                  <a:pt x="44100" y="0"/>
                </a:lnTo>
                <a:lnTo>
                  <a:pt x="44100" y="21600"/>
                </a:lnTo>
                <a:lnTo>
                  <a:pt x="0" y="21600"/>
                </a:lnTo>
                <a:close/>
              </a:path>
              <a:path fill="lightenLess" w="44100" h="21600">
                <a:moveTo>
                  <a:pt x="0" y="0"/>
                </a:moveTo>
                <a:lnTo>
                  <a:pt x="44100" y="0"/>
                </a:lnTo>
                <a:lnTo>
                  <a:pt x="42700" y="1400"/>
                </a:lnTo>
                <a:lnTo>
                  <a:pt x="1400" y="1400"/>
                </a:lnTo>
                <a:close/>
              </a:path>
              <a:path fill="darken" w="44100" h="21600">
                <a:moveTo>
                  <a:pt x="44100" y="0"/>
                </a:moveTo>
                <a:lnTo>
                  <a:pt x="44100" y="21600"/>
                </a:lnTo>
                <a:lnTo>
                  <a:pt x="42700" y="20200"/>
                </a:lnTo>
                <a:lnTo>
                  <a:pt x="42700" y="1400"/>
                </a:lnTo>
                <a:close/>
              </a:path>
              <a:path fill="darkenLess" w="44100" h="21600">
                <a:moveTo>
                  <a:pt x="441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00" y="20200"/>
                </a:lnTo>
                <a:close/>
              </a:path>
              <a:path fill="lighten" w="441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24360" y="3645000"/>
            <a:ext cx="1727280" cy="1008000"/>
          </a:xfrm>
          <a:custGeom>
            <a:avLst/>
            <a:gdLst>
              <a:gd name="textAreaLeft" fmla="*/ 65160 w 1727280"/>
              <a:gd name="textAreaRight" fmla="*/ 1662120 w 1727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08" h="21600">
                <a:moveTo>
                  <a:pt x="0" y="0"/>
                </a:moveTo>
                <a:lnTo>
                  <a:pt x="37008" y="0"/>
                </a:lnTo>
                <a:lnTo>
                  <a:pt x="37008" y="21600"/>
                </a:lnTo>
                <a:lnTo>
                  <a:pt x="0" y="21600"/>
                </a:lnTo>
                <a:close/>
              </a:path>
              <a:path fill="lightenLess" w="37008" h="21600">
                <a:moveTo>
                  <a:pt x="0" y="0"/>
                </a:moveTo>
                <a:lnTo>
                  <a:pt x="37008" y="0"/>
                </a:lnTo>
                <a:lnTo>
                  <a:pt x="35608" y="1400"/>
                </a:lnTo>
                <a:lnTo>
                  <a:pt x="1400" y="1400"/>
                </a:lnTo>
                <a:close/>
              </a:path>
              <a:path fill="darken" w="37008" h="21600">
                <a:moveTo>
                  <a:pt x="37008" y="0"/>
                </a:moveTo>
                <a:lnTo>
                  <a:pt x="37008" y="21600"/>
                </a:lnTo>
                <a:lnTo>
                  <a:pt x="35608" y="20200"/>
                </a:lnTo>
                <a:lnTo>
                  <a:pt x="35608" y="1400"/>
                </a:lnTo>
                <a:close/>
              </a:path>
              <a:path fill="darkenLess" w="37008" h="21600">
                <a:moveTo>
                  <a:pt x="3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08" y="20200"/>
                </a:lnTo>
                <a:close/>
              </a:path>
              <a:path fill="lighten" w="3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651640" y="3645000"/>
            <a:ext cx="1726920" cy="1008000"/>
          </a:xfrm>
          <a:custGeom>
            <a:avLst/>
            <a:gdLst>
              <a:gd name="textAreaLeft" fmla="*/ 65160 w 1726920"/>
              <a:gd name="textAreaRight" fmla="*/ 1661760 w 17269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00" h="21600">
                <a:moveTo>
                  <a:pt x="0" y="0"/>
                </a:moveTo>
                <a:lnTo>
                  <a:pt x="37000" y="0"/>
                </a:lnTo>
                <a:lnTo>
                  <a:pt x="37000" y="21600"/>
                </a:lnTo>
                <a:lnTo>
                  <a:pt x="0" y="21600"/>
                </a:lnTo>
                <a:close/>
              </a:path>
              <a:path fill="lightenLess" w="37000" h="21600">
                <a:moveTo>
                  <a:pt x="0" y="0"/>
                </a:moveTo>
                <a:lnTo>
                  <a:pt x="37000" y="0"/>
                </a:lnTo>
                <a:lnTo>
                  <a:pt x="35600" y="1400"/>
                </a:lnTo>
                <a:lnTo>
                  <a:pt x="1400" y="1400"/>
                </a:lnTo>
                <a:close/>
              </a:path>
              <a:path fill="darken" w="37000" h="21600">
                <a:moveTo>
                  <a:pt x="37000" y="0"/>
                </a:moveTo>
                <a:lnTo>
                  <a:pt x="37000" y="21600"/>
                </a:lnTo>
                <a:lnTo>
                  <a:pt x="35600" y="20200"/>
                </a:lnTo>
                <a:lnTo>
                  <a:pt x="35600" y="1400"/>
                </a:lnTo>
                <a:close/>
              </a:path>
              <a:path fill="darkenLess" w="37000" h="21600">
                <a:moveTo>
                  <a:pt x="3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00" y="20200"/>
                </a:lnTo>
                <a:close/>
              </a:path>
              <a:path fill="lighten" w="3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380360" y="3645000"/>
            <a:ext cx="1763640" cy="1008000"/>
          </a:xfrm>
          <a:custGeom>
            <a:avLst/>
            <a:gdLst>
              <a:gd name="textAreaLeft" fmla="*/ 65160 w 1763640"/>
              <a:gd name="textAreaRight" fmla="*/ 1698480 w 176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787" h="21600">
                <a:moveTo>
                  <a:pt x="0" y="0"/>
                </a:moveTo>
                <a:lnTo>
                  <a:pt x="37787" y="0"/>
                </a:lnTo>
                <a:lnTo>
                  <a:pt x="37787" y="21600"/>
                </a:lnTo>
                <a:lnTo>
                  <a:pt x="0" y="21600"/>
                </a:lnTo>
                <a:close/>
              </a:path>
              <a:path fill="lightenLess" w="37787" h="21600">
                <a:moveTo>
                  <a:pt x="0" y="0"/>
                </a:moveTo>
                <a:lnTo>
                  <a:pt x="37787" y="0"/>
                </a:lnTo>
                <a:lnTo>
                  <a:pt x="36387" y="1400"/>
                </a:lnTo>
                <a:lnTo>
                  <a:pt x="1400" y="1400"/>
                </a:lnTo>
                <a:close/>
              </a:path>
              <a:path fill="darken" w="37787" h="21600">
                <a:moveTo>
                  <a:pt x="37787" y="0"/>
                </a:moveTo>
                <a:lnTo>
                  <a:pt x="37787" y="21600"/>
                </a:lnTo>
                <a:lnTo>
                  <a:pt x="36387" y="20200"/>
                </a:lnTo>
                <a:lnTo>
                  <a:pt x="36387" y="1400"/>
                </a:lnTo>
                <a:close/>
              </a:path>
              <a:path fill="darkenLess" w="37787" h="21600">
                <a:moveTo>
                  <a:pt x="37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7" y="20200"/>
                </a:lnTo>
                <a:close/>
              </a:path>
              <a:path fill="lighten" w="37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4653000"/>
            <a:ext cx="3924360" cy="1224000"/>
          </a:xfrm>
          <a:custGeom>
            <a:avLst/>
            <a:gdLst>
              <a:gd name="textAreaLeft" fmla="*/ 79200 w 3924360"/>
              <a:gd name="textAreaRight" fmla="*/ 3845160 w 3924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69239" h="21600">
                <a:moveTo>
                  <a:pt x="0" y="0"/>
                </a:moveTo>
                <a:lnTo>
                  <a:pt x="69239" y="0"/>
                </a:lnTo>
                <a:lnTo>
                  <a:pt x="69239" y="21600"/>
                </a:lnTo>
                <a:lnTo>
                  <a:pt x="0" y="21600"/>
                </a:lnTo>
                <a:close/>
              </a:path>
              <a:path fill="lightenLess" w="69239" h="21600">
                <a:moveTo>
                  <a:pt x="0" y="0"/>
                </a:moveTo>
                <a:lnTo>
                  <a:pt x="69239" y="0"/>
                </a:lnTo>
                <a:lnTo>
                  <a:pt x="67839" y="1400"/>
                </a:lnTo>
                <a:lnTo>
                  <a:pt x="1400" y="1400"/>
                </a:lnTo>
                <a:close/>
              </a:path>
              <a:path fill="darken" w="69239" h="21600">
                <a:moveTo>
                  <a:pt x="69239" y="0"/>
                </a:moveTo>
                <a:lnTo>
                  <a:pt x="69239" y="21600"/>
                </a:lnTo>
                <a:lnTo>
                  <a:pt x="67839" y="20200"/>
                </a:lnTo>
                <a:lnTo>
                  <a:pt x="67839" y="1400"/>
                </a:lnTo>
                <a:close/>
              </a:path>
              <a:path fill="darkenLess" w="69239" h="21600">
                <a:moveTo>
                  <a:pt x="6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39" y="20200"/>
                </a:lnTo>
                <a:close/>
              </a:path>
              <a:path fill="lighten" w="6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Устойчивое развитие муниципального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ования Зырянский район Томской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ласти на 2014-2017 годы и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период до 2020 года»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5877000"/>
            <a:ext cx="3924360" cy="504720"/>
          </a:xfrm>
          <a:custGeom>
            <a:avLst/>
            <a:gdLst>
              <a:gd name="textAreaLeft" fmla="*/ 32400 w 3924360"/>
              <a:gd name="textAreaRight" fmla="*/ 3891960 w 3924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67843" h="21600">
                <a:moveTo>
                  <a:pt x="0" y="0"/>
                </a:moveTo>
                <a:lnTo>
                  <a:pt x="167843" y="0"/>
                </a:lnTo>
                <a:lnTo>
                  <a:pt x="167843" y="21600"/>
                </a:lnTo>
                <a:lnTo>
                  <a:pt x="0" y="21600"/>
                </a:lnTo>
                <a:close/>
              </a:path>
              <a:path fill="lightenLess" w="167843" h="21600">
                <a:moveTo>
                  <a:pt x="0" y="0"/>
                </a:moveTo>
                <a:lnTo>
                  <a:pt x="167843" y="0"/>
                </a:lnTo>
                <a:lnTo>
                  <a:pt x="166443" y="1400"/>
                </a:lnTo>
                <a:lnTo>
                  <a:pt x="1400" y="1400"/>
                </a:lnTo>
                <a:close/>
              </a:path>
              <a:path fill="darken" w="167843" h="21600">
                <a:moveTo>
                  <a:pt x="167843" y="0"/>
                </a:moveTo>
                <a:lnTo>
                  <a:pt x="167843" y="21600"/>
                </a:lnTo>
                <a:lnTo>
                  <a:pt x="166443" y="20200"/>
                </a:lnTo>
                <a:lnTo>
                  <a:pt x="166443" y="1400"/>
                </a:lnTo>
                <a:close/>
              </a:path>
              <a:path fill="darkenLess" w="167843" h="21600">
                <a:moveTo>
                  <a:pt x="167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443" y="20200"/>
                </a:lnTo>
                <a:close/>
              </a:path>
              <a:path fill="lighten" w="167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924360" y="5877000"/>
            <a:ext cx="1727280" cy="50472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3883" h="21600">
                <a:moveTo>
                  <a:pt x="0" y="0"/>
                </a:moveTo>
                <a:lnTo>
                  <a:pt x="73883" y="0"/>
                </a:lnTo>
                <a:lnTo>
                  <a:pt x="73883" y="21600"/>
                </a:lnTo>
                <a:lnTo>
                  <a:pt x="0" y="21600"/>
                </a:lnTo>
                <a:close/>
              </a:path>
              <a:path fill="lightenLess" w="73883" h="21600">
                <a:moveTo>
                  <a:pt x="0" y="0"/>
                </a:moveTo>
                <a:lnTo>
                  <a:pt x="73883" y="0"/>
                </a:lnTo>
                <a:lnTo>
                  <a:pt x="72483" y="1400"/>
                </a:lnTo>
                <a:lnTo>
                  <a:pt x="1400" y="1400"/>
                </a:lnTo>
                <a:close/>
              </a:path>
              <a:path fill="darken" w="73883" h="21600">
                <a:moveTo>
                  <a:pt x="73883" y="0"/>
                </a:moveTo>
                <a:lnTo>
                  <a:pt x="73883" y="21600"/>
                </a:lnTo>
                <a:lnTo>
                  <a:pt x="72483" y="20200"/>
                </a:lnTo>
                <a:lnTo>
                  <a:pt x="72483" y="1400"/>
                </a:lnTo>
                <a:close/>
              </a:path>
              <a:path fill="darkenLess" w="73883" h="21600">
                <a:moveTo>
                  <a:pt x="73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83" y="20200"/>
                </a:lnTo>
                <a:close/>
              </a:path>
              <a:path fill="lighten" w="73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04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651640" y="5877000"/>
            <a:ext cx="1726920" cy="504720"/>
          </a:xfrm>
          <a:custGeom>
            <a:avLst/>
            <a:gdLst>
              <a:gd name="textAreaLeft" fmla="*/ 32400 w 1726920"/>
              <a:gd name="textAreaRight" fmla="*/ 1694520 w 1726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3868" h="21600">
                <a:moveTo>
                  <a:pt x="0" y="0"/>
                </a:moveTo>
                <a:lnTo>
                  <a:pt x="73868" y="0"/>
                </a:lnTo>
                <a:lnTo>
                  <a:pt x="73868" y="21600"/>
                </a:lnTo>
                <a:lnTo>
                  <a:pt x="0" y="21600"/>
                </a:lnTo>
                <a:close/>
              </a:path>
              <a:path fill="lightenLess" w="73868" h="21600">
                <a:moveTo>
                  <a:pt x="0" y="0"/>
                </a:moveTo>
                <a:lnTo>
                  <a:pt x="73868" y="0"/>
                </a:lnTo>
                <a:lnTo>
                  <a:pt x="72468" y="1400"/>
                </a:lnTo>
                <a:lnTo>
                  <a:pt x="1400" y="1400"/>
                </a:lnTo>
                <a:close/>
              </a:path>
              <a:path fill="darken" w="73868" h="21600">
                <a:moveTo>
                  <a:pt x="73868" y="0"/>
                </a:moveTo>
                <a:lnTo>
                  <a:pt x="73868" y="21600"/>
                </a:lnTo>
                <a:lnTo>
                  <a:pt x="72468" y="20200"/>
                </a:lnTo>
                <a:lnTo>
                  <a:pt x="72468" y="1400"/>
                </a:lnTo>
                <a:close/>
              </a:path>
              <a:path fill="darkenLess" w="73868" h="21600">
                <a:moveTo>
                  <a:pt x="73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68" y="20200"/>
                </a:lnTo>
                <a:close/>
              </a:path>
              <a:path fill="lighten" w="73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380360" y="5877000"/>
            <a:ext cx="1763640" cy="504720"/>
          </a:xfrm>
          <a:custGeom>
            <a:avLst/>
            <a:gdLst>
              <a:gd name="textAreaLeft" fmla="*/ 32400 w 1763640"/>
              <a:gd name="textAreaRight" fmla="*/ 1731240 w 17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5438" h="21600">
                <a:moveTo>
                  <a:pt x="0" y="0"/>
                </a:moveTo>
                <a:lnTo>
                  <a:pt x="75438" y="0"/>
                </a:lnTo>
                <a:lnTo>
                  <a:pt x="75438" y="21600"/>
                </a:lnTo>
                <a:lnTo>
                  <a:pt x="0" y="21600"/>
                </a:lnTo>
                <a:close/>
              </a:path>
              <a:path fill="lightenLess" w="75438" h="21600">
                <a:moveTo>
                  <a:pt x="0" y="0"/>
                </a:moveTo>
                <a:lnTo>
                  <a:pt x="75438" y="0"/>
                </a:lnTo>
                <a:lnTo>
                  <a:pt x="74038" y="1400"/>
                </a:lnTo>
                <a:lnTo>
                  <a:pt x="1400" y="1400"/>
                </a:lnTo>
                <a:close/>
              </a:path>
              <a:path fill="darken" w="75438" h="21600">
                <a:moveTo>
                  <a:pt x="75438" y="0"/>
                </a:moveTo>
                <a:lnTo>
                  <a:pt x="75438" y="21600"/>
                </a:lnTo>
                <a:lnTo>
                  <a:pt x="74038" y="20200"/>
                </a:lnTo>
                <a:lnTo>
                  <a:pt x="74038" y="1400"/>
                </a:lnTo>
                <a:close/>
              </a:path>
              <a:path fill="darkenLess" w="75438" h="21600">
                <a:moveTo>
                  <a:pt x="7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8" y="20200"/>
                </a:lnTo>
                <a:close/>
              </a:path>
              <a:path fill="lighten" w="7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24360" y="4653000"/>
            <a:ext cx="1727280" cy="1224000"/>
          </a:xfrm>
          <a:custGeom>
            <a:avLst/>
            <a:gdLst>
              <a:gd name="textAreaLeft" fmla="*/ 79200 w 1727280"/>
              <a:gd name="textAreaRight" fmla="*/ 1648080 w 1727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0479" h="21600">
                <a:moveTo>
                  <a:pt x="0" y="0"/>
                </a:moveTo>
                <a:lnTo>
                  <a:pt x="30479" y="0"/>
                </a:lnTo>
                <a:lnTo>
                  <a:pt x="30479" y="21600"/>
                </a:lnTo>
                <a:lnTo>
                  <a:pt x="0" y="21600"/>
                </a:lnTo>
                <a:close/>
              </a:path>
              <a:path fill="lightenLess" w="30479" h="21600">
                <a:moveTo>
                  <a:pt x="0" y="0"/>
                </a:moveTo>
                <a:lnTo>
                  <a:pt x="30479" y="0"/>
                </a:lnTo>
                <a:lnTo>
                  <a:pt x="29079" y="1400"/>
                </a:lnTo>
                <a:lnTo>
                  <a:pt x="1400" y="1400"/>
                </a:lnTo>
                <a:close/>
              </a:path>
              <a:path fill="darken" w="30479" h="21600">
                <a:moveTo>
                  <a:pt x="30479" y="0"/>
                </a:moveTo>
                <a:lnTo>
                  <a:pt x="30479" y="21600"/>
                </a:lnTo>
                <a:lnTo>
                  <a:pt x="29079" y="20200"/>
                </a:lnTo>
                <a:lnTo>
                  <a:pt x="29079" y="1400"/>
                </a:lnTo>
                <a:close/>
              </a:path>
              <a:path fill="darkenLess" w="30479" h="21600">
                <a:moveTo>
                  <a:pt x="30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79" y="20200"/>
                </a:lnTo>
                <a:close/>
              </a:path>
              <a:path fill="lighten" w="30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51640" y="4653000"/>
            <a:ext cx="1726920" cy="1224000"/>
          </a:xfrm>
          <a:custGeom>
            <a:avLst/>
            <a:gdLst>
              <a:gd name="textAreaLeft" fmla="*/ 79200 w 1726920"/>
              <a:gd name="textAreaRight" fmla="*/ 1647720 w 17269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0472" h="21600">
                <a:moveTo>
                  <a:pt x="0" y="0"/>
                </a:moveTo>
                <a:lnTo>
                  <a:pt x="30472" y="0"/>
                </a:lnTo>
                <a:lnTo>
                  <a:pt x="30472" y="21600"/>
                </a:lnTo>
                <a:lnTo>
                  <a:pt x="0" y="21600"/>
                </a:lnTo>
                <a:close/>
              </a:path>
              <a:path fill="lightenLess" w="30472" h="21600">
                <a:moveTo>
                  <a:pt x="0" y="0"/>
                </a:moveTo>
                <a:lnTo>
                  <a:pt x="30472" y="0"/>
                </a:lnTo>
                <a:lnTo>
                  <a:pt x="29073" y="1400"/>
                </a:lnTo>
                <a:lnTo>
                  <a:pt x="1400" y="1400"/>
                </a:lnTo>
                <a:close/>
              </a:path>
              <a:path fill="darken" w="30472" h="21600">
                <a:moveTo>
                  <a:pt x="30472" y="0"/>
                </a:moveTo>
                <a:lnTo>
                  <a:pt x="30472" y="21600"/>
                </a:lnTo>
                <a:lnTo>
                  <a:pt x="29073" y="20200"/>
                </a:lnTo>
                <a:lnTo>
                  <a:pt x="29073" y="1400"/>
                </a:lnTo>
                <a:close/>
              </a:path>
              <a:path fill="darkenLess" w="30472" h="21600">
                <a:moveTo>
                  <a:pt x="30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73" y="20200"/>
                </a:lnTo>
                <a:close/>
              </a:path>
              <a:path fill="lighten" w="30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380360" y="4653000"/>
            <a:ext cx="1763640" cy="1224000"/>
          </a:xfrm>
          <a:custGeom>
            <a:avLst/>
            <a:gdLst>
              <a:gd name="textAreaLeft" fmla="*/ 79200 w 1763640"/>
              <a:gd name="textAreaRight" fmla="*/ 1684440 w 176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1120" h="21600">
                <a:moveTo>
                  <a:pt x="0" y="0"/>
                </a:moveTo>
                <a:lnTo>
                  <a:pt x="31120" y="0"/>
                </a:lnTo>
                <a:lnTo>
                  <a:pt x="31120" y="21600"/>
                </a:lnTo>
                <a:lnTo>
                  <a:pt x="0" y="21600"/>
                </a:lnTo>
                <a:close/>
              </a:path>
              <a:path fill="lightenLess" w="31120" h="21600">
                <a:moveTo>
                  <a:pt x="0" y="0"/>
                </a:moveTo>
                <a:lnTo>
                  <a:pt x="31120" y="0"/>
                </a:lnTo>
                <a:lnTo>
                  <a:pt x="29720" y="1400"/>
                </a:lnTo>
                <a:lnTo>
                  <a:pt x="1400" y="1400"/>
                </a:lnTo>
                <a:close/>
              </a:path>
              <a:path fill="darken" w="31120" h="21600">
                <a:moveTo>
                  <a:pt x="31120" y="0"/>
                </a:moveTo>
                <a:lnTo>
                  <a:pt x="31120" y="21600"/>
                </a:lnTo>
                <a:lnTo>
                  <a:pt x="29720" y="20200"/>
                </a:lnTo>
                <a:lnTo>
                  <a:pt x="29720" y="1400"/>
                </a:lnTo>
                <a:close/>
              </a:path>
              <a:path fill="darkenLess" w="31120" h="21600">
                <a:moveTo>
                  <a:pt x="31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20" y="20200"/>
                </a:lnTo>
                <a:close/>
              </a:path>
              <a:path fill="lighten" w="31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грамм муниципального образования на 2017 - 2019 го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83664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Муниципальные программы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924360" y="8366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51640" y="83664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380360" y="83664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 2019 год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219640" y="0"/>
            <a:ext cx="3924360" cy="2133720"/>
          </a:xfrm>
          <a:prstGeom prst="wedgeRoundRectCallout">
            <a:avLst>
              <a:gd name="adj1" fmla="val -58412"/>
              <a:gd name="adj2" fmla="val 48212"/>
              <a:gd name="adj3" fmla="val 16667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Спасибо за внимание !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72000" y="3716280"/>
            <a:ext cx="3672000" cy="3141720"/>
          </a:xfrm>
          <a:prstGeom prst="flowChartAlternateProcess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лено: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униципальным казённы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реждением «Управление финансов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дминистрации Зырянского района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636850, Томская область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ырянский район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лица Советская, дом 1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л. 22-760; 22-685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мещено на сайте: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ziradm@tomsk.gov.r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раздел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униципальные финансы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ФИЦИТ И ПРОФИЦИ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052640"/>
            <a:ext cx="3097080" cy="936360"/>
          </a:xfrm>
          <a:prstGeom prst="flowChartMultidocumen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ФИЦИ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052640"/>
            <a:ext cx="3097080" cy="936360"/>
          </a:xfrm>
          <a:prstGeom prst="flowChartMultidocument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ЦИ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133720"/>
            <a:ext cx="3384360" cy="1224000"/>
          </a:xfrm>
          <a:prstGeom prst="flowChartMagneticTape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копленны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зерв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573360"/>
            <a:ext cx="3384360" cy="1224000"/>
          </a:xfrm>
          <a:prstGeom prst="flowChartMagneticTape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униципальны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ол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4941720"/>
            <a:ext cx="3384360" cy="1727280"/>
          </a:xfrm>
          <a:prstGeom prst="flowChartMultidocumen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и дефицитно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бюджете растет долг 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или) снижаются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статки средств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копл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3851280" y="2420640"/>
            <a:ext cx="720720" cy="863640"/>
          </a:xfrm>
          <a:prstGeom prst="up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3860640"/>
            <a:ext cx="720720" cy="863640"/>
          </a:xfrm>
          <a:prstGeom prst="up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205000"/>
            <a:ext cx="3384360" cy="1224000"/>
          </a:xfrm>
          <a:prstGeom prst="flowChartMagneticTape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копленны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зерв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3645000"/>
            <a:ext cx="3384360" cy="1224000"/>
          </a:xfrm>
          <a:prstGeom prst="flowChartMagneticTape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униципальны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ол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4941720"/>
            <a:ext cx="3384360" cy="1727280"/>
          </a:xfrm>
          <a:prstGeom prst="flowChartMultidocumen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 профицитно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юджете снижается долг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(или) растут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статки средств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копл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2349360"/>
            <a:ext cx="720720" cy="863640"/>
          </a:xfrm>
          <a:prstGeom prst="up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8317080" y="3860280"/>
            <a:ext cx="720720" cy="863640"/>
          </a:xfrm>
          <a:prstGeom prst="up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189000"/>
            <a:ext cx="273708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Бюджетные ассигнова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ельные объемы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нежных средств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усмотренных в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ответствующе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овом году для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полнения бюджетных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язательств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2708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Бюджетные обязательств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ходные обязательства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лежащие исполнению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соответствующе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овом году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115920"/>
            <a:ext cx="3168360" cy="3960720"/>
          </a:xfrm>
          <a:custGeom>
            <a:avLst/>
            <a:gdLst>
              <a:gd name="textAreaLeft" fmla="*/ 154440 w 3168360"/>
              <a:gd name="textAreaRight" fmla="*/ 3013920 w 3168360"/>
              <a:gd name="textAreaTop" fmla="*/ 154440 h 3960720"/>
              <a:gd name="textAreaBottom" fmla="*/ 3806280 h 3960720"/>
            </a:gdLst>
            <a:ahLst/>
            <a:rect l="textAreaLeft" t="textAreaTop" r="textAreaRight" b="textAreaBottom"/>
            <a:pathLst>
              <a:path w="21600" h="27001">
                <a:moveTo>
                  <a:pt x="3600" y="0"/>
                </a:moveTo>
                <a:arcTo wR="3600" hR="3600" stAng="16200000" swAng="-5400000"/>
                <a:lnTo>
                  <a:pt x="0" y="23401"/>
                </a:lnTo>
                <a:arcTo wR="3600" hR="3600" stAng="10800000" swAng="-5400000"/>
                <a:lnTo>
                  <a:pt x="18000" y="270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сходные обязательств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условленные законом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ым нормативным правовы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том, договором ил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глашением обязанност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ублично-правового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разования или действующего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 его имени казенного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реждения предоставить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зическому ил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юридическому лицу, иному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ублично-правовому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разованию, субъекту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ждународного прав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редства из соответствующего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00" y="4365720"/>
            <a:ext cx="3024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Межбюджетные отнош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заимоотношения между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ублично-правовым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разованиями по вопроса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гулирования бюджетных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воотношений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изации и осуществления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ного процесс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437000"/>
            <a:ext cx="2592360" cy="10796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овый перио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ва финансовых года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едующие за очередны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овым годом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3213000"/>
            <a:ext cx="2592360" cy="1152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чередной финансовы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год, следующи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текущи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нансовым годом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115920"/>
            <a:ext cx="2592360" cy="302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024000"/>
              <a:gd name="textAreaBottom" fmla="*/ 2897640 h 302400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кущий финансовы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год, в которо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уществляется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нение бюджета,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ление 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ние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та бюджета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чередно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нансовый год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очередной финансовы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д и плановый период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558972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тчетный финансовый го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д, предшествующий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кущему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овому году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4221000"/>
            <a:ext cx="2808360" cy="2521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Лимит бюджетных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бязательст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объе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в в денежном выражени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принятие казенны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реждением бюджетных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язательств и (или)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х исполнение в текуще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овом году (текущем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овом году и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овом периоде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rot="7388400">
            <a:off x="1763280" y="981000"/>
            <a:ext cx="503280" cy="71280"/>
          </a:xfrm>
          <a:custGeom>
            <a:avLst/>
            <a:gdLst>
              <a:gd name="textAreaLeft" fmla="*/ 62640 w 503280"/>
              <a:gd name="textAreaRight" fmla="*/ 440640 w 503280"/>
              <a:gd name="textAreaTop" fmla="*/ 17640 h 71280"/>
              <a:gd name="textAreaBottom" fmla="*/ 53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052000">
            <a:off x="4244040" y="1299240"/>
            <a:ext cx="863640" cy="77760"/>
          </a:xfrm>
          <a:custGeom>
            <a:avLst/>
            <a:gdLst>
              <a:gd name="textAreaLeft" fmla="*/ 108000 w 863640"/>
              <a:gd name="textAreaRight" fmla="*/ 756000 w 863640"/>
              <a:gd name="textAreaTop" fmla="*/ 19440 h 77760"/>
              <a:gd name="textAreaBottom" fmla="*/ 58320 h 77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3634200">
            <a:off x="6802200" y="1368360"/>
            <a:ext cx="1152720" cy="6984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8994600">
            <a:off x="2550600" y="3096720"/>
            <a:ext cx="1006560" cy="69840"/>
          </a:xfrm>
          <a:custGeom>
            <a:avLst/>
            <a:gdLst>
              <a:gd name="textAreaLeft" fmla="*/ 125640 w 1006560"/>
              <a:gd name="textAreaRight" fmla="*/ 880920 w 100656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7078200">
            <a:off x="3078720" y="4273920"/>
            <a:ext cx="1330200" cy="71640"/>
          </a:xfrm>
          <a:custGeom>
            <a:avLst/>
            <a:gdLst>
              <a:gd name="textAreaLeft" fmla="*/ 166320 w 1330200"/>
              <a:gd name="textAreaRight" fmla="*/ 1164240 w 133020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3828000">
            <a:off x="5095080" y="4128840"/>
            <a:ext cx="1330560" cy="73080"/>
          </a:xfrm>
          <a:custGeom>
            <a:avLst/>
            <a:gdLst>
              <a:gd name="textAreaLeft" fmla="*/ 166320 w 1330560"/>
              <a:gd name="textAreaRight" fmla="*/ 1164240 w 133056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6280"/>
            <a:ext cx="1043280" cy="104292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АКИЕ БЫВАЮТ БЮДЖЕТЫ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1268280"/>
            <a:ext cx="2016000" cy="1656000"/>
          </a:xfrm>
          <a:prstGeom prst="flowChartPunchedTape">
            <a:avLst/>
          </a:prstGeom>
          <a:gradFill rotWithShape="0">
            <a:gsLst>
              <a:gs pos="0">
                <a:srgbClr val="cc3300"/>
              </a:gs>
              <a:gs pos="50000">
                <a:srgbClr val="5e17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рганиза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068640"/>
            <a:ext cx="2016000" cy="1727280"/>
          </a:xfrm>
          <a:prstGeom prst="flowChartPunchedTape">
            <a:avLst/>
          </a:prstGeom>
          <a:gradFill rotWithShape="0">
            <a:gsLst>
              <a:gs pos="0">
                <a:srgbClr val="3366cc"/>
              </a:gs>
              <a:gs pos="50000">
                <a:srgbClr val="172f5e"/>
              </a:gs>
              <a:gs pos="100000">
                <a:srgbClr val="33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оссийской</a:t>
            </a:r>
            <a:r>
              <a:rPr b="1" i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4869000"/>
            <a:ext cx="2089080" cy="1800000"/>
          </a:xfrm>
          <a:prstGeom prst="flowChartPunchedTape">
            <a:avLst/>
          </a:prstGeom>
          <a:gradFill rotWithShape="0">
            <a:gsLst>
              <a:gs pos="0">
                <a:srgbClr val="993366"/>
              </a:gs>
              <a:gs pos="50000">
                <a:srgbClr val="46172f"/>
              </a:gs>
              <a:gs pos="100000">
                <a:srgbClr val="99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убъекто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6000" y="4941720"/>
            <a:ext cx="2376360" cy="151308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Муниципальн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разовани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2133720"/>
            <a:ext cx="1800000" cy="1512720"/>
          </a:xfrm>
          <a:prstGeom prst="flowChartPunchedTape">
            <a:avLst/>
          </a:prstGeom>
          <a:gradFill rotWithShape="0">
            <a:gsLst>
              <a:gs pos="0">
                <a:srgbClr val="ff5050"/>
              </a:gs>
              <a:gs pos="50000">
                <a:srgbClr val="752424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емь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1413000"/>
            <a:ext cx="2446200" cy="2303280"/>
          </a:xfrm>
          <a:prstGeom prst="flowChartPunchedTape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ублично 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авовых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разовани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907920"/>
          </a:xfrm>
          <a:prstGeom prst="bevel">
            <a:avLst>
              <a:gd name="adj" fmla="val 12500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АЯ СИСТЕ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совокупность бюджетов разных уровней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981000"/>
            <a:ext cx="8642160" cy="576360"/>
          </a:xfrm>
          <a:prstGeom prst="bevel">
            <a:avLst>
              <a:gd name="adj" fmla="val 125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0614"/>
                </a:solidFill>
                <a:latin typeface="Times New Roman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162864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666900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80360" y="6452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62864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5734080"/>
            <a:ext cx="88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19640" y="5515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1628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378936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357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278136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564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ый уровень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5805360"/>
            <a:ext cx="5400720" cy="792360"/>
          </a:xfrm>
          <a:prstGeom prst="flowChartDocumen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юджеты городских и сельских поселений,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юджеты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утригородских районов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3860640"/>
            <a:ext cx="7056360" cy="1800360"/>
          </a:xfrm>
          <a:prstGeom prst="flowChartDocumen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юджеты муниципальных районов, бюджеты городски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кругов, бюджеты городских округов с внутригородским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лением, бюджеты внутригородских муниципальны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зований городов федерального значения Москвы,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нкт-Петербурга и Севастопол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852640"/>
            <a:ext cx="2881080" cy="792360"/>
          </a:xfrm>
          <a:prstGeom prst="flowChartDocumen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юджеты субъекто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4000" y="2852640"/>
            <a:ext cx="5472000" cy="792360"/>
          </a:xfrm>
          <a:prstGeom prst="flowChartDocumen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юджеты государственных территориальных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ебюджетных фондов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1628640"/>
            <a:ext cx="2881440" cy="792360"/>
          </a:xfrm>
          <a:prstGeom prst="flowChartDocumen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едеральный бюдже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1628640"/>
            <a:ext cx="3889440" cy="1079640"/>
          </a:xfrm>
          <a:prstGeom prst="flowChartDocumen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юджеты государственных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ебюджетных фондо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1332000" y="115920"/>
            <a:ext cx="6480000" cy="865080"/>
          </a:xfrm>
          <a:prstGeom prst="flowChartAlternate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ЮДЖЕТНАЯ СИСТЕМ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ЫРЯНСКОГО РАЙО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7674000">
            <a:off x="1554120" y="1900800"/>
            <a:ext cx="1785960" cy="73080"/>
          </a:xfrm>
          <a:custGeom>
            <a:avLst/>
            <a:gdLst>
              <a:gd name="textAreaLeft" fmla="*/ 223200 w 1785960"/>
              <a:gd name="textAreaRight" fmla="*/ 1562760 w 178596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13914000">
            <a:off x="5633640" y="1431720"/>
            <a:ext cx="971640" cy="69840"/>
          </a:xfrm>
          <a:custGeom>
            <a:avLst/>
            <a:gdLst>
              <a:gd name="textAreaLeft" fmla="*/ 121320 w 971640"/>
              <a:gd name="textAreaRight" fmla="*/ 850320 w 97164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296600" y="1761120"/>
            <a:ext cx="550800" cy="8496000"/>
          </a:xfrm>
          <a:custGeom>
            <a:avLst/>
            <a:gdLst>
              <a:gd name="textAreaLeft" fmla="*/ 0 w 550800"/>
              <a:gd name="textAreaRight" fmla="*/ 198720 w 550800"/>
              <a:gd name="textAreaTop" fmla="*/ 221400 h 8496000"/>
              <a:gd name="textAreaBottom" fmla="*/ 8274600 h 84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000" y="6381720"/>
            <a:ext cx="8928000" cy="358920"/>
          </a:xfrm>
          <a:prstGeom prst="flowChartAlternate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НСОЛИДИРОВАННЫЙ БЮДЖЕТ ЗЫРЯНСКОГО РАЙОН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3280" y="3573360"/>
            <a:ext cx="720720" cy="72072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3132000" y="1988640"/>
            <a:ext cx="5400720" cy="6494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3" y="0"/>
                </a:lnTo>
                <a:lnTo>
                  <a:pt x="21600" y="10800"/>
                </a:lnTo>
                <a:lnTo>
                  <a:pt x="20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Высоковское сельское поселение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2781360"/>
            <a:ext cx="2521080" cy="23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303280"/>
              <a:gd name="textAreaBottom" fmla="*/ 23036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8" y="0"/>
                </a:lnTo>
                <a:lnTo>
                  <a:pt x="21600" y="10800"/>
                </a:lnTo>
                <a:lnTo>
                  <a:pt x="184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юджет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муниципальног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образовани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ырянский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район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районный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юджет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0800000">
            <a:off x="3348000" y="2780640"/>
            <a:ext cx="5400720" cy="64908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3" y="0"/>
                </a:lnTo>
                <a:lnTo>
                  <a:pt x="21600" y="10800"/>
                </a:lnTo>
                <a:lnTo>
                  <a:pt x="20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Дубровское сельское поселение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0800000">
            <a:off x="3635280" y="3573360"/>
            <a:ext cx="5400720" cy="6494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3" y="0"/>
                </a:lnTo>
                <a:lnTo>
                  <a:pt x="21600" y="10800"/>
                </a:lnTo>
                <a:lnTo>
                  <a:pt x="20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«Зырянское сельское поселение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3348000" y="4365360"/>
            <a:ext cx="5400720" cy="64908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3" y="0"/>
                </a:lnTo>
                <a:lnTo>
                  <a:pt x="21600" y="10800"/>
                </a:lnTo>
                <a:lnTo>
                  <a:pt x="20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«Михайловское сельское поселение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00000">
            <a:off x="3132000" y="5157720"/>
            <a:ext cx="5400720" cy="6494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3" y="0"/>
                </a:lnTo>
                <a:lnTo>
                  <a:pt x="21600" y="10800"/>
                </a:lnTo>
                <a:lnTo>
                  <a:pt x="20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Чердатское сельское поселение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8:43:04Z</dcterms:created>
  <dc:creator>Admin</dc:creator>
  <dc:description/>
  <dc:language>en-US</dc:language>
  <cp:lastModifiedBy>Admin</cp:lastModifiedBy>
  <dcterms:modified xsi:type="dcterms:W3CDTF">2017-04-05T10:23:57Z</dcterms:modified>
  <cp:revision>1751</cp:revision>
  <dc:subject/>
  <dc:title>МЕЖБЮДЖЕТНЫЕ ОТНОШЕНИЯ «МУНИЦИПАЛЬНЫЙ РАЙОН – ПОСЕЛЕНИЯ» В СИСТЕМЕ БЮДЖЕТНОГО ПЛАНИРОВАНИЯ </dc:title>
</cp:coreProperties>
</file>